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5A1C-6A1D-438C-B1E4-31DE57BC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7FF8-E27E-4017-BF90-ABA2ECFC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1B0B-601C-42A0-BF60-48DFE85B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329A-5639-4977-841C-0AF87627C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5BB5-7F5D-4DB8-BC8F-7687565D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4D42-3454-403A-928A-BCE818FF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92A5-EA35-40DA-9958-E857BB01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8FF2-4B23-44FA-98F6-089B8C7D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A34D-2933-48CF-A696-3356BCBD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BD8A-B9CB-411F-A505-4488A048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F82C-3B96-4849-B266-4915858C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B37E-D640-43C8-8869-8B3AFDB9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A6D9-9F20-41D5-B9C9-562712D3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F6F8-3B7B-4E42-A7CF-79FF36F7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3993-7B71-47D8-B8B6-9CED9A68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C1F6-9307-4BF5-80D7-E4B66674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DD04-C25D-4E46-8B09-69A4006F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EDD-8982-42D6-BAF2-B55255E8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AE9F-BAE0-4AEB-BD54-1D4B7C7A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6D9A-EF5D-4013-9098-BE0EB12C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21B-5E58-4294-B88C-AC11B210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3BED-BB53-4751-A27A-663E246D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52B4-09DE-4939-83A7-0FAEFF2D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1B7B-5706-4C24-80C2-03BB1F9A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3BEE-C67A-40AF-8D34-DF8B5FAD0B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BD0A-32EB-4A96-A831-F8E6E0C2C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olímero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iedades de inter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piedades Mecánic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rtamiento bajo tensión o esfuerz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Es resistente? ¿Cuánto se puede estirar antes de romper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n rígido es? ¿Cuánto se puede flectar o dobl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Es frágil? ¿Se rompe si se golpea con fuerz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Es duro o blan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Vuelve a su forma original después de estirarlo repetidamen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46040" y="476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fuerzo: fuerza por unidad de á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esfuerzo tiene unidades de pre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ormación: cambio en la longitud de la muest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1756080" cy="2436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940360" y="3716280"/>
            <a:ext cx="2473560" cy="2737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419640" y="2482920"/>
                <a:ext cx="30970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formación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5567400" cy="3043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76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va esfuerzo - deform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19280" y="2057400"/>
            <a:ext cx="54007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Arial Black"/>
              </a:rPr>
              <a:t>Módulo de Youn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mbién llamado módulo de elastic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diente inicial de la curva tensión/ deform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iales rígidos tienen alto módulo de Young (fibra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astómeros tienen valores baj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851280" y="4094280"/>
            <a:ext cx="453708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4360" y="404640"/>
            <a:ext cx="784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nac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bajo la curva tensión-deformac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una medida de la energía absorbida por el polímero, antes de rompe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19280" y="2924280"/>
            <a:ext cx="482436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906720" cy="4103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4360" y="54936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ómo se hace la medició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1701720"/>
            <a:ext cx="39589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pone una probeta de dimensiones conocidas entre dos mordazas, una fija y la otra móv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estira la muestra, se mide la fuerza ejercida por el instrumento y la longitud de la prob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16000" y="1654200"/>
            <a:ext cx="6962760" cy="1774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3935520"/>
            <a:ext cx="7777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OPLÁSTIC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 fuerzas entre moléculas son débiles. El material se ablanda cuando se calienta, se puede moldear, y luego enfriar, repetida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333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ificación de los polím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RMORRIG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oman forma definitiva cuando se enfrí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on polímeros tridimensionales, con cierto grado de entrecruzamiento. Este restringe el movimiento de las cadenas, y rigidiza el mate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03640" y="3860640"/>
            <a:ext cx="34038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ASTOM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pueden estirar, y vuelven a su longitud inicial cuando se retira la fuerz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 polímeros con bajo entrecruz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Debe estar sobre su temperatura de transición vítre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 “elásticos” son elastóme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64000" y="4221000"/>
            <a:ext cx="273528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3144960" cy="4471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16000" y="33336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MERO: tiene zonas cristalinas y amorf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170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ONA CRISTA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31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ONA AMOR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8880" y="3573360"/>
            <a:ext cx="469584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gión amorfa puede estar en estado vítreo (rígido) o elastomérico (como goma). Depende de la tempera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a de transición vítrea (Tg): aquella en que ocurre la transición entre “orden” y “desorden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32000" y="1916280"/>
            <a:ext cx="144000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3357720"/>
            <a:ext cx="143964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916360" y="3500280"/>
            <a:ext cx="1655640" cy="13687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5280" y="40140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jo Tg: moléculas inmóvil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ólido rí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bre Tg: Sólido amorfo desordenado con porciones de moléculas que se pueden mo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2637000"/>
            <a:ext cx="6480360" cy="40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límero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s-E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ethylene (LDPE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12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propylene (atactic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2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(vinyl acetate) (PVAc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(ethyleneterephthalate) (PET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(vinyl alcohol) (PV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8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(vinyl chloride) (PVC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8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propylene (isotactic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styrene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(methylmethacrylate) (atactic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piedades Térmic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mperatura de fusión (Tm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mperatura de transición vítrea (T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piedades Mecánic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2171880"/>
            <a:ext cx="800748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 Ud.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ir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istencia a la tra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prim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istencia a la compre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bla o flect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istencia a la flex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uerc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istencia tor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Golpea violentamente con un mart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istencia al impa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374920"/>
            <a:ext cx="9144000" cy="360"/>
          </a:xfrm>
          <a:prstGeom prst="rect">
            <a:avLst/>
          </a:prstGeom>
          <a:solidFill>
            <a:srgbClr val="f5f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23:23:32Z</dcterms:created>
  <dc:creator>teresa.velilla</dc:creator>
  <dc:description/>
  <dc:language>en-US</dc:language>
  <cp:lastModifiedBy>Sala</cp:lastModifiedBy>
  <dcterms:modified xsi:type="dcterms:W3CDTF">2008-04-29T17:52:58Z</dcterms:modified>
  <cp:revision>13</cp:revision>
  <dc:subject/>
  <dc:title>Diapositiva 1</dc:title>
</cp:coreProperties>
</file>