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567-BA32-488B-A585-EE99CB16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304-EEF6-4277-B583-161E0D44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CAB-1536-4163-9543-55A301CD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0A9-0783-4E50-ACF1-255F42D6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27C2-15A6-4156-BB52-44D55D1A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8251-05C7-4E05-ADB6-C1DAC7A5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05D2-F986-40A3-87D5-8CDBB8BD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6ACE-75D4-4707-9F3D-2AA4109B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8560-02A3-4E79-8FA6-25D29E7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C329-0FB8-445C-88BE-21B9D76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DC84-CA9F-4FC3-A7CE-97A00BF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9D1-6D05-44CC-9DA7-54642FBF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84BF-2AC0-45F2-8B2F-0098E2A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3B60-6031-4AA0-BB8B-AF29E35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9351-CDA1-40C7-B174-6C5A404F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3925-DC44-40E0-8761-7239B58F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712B-8BAB-4681-9036-32E7AD3B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F3A-49E7-418F-85E4-960C814C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117-3719-4E21-A481-2E7A2D7F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E12-CF16-4AA9-B647-3388D525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F8B-F926-451F-87BF-5165B378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CEA-062E-4496-842D-32BD881F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549-C0A5-4626-BCFC-FAFB715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7A5-F93B-4D09-8D0F-30EF9CA8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B711-B82B-41E5-BF45-7C5FF946B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332A-0106-4F98-83D6-BF7FB4F73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olímero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iedade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rtamiento bajo tensión o esfuer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resistente? ¿Cuánto se puede estirar antes de romper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uán rígido es? ¿Cuánto se puede flectar o dobl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frágil? ¿Se rompe si se golpea con fuerz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s duro o blan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Vuelve a su forma original después de estirarlo repetidam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46040" y="476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fuerzo: fuerza por unidad de á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esfuerzo tiene unidades de 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ormación: cambio en la longitud de la mues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1756080" cy="2436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3716280"/>
            <a:ext cx="2473560" cy="273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19640" y="2482920"/>
                <a:ext cx="3097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ormación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567400" cy="304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76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va esfuerzo - de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19280" y="2057400"/>
            <a:ext cx="54007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Módulo de You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mbién llamad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ente inicial de la curva tensión/ de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es rígidos tienen alto módulo de Young (fibr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ómeros tienen valores ba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51280" y="4094280"/>
            <a:ext cx="4537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404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a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bajo la curva tensión-de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a medida de la energía absorbida por el polímero, antes de romp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4824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906720" cy="410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360" y="549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se hace la medi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701720"/>
            <a:ext cx="39589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one una probeta de dimensiones conocidas entre dos mordazas, una fija y la otra mó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estira la muestra, se mide la fuerza ejercida por el instrumento y la longitud de la prob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654200"/>
            <a:ext cx="6962760" cy="177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3935520"/>
            <a:ext cx="777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OPLÁS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fuerzas entre moléculas son débiles. El material se ablanda cuando se calienta, se puede moldear, y luego enfriar, repetid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ificación de los polím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RMORRIG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man forma definitiva cuando se enfrí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n polímeros tridimensionales, con cierto grado de entrecruzamiento. Este restringe el movimiento de las cadenas, y rigidiza el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4038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OM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n estirar, y vuelven a su longitud inicial cuando se retira la fuer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olímeros con bajo entrecruz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ebe estar sobre su temperatura de transición vítre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 “elásticos” son elastóm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4221000"/>
            <a:ext cx="27352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144960" cy="4471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33336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MERO: tiene zonas cristalinas y amorf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CRISTA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31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ONA AMOR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8880" y="3573360"/>
            <a:ext cx="46958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gión amorfa puede estar en estado vítreo (rígido) o elastomérico (como goma). Depende de la tempera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vítrea (Tg): aquella en que ocurre la transición entre “orden” y “desorden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32000" y="1916280"/>
            <a:ext cx="1440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357720"/>
            <a:ext cx="1439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916360" y="3500280"/>
            <a:ext cx="1655640" cy="13687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4014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jo Tg: moléculas inmóvi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ólido rí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bre Tg: Sólido amorfo desordenado con porciones de moléculas que se pueden mo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637000"/>
            <a:ext cx="648036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límer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s-E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ethylene (LDPE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1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cetate) (PVA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ethyleneterephthalate) (PET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alcohol) (PV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vinyl chloride) (PV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8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propylene (iso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styren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y(methylmethacrylate) (atactic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Térm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fusión (Tm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peratura de transición vítrea (T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piedades Mecánic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2171880"/>
            <a:ext cx="800748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Ud.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i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rim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bla o flect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 la 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er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tor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olpea violentamente con un mart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istencia al imp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374920"/>
            <a:ext cx="9144000" cy="360"/>
          </a:xfrm>
          <a:prstGeom prst="rect">
            <a:avLst/>
          </a:prstGeom>
          <a:solidFill>
            <a:srgbClr val="f5f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3:23:32Z</dcterms:created>
  <dc:creator>teresa.velilla</dc:creator>
  <dc:description/>
  <dc:language>en-US</dc:language>
  <cp:lastModifiedBy>Sala</cp:lastModifiedBy>
  <dcterms:modified xsi:type="dcterms:W3CDTF">2008-04-29T17:52:58Z</dcterms:modified>
  <cp:revision>13</cp:revision>
  <dc:subject/>
  <dc:title>Diapositiva 1</dc:title>
</cp:coreProperties>
</file>