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4523-362F-4D4A-BE06-CB910B30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0531-413F-46B7-9719-7CAAEDD3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0A7-8555-40F7-BDD4-1DA0B875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F570-C0C3-43D5-BA9F-BD7CC769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9689-1FC5-4AAE-B57C-B4130032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FD8C-5C37-4A1A-BBB4-857C29D8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F8E4-3C71-4607-BC35-BCAD8BFE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84AB-4893-4C68-83C5-5BAE8665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B5DC-7E32-4D8E-A59C-2609EC44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DC27-5DAA-4944-BF32-A64D894A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10B4-1119-477A-98F2-E28C7745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D73-E4D7-4905-99AA-98C65CD6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D0B6-51C7-4490-AAE9-597DF09B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35BB-5562-475F-B7F5-B7363C6B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607E-D272-45D9-8CE7-C665F3BD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8AFA-3DA3-4590-827B-F65BD8B2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0C47-C3F7-4F51-8964-C21E0C66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0A18-AC55-4B9E-B5BB-803CEBE7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268-7C58-4EC1-9591-0D5E8013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0F27-DD45-4CA2-81FA-C2C428EE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3DA7-629D-4560-B53A-5CDB710E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D5F4-8A51-4190-A170-0834E71A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3B4C-D50A-4E72-B20F-CAE7F702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0BD0-1C97-4BB0-AE52-29AF75DB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2181-3CC4-47AB-A3BA-C29DA9FCC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1584-3F22-419C-9F68-62E6E544EE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olímero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iedades de inter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piedades Mecánic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rtamiento bajo tensión o esfuerz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Es resistente? ¿Cuánto se puede estirar antes de romper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n rígido es? ¿Cuánto se puede flectar o dobl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Es frágil? ¿Se rompe si se golpea con fuerz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Es duro o blan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Vuelve a su forma original después de estirarlo repetidamen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46040" y="476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fuerzo: fuerza por unidad de á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esfuerzo tiene unidades de pre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ormación: cambio en la longitud de la muest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1756080" cy="2436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940360" y="3716280"/>
            <a:ext cx="2473560" cy="2737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419640" y="2482920"/>
                <a:ext cx="30970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formación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5567400" cy="3043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76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va esfuerzo - deform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19280" y="2057400"/>
            <a:ext cx="54007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Módulo de Youn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mbién llamado módulo de elastic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diente inicial de la curva tensión/ defor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es rígidos tienen alto módulo de Young (fibra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astómeros tienen valores baj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51280" y="4094280"/>
            <a:ext cx="453708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4360" y="404640"/>
            <a:ext cx="784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nac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bajo la curva tensión-deformac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una medida de la energía absorbida por el polímero, antes de romp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19280" y="2924280"/>
            <a:ext cx="482436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906720" cy="410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4360" y="54936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ómo se hace la medició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701720"/>
            <a:ext cx="39589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pone una probeta de dimensiones conocidas entre dos mordazas, una fija y la otra móv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estira la muestra, se mide la fuerza ejercida por el instrumento y la longitud de la prob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16000" y="1654200"/>
            <a:ext cx="6962760" cy="1774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3935520"/>
            <a:ext cx="7777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OPLÁSTIC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 fuerzas entre moléculas son débiles. El material se ablanda cuando se calienta, se puede moldear, y luego enfriar, repetida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333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ificación de los polím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RMORRIG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oman forma definitiva cuando se enfrí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on polímeros tridimensionales, con cierto grado de entrecruzamiento. Este restringe el movimiento de las cadenas, y rigidiza el mate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03640" y="3860640"/>
            <a:ext cx="34038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ASTOM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pueden estirar, y vuelven a su longitud inicial cuando se retira la fuerz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 polímeros con bajo entrecruz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Debe estar sobre su temperatura de transición vítre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 “elásticos” son elastóme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64000" y="4221000"/>
            <a:ext cx="27352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3144960" cy="4471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16000" y="33336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MERO: tiene zonas cristalinas y amorf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170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ONA CRISTA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31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ONA AMOR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8880" y="3573360"/>
            <a:ext cx="469584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gión amorfa puede estar en estado vítreo (rígido) o elastomérico (como goma). Depende de la tempera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a de transición vítrea (Tg): aquella en que ocurre la transición entre “orden” y “desorden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32000" y="1916280"/>
            <a:ext cx="144000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3357720"/>
            <a:ext cx="143964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916360" y="3500280"/>
            <a:ext cx="1655640" cy="13687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5280" y="40140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jo Tg: moléculas inmóvil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ólido rí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bre Tg: Sólido amorfo desordenado con porciones de moléculas que se pueden mo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2637000"/>
            <a:ext cx="6480360" cy="40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límer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s-E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ethylene (LDPE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12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propylene (atacti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2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vinyl acetate) (PVA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ethyleneterephthalate) (PET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vinyl alcohol) (PV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8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vinyl chloride) (PV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8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propylene (isotacti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styrene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methylmethacrylate) (atacti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piedades Térmic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mperatura de fusión (Tm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mperatura de transición vítrea (T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piedades Mecánic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2171880"/>
            <a:ext cx="800748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Ud.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ir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a la tra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prim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a la compre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bla o flect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a la flex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uerc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tor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Golpea violentamente con un mart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al impa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374920"/>
            <a:ext cx="9144000" cy="360"/>
          </a:xfrm>
          <a:prstGeom prst="rect">
            <a:avLst/>
          </a:prstGeom>
          <a:solidFill>
            <a:srgbClr val="f5f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23:23:32Z</dcterms:created>
  <dc:creator>teresa.velilla</dc:creator>
  <dc:description/>
  <dc:language>en-US</dc:language>
  <cp:lastModifiedBy>Sala</cp:lastModifiedBy>
  <dcterms:modified xsi:type="dcterms:W3CDTF">2008-04-29T17:52:58Z</dcterms:modified>
  <cp:revision>13</cp:revision>
  <dc:subject/>
  <dc:title>Diapositiva 1</dc:title>
</cp:coreProperties>
</file>