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8D0D-ECFF-4D5A-BE7B-CCD18842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5046-4FA6-438D-8AA5-F188F369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138B-73EB-4510-B046-6464134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E9CA-D1CA-47CE-ABA4-83FF0F49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A40F-A3EF-4FE4-981B-754ECD7A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6E7-06E4-4065-90A9-0E536FE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1E8E-1BA2-48F0-9205-1FB558FD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E723-DFD2-40F6-84F7-FB09D03D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758E-789B-401B-A5F3-3E1D693E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8F23-6184-4FE0-9CC9-6065F3F3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67B1-8E84-4945-8D7E-DD57DDA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14DB-F66A-4DAC-8DBA-1D59E9BD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85D1-CFE8-4154-9761-BD4B96F8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9EA7-96F9-4982-BB21-CD818666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FD8D-1DF4-41DC-AFE1-22C9FE1F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51A2-A719-4E21-A301-BA122A94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087D-EC1E-46F3-9AAC-4ACACC77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F409-6941-4C85-93F2-0DE888F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2BEC-191C-44A0-9E3A-B695BF9F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3537-2249-4F86-9DA3-017D8ABB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A4CC-6A66-4454-A1DD-932C76F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71AA-8273-41C2-A2C0-CFE569F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6D96-8CB1-475E-9FDB-1ED8E272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AA93-27F6-44EC-9206-F65B37A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5AE-D5A1-45C5-BD6D-525D5A92D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ED8B-476E-483E-85EB-CB5B87B0A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slc.ws/spanish/index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OLIM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619280" y="620640"/>
          <a:ext cx="5129280" cy="40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620640"/>
                    <a:ext cx="51292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724360" y="486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uretano (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s de los polí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3186000"/>
            <a:ext cx="4619880" cy="552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95280" y="184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as: cadenas lineales de polímero, una al lado de otra, a lo largo de un 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860640"/>
            <a:ext cx="8280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é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acrilonitr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40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ómeros: pueden ser estirados gran longitud, luego recuperan su forma sin deformación perma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71640" y="1268280"/>
          <a:ext cx="681840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68184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5400720" cy="177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348000" y="2708280"/>
            <a:ext cx="1728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422100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bu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422100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isobu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360" y="4724280"/>
            <a:ext cx="5904000" cy="1359000"/>
            <a:chOff x="1692360" y="4724280"/>
            <a:chExt cx="5904000" cy="135900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1692360" y="4724280"/>
              <a:ext cx="590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564000" y="4797360"/>
              <a:ext cx="12240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7964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p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6093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isopreno (cauc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74760" y="5601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meros inorgánicos (no contienen átomos de carbono en la cadena princip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s: elastómeros, aceites, ad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2919240"/>
            <a:ext cx="78678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o de polimeriz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º de unidades que se repiten en la ca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o molecular = grado de polimerización X peso molecular de la unidad repet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meyer, F. W. “Ciencia de los polímeros”. 2ª edición, Reverté, Barcelona , 197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meyer, F. W. “Textbook of polymer science”. 2ª edición, Wiley-Interscience, New York, 19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, R. J. y Lovell, P. A.  “Introduction to polymers”. 2ª edición, Chapman &amp; Hall, Londres, 19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mos Carpio, M. A. “Ingeniería de los materiales plásticos”. Ediciones Díaz de Santos, Madrid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rquera, P. “Ciencia de los polímeros : apuntes curso ID58A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slc.ws/spanish/index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ágina de polímeros de Facultad de Ciencias Químicas, Universidad Nacional de Córdoba, Córdoba, Argen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3213000"/>
            <a:ext cx="5761080" cy="1249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476280"/>
            <a:ext cx="828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écula grande, constituida por la repetición de pequeñas unidades química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etición puede ser lineal o ramif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024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460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unidad repetitiva es equivalente (o casi) al monómero (molécula de partida para la formación del polí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598840"/>
          <a:ext cx="324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598840"/>
                    <a:ext cx="324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8360" y="1773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mer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 repetit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140360" y="2525760"/>
          <a:ext cx="18097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525760"/>
                    <a:ext cx="1809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948360" y="2492280"/>
          <a:ext cx="115092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2492280"/>
                    <a:ext cx="1150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58920" y="3102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etileno (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1021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4920" y="3860640"/>
            <a:ext cx="5905440" cy="200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932360" y="5805360"/>
            <a:ext cx="1655640" cy="88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7380360" y="4869000"/>
          <a:ext cx="107928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0360" y="4869000"/>
                    <a:ext cx="10792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237440" y="6165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ileno (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5040360" cy="239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7672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5184720" cy="1684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5300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ruro de vin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5300640"/>
            <a:ext cx="28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cloruro de vinilo (P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547640" y="907920"/>
          <a:ext cx="511344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907920"/>
                    <a:ext cx="51134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1600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trafluor 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20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tetrafloretileno (PTFE – Tefl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187880" cy="1274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5997600" cy="216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458136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crilato de m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8720" y="4581360"/>
            <a:ext cx="30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 Metacrilato de metilo (PM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708280"/>
            <a:ext cx="19447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3080" y="8301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carbonato 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4596120" cy="198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112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etilentereftalato (P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3456000"/>
          <a:ext cx="70959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456000"/>
                    <a:ext cx="70959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485928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5661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ET proviene de dos monómeros diferentes, es un Copolí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22860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2286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979640" y="3284640"/>
            <a:ext cx="4103640" cy="210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4643280" y="620640"/>
          <a:ext cx="2881440" cy="98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620640"/>
                    <a:ext cx="2881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708360" y="119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1989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rilonitr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il acri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6021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“acríl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9:26:06Z</dcterms:created>
  <dc:creator>Quimica</dc:creator>
  <dc:description/>
  <dc:language>en-US</dc:language>
  <cp:lastModifiedBy>Quimica</cp:lastModifiedBy>
  <dcterms:modified xsi:type="dcterms:W3CDTF">2008-03-25T20:51:16Z</dcterms:modified>
  <cp:revision>14</cp:revision>
  <dc:subject/>
  <dc:title>POLIMEROS</dc:title>
</cp:coreProperties>
</file>