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8CF76-8DC1-4350-A47B-9CBD8A03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277D-95F8-4C41-B378-5689F78A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87A95-A5DD-481D-A252-6C37DD2C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FB45D-EE9B-4A46-A68E-233024FE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D706-ED8F-4F03-A4F4-203A4C96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E484-5822-46EF-911C-1C1EFF1C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913C-A5EE-41E0-8F14-3E765643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F003-A723-4A54-83AB-485E3661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5F78-4134-48AD-8976-16648534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167B-5AA3-4E15-A72C-4175827F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59B8-CA19-417A-9AA0-47B1E2A0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67837-BE5D-43CD-91C6-ED422A9D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7CEC-A8A1-4DBE-B553-45E13FC7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4A4F-1121-4C44-A221-CD3CD55E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EAD7-F121-48B4-B298-1C1941BA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CFE8-ABEB-4782-A6A4-86F691F2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F45B-4585-45A5-8092-02631448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6F6DB-6D12-4548-B0B4-5C2F3EE5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0C05F-B311-408B-B38B-D389B304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600F7-3505-4729-8E7E-E0B754D1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8516-C697-47EA-8857-9411DEED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6C96B-E674-43D0-BCE2-EEBDE238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C9B95-66FE-4129-9D55-7CD25FD9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FE592-C7ED-4957-879D-A32D40BE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0B29-889A-40AD-AB08-A5F586C11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F114-BCA1-4ECC-95EE-0F705A2A54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slc.ws/spanish/index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POLIMER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619280" y="620640"/>
          <a:ext cx="5129280" cy="40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620640"/>
                    <a:ext cx="512928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5724360" y="4869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uretano (P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os de los polím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68360" y="3186000"/>
            <a:ext cx="4619880" cy="552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95280" y="184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ras: cadenas lineales de polímero, una al lado de otra, a lo largo de un e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3860640"/>
            <a:ext cx="8280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y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é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acrilonitr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95280" y="40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ómeros: pueden ser estirados gran longitud, luego recuperan su forma sin deformación perma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71640" y="1268280"/>
          <a:ext cx="681840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68184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692360" y="2708280"/>
            <a:ext cx="5400720" cy="177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348000" y="2708280"/>
            <a:ext cx="17287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422100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obu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80000" y="422100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isobu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92360" y="4724280"/>
            <a:ext cx="5904000" cy="1359000"/>
            <a:chOff x="1692360" y="4724280"/>
            <a:chExt cx="5904000" cy="135900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1692360" y="4724280"/>
              <a:ext cx="5904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564000" y="4797360"/>
              <a:ext cx="122400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979640" y="61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op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60930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isopreno (cauc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74760" y="5601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meros inorgánicos (no contienen átomos de carbono en la cadena princip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s: elastómeros, aceites, ad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6920" y="2919240"/>
            <a:ext cx="78678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o de polimeriz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º de unidades que se repiten en la cad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o molecular = grado de polimerización X peso molecular de la unidad repet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llmeyer, F. W. “Ciencia de los polímeros”. 2ª edición, Reverté, Barcelona , 197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llmeyer, F. W. “Textbook of polymer science”. 2ª edición, Wiley-Interscience, New York, 196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oung, R. J. y Lovell, P. A.  “Introduction to polymers”. 2ª edición, Chapman &amp; Hall, Londres, 199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mos Carpio, M. A. “Ingeniería de los materiales plásticos”. Ediciones Díaz de Santos, Madrid, 19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orquera, P. “Ciencia de los polímeros : apuntes curso ID58A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pslc.ws/spanish/index.ht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Página de polímeros de Facultad de Ciencias Químicas, Universidad Nacional de Córdoba, Córdoba, Argent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3213000"/>
            <a:ext cx="5761080" cy="1249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9640" y="476280"/>
            <a:ext cx="828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í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écula grande, constituida por la repetición de pequeñas unidades químicas si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petición puede ser lineal o ramifi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60246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460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unidad repetitiva es equivalente (o casi) al monómero (molécula de partida para la formación del polím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2598840"/>
          <a:ext cx="32400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598840"/>
                    <a:ext cx="3240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8360" y="1773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mer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 repetiti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ó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140360" y="2525760"/>
          <a:ext cx="180972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2525760"/>
                    <a:ext cx="18097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948360" y="2492280"/>
          <a:ext cx="115092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48360" y="2492280"/>
                    <a:ext cx="11509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258920" y="31021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etileno (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31021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34920" y="3860640"/>
            <a:ext cx="5905440" cy="2006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4932360" y="5805360"/>
            <a:ext cx="1655640" cy="88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7380360" y="4869000"/>
          <a:ext cx="1079280" cy="95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80360" y="4869000"/>
                    <a:ext cx="107928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7237440" y="616572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ileno (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5040360" cy="2398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076720" y="29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58920" y="3933720"/>
            <a:ext cx="5184720" cy="1684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00000" y="530064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ruro de vin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5300640"/>
            <a:ext cx="288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cloruro de vinilo (PV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547640" y="907920"/>
          <a:ext cx="511344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907920"/>
                    <a:ext cx="511344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16000" y="2276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trafluor e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20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tetrafloretileno (PTFE – Tefl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4187880" cy="1274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5997600" cy="2160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00000" y="4581360"/>
            <a:ext cx="251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crilato de me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8720" y="4581360"/>
            <a:ext cx="302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 Metacrilato de metilo (PM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2708280"/>
            <a:ext cx="19447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93080" y="8301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carbonato (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4596120" cy="1984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12000" y="1125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etilentereftalato (P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1280" y="3456000"/>
          <a:ext cx="7095960" cy="16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3456000"/>
                    <a:ext cx="709596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 flipV="1">
            <a:off x="4859280" y="2924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5661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ET proviene de dos monómeros diferentes, es un Copolí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971640" y="620640"/>
          <a:ext cx="228600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20640"/>
                    <a:ext cx="22860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979640" y="3284640"/>
            <a:ext cx="4103640" cy="210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4643280" y="620640"/>
          <a:ext cx="2881440" cy="98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620640"/>
                    <a:ext cx="288144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3708360" y="119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19890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2000" y="184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rilonitr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184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il acri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602136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“acríli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9:26:06Z</dcterms:created>
  <dc:creator>Quimica</dc:creator>
  <dc:description/>
  <dc:language>en-US</dc:language>
  <cp:lastModifiedBy>Quimica</cp:lastModifiedBy>
  <dcterms:modified xsi:type="dcterms:W3CDTF">2008-03-25T20:51:16Z</dcterms:modified>
  <cp:revision>14</cp:revision>
  <dc:subject/>
  <dc:title>POLIMEROS</dc:title>
</cp:coreProperties>
</file>