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AB0-E2E1-46DA-B1BE-6A8302C6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7610-DB7E-4238-90B7-3359649A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699-515C-4BEA-B97C-B9E88FAD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8BE-1F49-4C52-8182-A8715797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BD9-945B-49BE-B5BB-1EAAE256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BE3-36AC-4B37-BCBF-9761CE27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1A57-0ABE-4D90-9239-B99C00A4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29AB-B0BF-43DF-94C2-E6C27CF1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EDB-6C79-483B-9C09-70A5C2A1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C00-7098-46B1-9287-23AF2122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E28C-0A5F-4008-8151-AA53BE4E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CBA-50E3-4023-86B1-93085FB9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F63B-3C4A-46AF-AB32-995D2C3480F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Cambio de carrera a 05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r a escuela.ing.uchile.c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3661" t="6836" r="12110" b="25782"/>
          <a:stretch/>
        </p:blipFill>
        <p:spPr>
          <a:xfrm>
            <a:off x="428760" y="1571760"/>
            <a:ext cx="82152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Vaya a SERVICIOS y seleccione “CAMBIO DE CARRERA”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5 Grupo"/>
          <p:cNvGrpSpPr/>
          <p:nvPr/>
        </p:nvGrpSpPr>
        <p:grpSpPr>
          <a:xfrm>
            <a:off x="857160" y="1714680"/>
            <a:ext cx="6929640" cy="4786200"/>
            <a:chOff x="857160" y="1714680"/>
            <a:chExt cx="6929640" cy="4786200"/>
          </a:xfrm>
        </p:grpSpPr>
        <p:pic>
          <p:nvPicPr>
            <p:cNvPr id="47" name="Picture 2" descr=""/>
            <p:cNvPicPr/>
            <p:nvPr/>
          </p:nvPicPr>
          <p:blipFill>
            <a:blip r:embed="rId1"/>
            <a:srcRect l="10988" t="18553" r="20898" b="16019"/>
            <a:stretch/>
          </p:blipFill>
          <p:spPr>
            <a:xfrm>
              <a:off x="1142640" y="1714680"/>
              <a:ext cx="66441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4 Elipse"/>
            <p:cNvSpPr/>
            <p:nvPr/>
          </p:nvSpPr>
          <p:spPr>
            <a:xfrm>
              <a:off x="857160" y="4143600"/>
              <a:ext cx="2928960" cy="164304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ngresar con usuario y clave escuel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0" t="18553" r="20168" b="15039"/>
          <a:stretch/>
        </p:blipFill>
        <p:spPr>
          <a:xfrm>
            <a:off x="642960" y="1571760"/>
            <a:ext cx="77868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coger WORKFLOW y en solicitud, escoger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052 INGENIERIA CIVIL DE MI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476360"/>
            <a:ext cx="9096480" cy="4952880"/>
          </a:xfrm>
          <a:prstGeom prst="rect">
            <a:avLst/>
          </a:prstGeom>
          <a:ln w="0">
            <a:noFill/>
          </a:ln>
        </p:spPr>
      </p:pic>
      <p:sp>
        <p:nvSpPr>
          <p:cNvPr id="53" name="6 Elipse"/>
          <p:cNvSpPr/>
          <p:nvPr/>
        </p:nvSpPr>
        <p:spPr>
          <a:xfrm>
            <a:off x="4286160" y="5143680"/>
            <a:ext cx="3929040" cy="7855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7 Elipse"/>
          <p:cNvSpPr/>
          <p:nvPr/>
        </p:nvSpPr>
        <p:spPr>
          <a:xfrm>
            <a:off x="0" y="2571840"/>
            <a:ext cx="1500120" cy="2858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LAN DE ESTUD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19046" t="21486" r="17237" b="14065"/>
          <a:stretch/>
        </p:blipFill>
        <p:spPr>
          <a:xfrm>
            <a:off x="1571760" y="1500120"/>
            <a:ext cx="62150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alla de la LICENCI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19776" t="22461" r="17237" b="14065"/>
          <a:stretch/>
        </p:blipFill>
        <p:spPr>
          <a:xfrm>
            <a:off x="714240" y="1120680"/>
            <a:ext cx="75726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ERFIL DEL EGRES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l egresado de Ingeniería Civil de Minas de la Universidad de Chile debe tene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ormación sólida en ciencias básicas (matemática, física y químic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ormación sólida en ciencias de la ingeniería, en cursos básicos de ingeniería y en cursos 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specialidad en áreas propias de la industria minera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: evaluación de yacimientos, geomecánica, tecnología minera, procesamiento de minerales y metalurgia extractiv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onocimientos en áreas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de gestión y economía minera, cultura y protección al medio amb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apacidad de: liderazgo, comunicación efectiva, trabajo grupal y multidisciplinario, adaptación al cambio, aprendizaje autodirigido, integrar conocimientos, analizar y abstraer, innovar y crear, diseñar sistemas o componentes, aplicar conocimientos científicos, evaluar proyectos y conducir experimen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ctitudes y valores como: perseverancia, responsabilidad, honradez, solidaridad, respeto y tolerancia a las personas, cumplimiento de normas éticas, respeto al medio amb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5T03:24:40Z</dcterms:created>
  <dc:creator>Freddy Rojas</dc:creator>
  <dc:description/>
  <dc:language>en-US</dc:language>
  <cp:lastModifiedBy>Freddy Rojas</cp:lastModifiedBy>
  <dcterms:modified xsi:type="dcterms:W3CDTF">2008-07-05T03:58:36Z</dcterms:modified>
  <cp:revision>6</cp:revision>
  <dc:subject/>
  <dc:title>Cambie su código de carrera a 052</dc:title>
</cp:coreProperties>
</file>