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F9638-4649-4A73-89BA-CA884077C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7D961-6BF5-44D7-8F12-32E65D8E3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2FD5A-60EF-4CE0-A26E-D610E7A71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4E31D-0631-4D60-B6D0-FE5035FAE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C3106-369C-448C-B783-1DC85CBDD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6408A-9332-4F37-A376-D3251FD03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37F67-972F-4522-909B-F70B099DD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657D0-7AF3-4B21-9B6B-D3D06B2CE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09E3C-63DC-4246-8923-9E4391B66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B6F1D-9800-44F4-9BF1-95AE1D1F0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AE4D-1716-4031-BB93-EED6B078C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77D5C-4FBD-4B96-83E1-E49D96404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ECD22-FE61-4718-AB11-7FA4074E6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7AE5F-4584-459A-B82E-065E2E09D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007C5-E419-4C3C-B51E-D5F2F0D41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97D2D-99EF-4D83-9210-A3C583672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4F089-60F6-402E-A8B2-823E0677F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A0A43E-C284-4EE3-AF8A-66797C2250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3D83B9-F045-40F1-8DE3-BAFE5DEC36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F99F8-58C4-4145-A0D8-2B8F22D88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77484-1093-4879-9692-F5A600031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713E8-1D73-499A-8B7C-F0E1DB3CD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C737B-17BF-41AE-B1AF-1C21014FD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5AC571-6994-4AFA-815F-7F5A79326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6FFA4-A550-49DF-9964-B794ADBA7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75A02E-36A0-4A1F-AFBB-38B356036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71EBD-2CF3-4BAB-BFAD-5AEC18336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E9908-00E4-4D4B-9E85-761E7A080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405072-ED57-418E-9B4E-06EE3CDF34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ACC379-970A-46AA-9B76-3B814978C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74F87-36C5-4641-B2FF-289245DAFC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181FE-3D35-4ED2-8DC3-3019ABE15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7A57D-E819-4F92-9675-EDE525ACF6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082CB-5E98-4490-A724-2952BD838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2E17B6-8BFE-4106-B351-5ECD6B4E5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871FD-066D-4197-A764-DCA8321E4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559E3-9695-45BA-931F-BAB6AA153A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7D5DC-C254-4DB3-8FAD-A60686511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BE04D-EC3A-49CF-A967-CC28D5D73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B7232-FE2D-4589-B2EC-39147E6BA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E884D1-8995-4E9E-9FF3-00AEC725D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F1F730-D076-4751-BBCF-E864A049AD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70D8B3-98A4-4355-B77D-24F2C04B66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7D2C4-0230-4CF4-8A38-E3DD323DA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94A0C-9C4C-42C9-B390-C29C1BD75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D04FA-AB86-4C1E-B68C-268EBCE1F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C29DD-AC89-4A1B-A0C4-A5A466A85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BFE34-38D8-41C2-BFC5-300DDAA80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C750-7740-4F15-B1EB-4DCA0144DACD}"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CD3E-96E3-4E37-A57A-6F70EE61BD6D}"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FADE-9AE2-4C0C-B695-E995216FB749}"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D7B4-9E8E-45D0-A8CB-6BDB2ED5599D}"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423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Taller de Proyect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estimar el área activa, deberán decidir una secuencia de extracción. Les recomiendo que sigan la siguiente, de acuerdo a una vista en planta:</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tendrían una secuencia lineal. (línea roja).</a:t>
            </a:r>
            <a:endParaRPr b="0" lang="en-US" sz="2600" spc="-1" strike="noStrike">
              <a:solidFill>
                <a:srgbClr val="000000"/>
              </a:solidFill>
              <a:latin typeface="Constantia"/>
            </a:endParaRPr>
          </a:p>
        </p:txBody>
      </p:sp>
      <p:pic>
        <p:nvPicPr>
          <p:cNvPr id="217" name="Picture 5" descr=""/>
          <p:cNvPicPr/>
          <p:nvPr/>
        </p:nvPicPr>
        <p:blipFill>
          <a:blip r:embed="rId1"/>
          <a:stretch/>
        </p:blipFill>
        <p:spPr>
          <a:xfrm>
            <a:off x="3286080" y="3286080"/>
            <a:ext cx="235584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área activa corresponde al área que ustedes tendrán extrayendo para un determinado año. Por ejemplo, suponiendo una velocidad de extracción de 0,5 t/m2/día, entonc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su productividad será de 4.015.000 tp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mo cada bloque tiene 1.350.000 ton, tendrán 3 bloques por año aproximadamente.</a:t>
            </a:r>
            <a:endParaRPr b="0" lang="en-US" sz="2600" spc="-1" strike="noStrike">
              <a:solidFill>
                <a:srgbClr val="000000"/>
              </a:solidFill>
              <a:latin typeface="Constantia"/>
            </a:endParaRPr>
          </a:p>
        </p:txBody>
      </p:sp>
      <p:pic>
        <p:nvPicPr>
          <p:cNvPr id="220" name="Picture 1" descr=""/>
          <p:cNvPicPr/>
          <p:nvPr/>
        </p:nvPicPr>
        <p:blipFill>
          <a:blip r:embed="rId1"/>
          <a:stretch/>
        </p:blipFill>
        <p:spPr>
          <a:xfrm>
            <a:off x="2786040" y="3643200"/>
            <a:ext cx="3265560" cy="11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uando el mineral va quebrando hacia arriba, es necesario mantener un ángulo, que se muestra en la siguiente figura:</a:t>
            </a:r>
            <a:endParaRPr b="0" lang="en-US" sz="2600" spc="-1" strike="noStrike">
              <a:solidFill>
                <a:srgbClr val="000000"/>
              </a:solidFill>
              <a:latin typeface="Constantia"/>
            </a:endParaRPr>
          </a:p>
        </p:txBody>
      </p:sp>
      <p:pic>
        <p:nvPicPr>
          <p:cNvPr id="223" name="Picture 2" descr=""/>
          <p:cNvPicPr/>
          <p:nvPr/>
        </p:nvPicPr>
        <p:blipFill>
          <a:blip r:embed="rId1"/>
          <a:stretch/>
        </p:blipFill>
        <p:spPr>
          <a:xfrm>
            <a:off x="2357280" y="3143160"/>
            <a:ext cx="4357800" cy="339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5" name=""/>
          <p:cNvSpPr txBox="1"/>
          <p:nvPr/>
        </p:nvSpPr>
        <p:spPr>
          <a:xfrm>
            <a:off x="457200" y="1934640"/>
            <a:ext cx="375768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considerando este ángulo como 45º, cada 2 bloques que ustedes extraigan, un bloque de la columna consecutiva será extraída.</a:t>
            </a:r>
            <a:endParaRPr b="0" lang="en-US" sz="2600" spc="-1" strike="noStrike">
              <a:solidFill>
                <a:srgbClr val="000000"/>
              </a:solidFill>
              <a:latin typeface="Constantia"/>
            </a:endParaRPr>
          </a:p>
        </p:txBody>
      </p:sp>
      <p:pic>
        <p:nvPicPr>
          <p:cNvPr id="226" name="Picture 5" descr=""/>
          <p:cNvPicPr/>
          <p:nvPr/>
        </p:nvPicPr>
        <p:blipFill>
          <a:blip r:embed="rId1"/>
          <a:stretch/>
        </p:blipFill>
        <p:spPr>
          <a:xfrm>
            <a:off x="4000680" y="2071800"/>
            <a:ext cx="4759200" cy="33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al tener la planificación del mineral para cada año, podrán obtener un programa de producción como sigue:</a:t>
            </a:r>
            <a:endParaRPr b="0" lang="en-US" sz="2600" spc="-1" strike="noStrike">
              <a:solidFill>
                <a:srgbClr val="000000"/>
              </a:solidFill>
              <a:latin typeface="Constantia"/>
            </a:endParaRPr>
          </a:p>
        </p:txBody>
      </p:sp>
      <p:pic>
        <p:nvPicPr>
          <p:cNvPr id="229" name="Picture 2" descr=""/>
          <p:cNvPicPr/>
          <p:nvPr/>
        </p:nvPicPr>
        <p:blipFill>
          <a:blip r:embed="rId1"/>
          <a:stretch/>
        </p:blipFill>
        <p:spPr>
          <a:xfrm>
            <a:off x="2214720" y="3357720"/>
            <a:ext cx="46958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Programa de Producción conjunto</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 los programas de producción realizados para el rajo y la subterránea, es posible obtener un plan conjunto como sigue:</a:t>
            </a:r>
            <a:endParaRPr b="0" lang="en-US" sz="2600" spc="-1" strike="noStrike">
              <a:solidFill>
                <a:srgbClr val="000000"/>
              </a:solidFill>
              <a:latin typeface="Constantia"/>
            </a:endParaRPr>
          </a:p>
        </p:txBody>
      </p:sp>
      <p:pic>
        <p:nvPicPr>
          <p:cNvPr id="232" name="Picture 3" descr=""/>
          <p:cNvPicPr/>
          <p:nvPr/>
        </p:nvPicPr>
        <p:blipFill>
          <a:blip r:embed="rId1"/>
          <a:stretch/>
        </p:blipFill>
        <p:spPr>
          <a:xfrm>
            <a:off x="1928880" y="3429000"/>
            <a:ext cx="4600440" cy="264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GAP</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proponer una propuesta para evitar o minimizar el GAP que se forma entre los programas de producción. Junto a esto, deberán decidir cuando comenzar la construcción del pique que conectará la superficie con la mina subterránea. La construcción del pique es a una t</a:t>
            </a:r>
            <a:r>
              <a:rPr b="0" lang="es-CL" sz="2600" spc="-1" strike="noStrike">
                <a:solidFill>
                  <a:srgbClr val="000000"/>
                </a:solidFill>
                <a:latin typeface="Constantia"/>
              </a:rPr>
              <a:t>asa de 1m/dí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realizar el flujo de caja, deberán suponer que la inversión corresponde a 12.000 US$/tpd de movimiento min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 siguiente diapositiva se muestra una vista general del flujo de caja, donde los campos VERDES deberán ustedes completar con sus da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campos plomos, NO deben ser modificad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pic>
        <p:nvPicPr>
          <p:cNvPr id="238" name="Picture 2" descr=""/>
          <p:cNvPicPr/>
          <p:nvPr/>
        </p:nvPicPr>
        <p:blipFill>
          <a:blip r:embed="rId1"/>
          <a:stretch/>
        </p:blipFill>
        <p:spPr>
          <a:xfrm>
            <a:off x="571680" y="2000160"/>
            <a:ext cx="791496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iene que la parte rajo corresponde de 0 a 250m de profundidad.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l archivo “Consideraciones proyecto, obtienen las leyes de las columnas y la profundidad de transición rajo-subterránea.</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n estimar que la razón estéril-mineral (REM) global de la mina que será extraída por rajo, pues cuando realicen la planificación año a año deberán mantener la REM o en su caso disminuirla, pero evitar aumentarla. (Ahí deberán explicar por que creen que no se debe aumentar la REM año a 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otro lado, deberán dividir la mina en fases. Para efectos prácticos de este trabajo, las fases corresponderán a conos concéntricos, como lo muestra la siguiente figura:</a:t>
            </a:r>
            <a:endParaRPr b="0" lang="en-US" sz="2600" spc="-1" strike="noStrike">
              <a:solidFill>
                <a:srgbClr val="000000"/>
              </a:solidFill>
              <a:latin typeface="Constantia"/>
            </a:endParaRPr>
          </a:p>
        </p:txBody>
      </p:sp>
      <p:pic>
        <p:nvPicPr>
          <p:cNvPr id="201" name="Picture 3" descr=""/>
          <p:cNvPicPr/>
          <p:nvPr/>
        </p:nvPicPr>
        <p:blipFill>
          <a:blip r:embed="rId1"/>
          <a:stretch/>
        </p:blipFill>
        <p:spPr>
          <a:xfrm>
            <a:off x="2857680" y="3857760"/>
            <a:ext cx="3095280" cy="250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estimar un número de fases, y decir cuáles bloques estarán en cada fase. Ahí el criterio es lo que diferenciará cada grupo. Fíjense que uno realiza fases para tener un mayor manejo en el estéril. Si sacaran todo el banco, sin fases, de la profundidad entre 0 y 25m, tendrían que sacar una gran porción de estéril, que si realiza una fase, que será un cono chico, podrán sacar menos estéril y más mineral. De esta forma, el mineral no será tan afectado por la tasa de descuento.</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Realicen un máximo de 4 fas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endrá como supuesto, una planta fija de 15.000 tpd, es decir, una producción de 5.475.000 tpa de mineral. Este tonelaje de mineral, deberán mantenerlo todos los años. Además, como deben mantener la REM constante, su cantidad de estéril será también constante. Deberán realizar una tabla como muestra a 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pic>
        <p:nvPicPr>
          <p:cNvPr id="207" name="Picture 2" descr=""/>
          <p:cNvPicPr/>
          <p:nvPr/>
        </p:nvPicPr>
        <p:blipFill>
          <a:blip r:embed="rId1"/>
          <a:stretch/>
        </p:blipFill>
        <p:spPr>
          <a:xfrm>
            <a:off x="1785960" y="2286000"/>
            <a:ext cx="6305400" cy="34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ando realicen la planificación, comienzan con la fase 1, y van colocando lo que necesitan de mineral para ese año. Si la fase 1 tuviera más de los 5.475.000 ton, tendrá un mineral remanente que quedará para el año 2. Si tuvieran menos, extraen de la fase 2 lo que les falta por completar lo que necesitan para el año 1. De la misma forma, el estéril. Y así lo van haciendo para los demás años.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lgunas consideraciones: No pueden sacar el mineral de un bloque antes de haber sacado el estéril (o parte de él). Les aconsejo que para el primer año, sacar entre 25 – 50% del mineral, pues la planta no entra a su máxima capacidad inmediatam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a realizada la planificación año a año, podrán obtener un programa de producción, que consiste en el siguiente gráfico:</a:t>
            </a:r>
            <a:endParaRPr b="0" lang="en-US" sz="2600" spc="-1" strike="noStrike">
              <a:solidFill>
                <a:srgbClr val="000000"/>
              </a:solidFill>
              <a:latin typeface="Constantia"/>
            </a:endParaRPr>
          </a:p>
        </p:txBody>
      </p:sp>
      <p:pic>
        <p:nvPicPr>
          <p:cNvPr id="212" name="Picture 2" descr=""/>
          <p:cNvPicPr/>
          <p:nvPr/>
        </p:nvPicPr>
        <p:blipFill>
          <a:blip r:embed="rId1"/>
          <a:stretch/>
        </p:blipFill>
        <p:spPr>
          <a:xfrm>
            <a:off x="2143080" y="3571920"/>
            <a:ext cx="471492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tre las consideraciones para la planificación subterránea, s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Velocidad de propagación: </a:t>
            </a:r>
            <a:r>
              <a:rPr b="0" lang="es-CL" sz="2400" spc="-1" strike="noStrike">
                <a:solidFill>
                  <a:srgbClr val="000000"/>
                </a:solidFill>
                <a:latin typeface="Constantia"/>
              </a:rPr>
              <a:t>Rango 0.5-0.8 t/m2/d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CL" sz="2400" spc="-1" strike="noStrike">
                <a:solidFill>
                  <a:srgbClr val="000000"/>
                </a:solidFill>
                <a:latin typeface="Constantia"/>
              </a:rPr>
              <a:t>1 frente: 22,000 m2/añ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punto de extracción tiene 200m2 de área de influencia.</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r lo tanto, la producción de la mina será:</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Área activa</a:t>
            </a:r>
            <a:r>
              <a:rPr b="0" lang="en-US" sz="2400" spc="-1" strike="noStrike">
                <a:solidFill>
                  <a:srgbClr val="000000"/>
                </a:solidFill>
                <a:latin typeface="Constantia"/>
              </a:rPr>
              <a:t>*velocidad de extracci</a:t>
            </a:r>
            <a:r>
              <a:rPr b="0" lang="es-CL" sz="2400" spc="-1" strike="noStrike">
                <a:solidFill>
                  <a:srgbClr val="000000"/>
                </a:solidFill>
                <a:latin typeface="Constantia"/>
              </a:rPr>
              <a:t>ón </a:t>
            </a:r>
            <a:r>
              <a:rPr b="0" lang="en-US" sz="2400" spc="-1" strike="noStrike">
                <a:solidFill>
                  <a:srgbClr val="000000"/>
                </a:solidFill>
                <a:latin typeface="Constantia"/>
              </a:rPr>
              <a:t>= producci</a:t>
            </a:r>
            <a:r>
              <a:rPr b="0" lang="es-CL" sz="2400" spc="-1" strike="noStrike">
                <a:solidFill>
                  <a:srgbClr val="000000"/>
                </a:solidFill>
                <a:latin typeface="Constantia"/>
              </a:rPr>
              <a:t>ó</a:t>
            </a:r>
            <a:r>
              <a:rPr b="0" lang="en-US" sz="2400" spc="-1" strike="noStrike">
                <a:solidFill>
                  <a:srgbClr val="000000"/>
                </a:solidFill>
                <a:latin typeface="Constantia"/>
              </a:rPr>
              <a:t>n mi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3:22:49Z</dcterms:created>
  <dc:creator>Freddy Rojas</dc:creator>
  <dc:description/>
  <dc:language>en-US</dc:language>
  <cp:lastModifiedBy>Freddy Rojas</cp:lastModifiedBy>
  <dcterms:modified xsi:type="dcterms:W3CDTF">2008-07-02T02:35:36Z</dcterms:modified>
  <cp:revision>22</cp:revision>
  <dc:subject/>
  <dc:title>Diapositiva 1</dc:title>
</cp:coreProperties>
</file>