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9.jpeg" ContentType="image/jpeg"/>
  <Override PartName="/ppt/media/image1.jpeg" ContentType="image/jpeg"/>
  <Override PartName="/ppt/media/image4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EC0F-2581-4C8F-8142-592117313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F2A9-DCFD-4CB8-869C-6CEC56C65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93840" y="797040"/>
            <a:ext cx="4271760" cy="3203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A22D-35F0-499B-A79E-E826E6FEE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37D0-99F4-4990-9EB7-D7F54D29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4313-612A-4EC8-9100-B4B744B6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9A86-5376-41C3-B48D-8CB25421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8F20-1786-4232-BB8D-EA9C7732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30A1-BC7E-4532-A71F-4AC3C804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4129-B7B4-4F23-9A4A-FC575842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5B9-4B4E-4065-80EA-EA0BAE9F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218-0196-468F-BAE8-1EF2C502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3B5-9931-4390-986B-413BCC0C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77D-174C-4483-B2B0-6263EDA5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D809-CEA4-46B0-8F84-892CDC4E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465A-C191-449A-B0A2-760CF60B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26C5-2337-4DFA-A314-DF4695BB4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a planificación de minas y su ento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egia Produc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hacer miner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ía de la envolvente económica en el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4716360" y="1413000"/>
            <a:ext cx="4064040" cy="2384280"/>
            <a:chOff x="4716360" y="1413000"/>
            <a:chExt cx="4064040" cy="2384280"/>
          </a:xfrm>
        </p:grpSpPr>
        <p:sp>
          <p:nvSpPr>
            <p:cNvPr id="115" name="Freeform 5"/>
            <p:cNvSpPr/>
            <p:nvPr/>
          </p:nvSpPr>
          <p:spPr>
            <a:xfrm>
              <a:off x="4716360" y="1413000"/>
              <a:ext cx="4064040" cy="1761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>
              <a:off x="6743520" y="1773360"/>
              <a:ext cx="1644840" cy="20239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7"/>
            <p:cNvSpPr/>
            <p:nvPr/>
          </p:nvSpPr>
          <p:spPr>
            <a:xfrm>
              <a:off x="7094520" y="33573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8"/>
            <p:cNvSpPr/>
            <p:nvPr/>
          </p:nvSpPr>
          <p:spPr>
            <a:xfrm>
              <a:off x="6950160" y="1701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5894280" y="1861920"/>
              <a:ext cx="792000" cy="13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6686280" y="3230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V="1">
              <a:off x="7694280" y="1501200"/>
              <a:ext cx="792360" cy="172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6659280" y="1557360"/>
              <a:ext cx="5050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>
              <a:off x="7164360" y="234936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6372000" y="1628640"/>
              <a:ext cx="57636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5"/>
            <p:cNvSpPr/>
            <p:nvPr/>
          </p:nvSpPr>
          <p:spPr>
            <a:xfrm>
              <a:off x="6948360" y="263664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6156000" y="1773360"/>
              <a:ext cx="792360" cy="12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>
              <a:off x="6948360" y="299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18"/>
          <p:cNvSpPr/>
          <p:nvPr/>
        </p:nvSpPr>
        <p:spPr>
          <a:xfrm>
            <a:off x="5219640" y="616572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 flipV="1">
            <a:off x="5148360" y="42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5148360" y="4724280"/>
            <a:ext cx="93636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6084720" y="4724280"/>
            <a:ext cx="1151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7164360" y="5229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552920" y="41688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7742160" y="6165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rcRect l="15572" t="5910" r="4360" b="24277"/>
          <a:stretch/>
        </p:blipFill>
        <p:spPr>
          <a:xfrm>
            <a:off x="539640" y="1268280"/>
            <a:ext cx="3813120" cy="243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6" name="Picture 3" descr=""/>
          <p:cNvPicPr/>
          <p:nvPr/>
        </p:nvPicPr>
        <p:blipFill>
          <a:blip r:embed="rId2"/>
          <a:srcRect l="16623" t="5803" r="3075" b="22148"/>
          <a:stretch/>
        </p:blipFill>
        <p:spPr>
          <a:xfrm>
            <a:off x="4716360" y="1268280"/>
            <a:ext cx="3716280" cy="243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7" name="Picture 4" descr=""/>
          <p:cNvPicPr/>
          <p:nvPr/>
        </p:nvPicPr>
        <p:blipFill>
          <a:blip r:embed="rId3"/>
          <a:srcRect l="16857" t="5005" r="5878" b="22520"/>
          <a:stretch/>
        </p:blipFill>
        <p:spPr>
          <a:xfrm>
            <a:off x="4716360" y="4005360"/>
            <a:ext cx="3711600" cy="240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8" name="Picture 5" descr=""/>
          <p:cNvPicPr/>
          <p:nvPr/>
        </p:nvPicPr>
        <p:blipFill>
          <a:blip r:embed="rId4"/>
          <a:srcRect l="17596" t="6016" r="3309" b="24011"/>
          <a:stretch/>
        </p:blipFill>
        <p:spPr>
          <a:xfrm>
            <a:off x="539640" y="4005360"/>
            <a:ext cx="3808440" cy="2462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848720" cy="2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awa NPV vs Balance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2438280" y="175248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 Palab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c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ón de p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trucción de niveles de transpo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ición de frentes de explo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rcRect l="20315" t="28124" r="18749" b="13540"/>
          <a:stretch/>
        </p:blipFill>
        <p:spPr>
          <a:xfrm>
            <a:off x="4495680" y="1905120"/>
            <a:ext cx="44197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encia de Hundimiento Re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tas frentes de explo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frente 22,000 m2/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 frentes 15,000 m2 por año por f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3 frentes 12,000 m2/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yor número de frentes mayor costo de inversión hasta do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sto de preparación minera 3500$/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rcRect l="32031" t="34375" r="31253" b="31250"/>
          <a:stretch/>
        </p:blipFill>
        <p:spPr>
          <a:xfrm>
            <a:off x="4800600" y="2362320"/>
            <a:ext cx="39625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Velocidad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fine la productividad de la 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Área ac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velocidad de extrac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produc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locidad de extra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locidad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rrupciones oper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ngo 0.5-0.8 t/m2/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Diagram_1_brown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2538360"/>
          </a:xfrm>
          <a:prstGeom prst="rect">
            <a:avLst/>
          </a:prstGeom>
          <a:ln w="0">
            <a:noFill/>
          </a:ln>
        </p:spPr>
      </p:pic>
      <p:sp>
        <p:nvSpPr>
          <p:cNvPr id="151" name="Line 7"/>
          <p:cNvSpPr/>
          <p:nvPr/>
        </p:nvSpPr>
        <p:spPr>
          <a:xfrm>
            <a:off x="5638680" y="60958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 flipV="1">
            <a:off x="5638680" y="4419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649760" y="43434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/m2/d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7530480" y="6132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du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 flipV="1">
            <a:off x="5638680" y="5105160"/>
            <a:ext cx="6858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632448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strategia de Ex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1143000" y="572940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 flipV="1">
            <a:off x="1143000" y="1981080"/>
            <a:ext cx="0" cy="374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784920" y="579132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uenci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u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rcRect l="29825" t="27800" r="30539" b="17123"/>
          <a:stretch/>
        </p:blipFill>
        <p:spPr>
          <a:xfrm>
            <a:off x="7034040" y="1995480"/>
            <a:ext cx="1729080" cy="2209680"/>
          </a:xfrm>
          <a:prstGeom prst="rect">
            <a:avLst/>
          </a:prstGeom>
          <a:ln w="0">
            <a:noFill/>
          </a:ln>
        </p:spPr>
      </p:pic>
      <p:sp>
        <p:nvSpPr>
          <p:cNvPr id="162" name="Line 7"/>
          <p:cNvSpPr/>
          <p:nvPr/>
        </p:nvSpPr>
        <p:spPr>
          <a:xfrm>
            <a:off x="7831080" y="2224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746800" y="167652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to para un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59000" y="2133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209680" y="2819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4648320" y="27432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5562720" y="3352680"/>
            <a:ext cx="0" cy="2362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1221840" y="533412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897640" y="53341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4650840" y="53341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793120" y="53341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tu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7"/>
          <p:cNvSpPr/>
          <p:nvPr/>
        </p:nvSpPr>
        <p:spPr>
          <a:xfrm>
            <a:off x="2225520" y="3289320"/>
            <a:ext cx="4724640" cy="24256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8"/>
          <p:cNvSpPr/>
          <p:nvPr/>
        </p:nvSpPr>
        <p:spPr>
          <a:xfrm>
            <a:off x="2225520" y="3946680"/>
            <a:ext cx="3341880" cy="1768320"/>
          </a:xfrm>
          <a:prstGeom prst="pie">
            <a:avLst/>
          </a:pr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H="1">
            <a:off x="1142640" y="3886200"/>
            <a:ext cx="4419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1130760" y="33894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el programa de producción del 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el momento para comenzar a construir el pique a tasa de 1m/d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la velocidad de hundimiento por frente (m2/añ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balance de puntos cerrados, abiertos, nue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producción del área 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0" t="71291" r="81499" b="1497"/>
          <a:stretch/>
        </p:blipFill>
        <p:spPr>
          <a:xfrm>
            <a:off x="4800600" y="1143000"/>
            <a:ext cx="1981080" cy="1870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 de Ingeniería de Minas que transforma el recurso mineral en el mejor negocio produ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fine una promesa produ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ida de la 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servas min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alor del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un documento ban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257800" y="3048120"/>
            <a:ext cx="3276720" cy="1730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rcRect l="0" t="0" r="1266" b="705"/>
          <a:stretch/>
        </p:blipFill>
        <p:spPr>
          <a:xfrm>
            <a:off x="6477120" y="5116680"/>
            <a:ext cx="23619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 flipV="1">
            <a:off x="1714680" y="5257800"/>
            <a:ext cx="5648040" cy="15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 flipH="1" flipV="1">
            <a:off x="1714680" y="1828440"/>
            <a:ext cx="15840" cy="3444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 flipV="1">
            <a:off x="1714680" y="3673440"/>
            <a:ext cx="1191960" cy="155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 flipV="1">
            <a:off x="2873520" y="3657600"/>
            <a:ext cx="30366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5894280" y="3673440"/>
            <a:ext cx="277920" cy="1584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973680" y="369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311880" y="5330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0"/>
          <p:cNvSpPr/>
          <p:nvPr/>
        </p:nvSpPr>
        <p:spPr>
          <a:xfrm>
            <a:off x="1747800" y="2514600"/>
            <a:ext cx="5437080" cy="1714680"/>
          </a:xfrm>
          <a:prstGeom prst="pie">
            <a:avLst/>
          </a:prstGeom>
          <a:noFill/>
          <a:ln w="316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057200" y="2421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66ff33"/>
                </a:solidFill>
                <a:latin typeface="Times New Roman"/>
              </a:rPr>
              <a:t>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xto/ Ev. Econó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380880" y="2057400"/>
            <a:ext cx="8294760" cy="3135240"/>
            <a:chOff x="380880" y="2057400"/>
            <a:chExt cx="8294760" cy="3135240"/>
          </a:xfrm>
        </p:grpSpPr>
        <p:sp>
          <p:nvSpPr>
            <p:cNvPr id="66" name="Rectangle 4"/>
            <p:cNvSpPr/>
            <p:nvPr/>
          </p:nvSpPr>
          <p:spPr>
            <a:xfrm>
              <a:off x="380880" y="2057400"/>
              <a:ext cx="8294760" cy="31352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"/>
            <p:cNvPicPr/>
            <p:nvPr/>
          </p:nvPicPr>
          <p:blipFill>
            <a:blip r:embed="rId1"/>
            <a:stretch/>
          </p:blipFill>
          <p:spPr>
            <a:xfrm>
              <a:off x="414360" y="2063520"/>
              <a:ext cx="8165880" cy="285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xto de Planific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planificación minera se orientará a maximizar la renta del negocio minero activando cada una de sus fuentes, integrando las restricciones impuestas por el recurso mineral, el mercado y el ento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blemática Transición Rajo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raestructura Grasberg Block C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grama de producción 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749" t="35419" r="12500" b="23960"/>
          <a:stretch/>
        </p:blipFill>
        <p:spPr>
          <a:xfrm>
            <a:off x="4572000" y="3200400"/>
            <a:ext cx="4343400" cy="260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2"/>
          <a:srcRect l="14065" t="11458" r="17188" b="28124"/>
          <a:stretch/>
        </p:blipFill>
        <p:spPr>
          <a:xfrm>
            <a:off x="0" y="2728800"/>
            <a:ext cx="4876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Min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enciamiento en f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izac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ón en unidades de rese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se b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loques, distinto a modelo de bloques de re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ando se extrae cada unidad de reser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033800" cy="1998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246280" y="1332000"/>
            <a:ext cx="33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uencia Los Pelambres 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5638680" y="3936960"/>
            <a:ext cx="1371600" cy="457200"/>
          </a:xfrm>
          <a:prstGeom prst="pie">
            <a:avLst/>
          </a:prstGeom>
          <a:solidFill>
            <a:srgbClr val="58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X,Y,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on, Cu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6400440" y="320040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7007400" y="3962520"/>
            <a:ext cx="170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nidad de Reser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2"/>
          <a:stretch/>
        </p:blipFill>
        <p:spPr>
          <a:xfrm>
            <a:off x="4724280" y="4724280"/>
            <a:ext cx="3276720" cy="1730520"/>
          </a:xfrm>
          <a:prstGeom prst="rect">
            <a:avLst/>
          </a:prstGeom>
          <a:ln w="0">
            <a:noFill/>
          </a:ln>
        </p:spPr>
      </p:pic>
      <p:sp>
        <p:nvSpPr>
          <p:cNvPr id="83" name="Line 10"/>
          <p:cNvSpPr/>
          <p:nvPr/>
        </p:nvSpPr>
        <p:spPr>
          <a:xfrm flipH="1">
            <a:off x="6172200" y="42670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egrando 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idad de reserva sale por alguna de las rampas defini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cada unidad de reserva-rampa se le debe asignar equipos de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K por equipo por periodo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20506" t="18948" r="22290" b="33160"/>
          <a:stretch/>
        </p:blipFill>
        <p:spPr>
          <a:xfrm>
            <a:off x="5943600" y="2590920"/>
            <a:ext cx="2895480" cy="228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rcRect l="26875" t="26955" r="28750" b="22841"/>
          <a:stretch/>
        </p:blipFill>
        <p:spPr>
          <a:xfrm>
            <a:off x="5334120" y="1295280"/>
            <a:ext cx="1752480" cy="133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DSC01621"/>
          <p:cNvPicPr/>
          <p:nvPr/>
        </p:nvPicPr>
        <p:blipFill>
          <a:blip r:embed="rId3"/>
          <a:stretch/>
        </p:blipFill>
        <p:spPr>
          <a:xfrm>
            <a:off x="5181480" y="4876920"/>
            <a:ext cx="2082960" cy="15620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005240" y="1776240"/>
            <a:ext cx="191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idad de Reser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268160" y="289548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seño de Ramp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9"/>
          <p:cNvCxnSpPr>
            <a:stCxn id="89" idx="1"/>
          </p:cNvCxnSpPr>
          <p:nvPr/>
        </p:nvCxnSpPr>
        <p:spPr>
          <a:xfrm flipH="1" flipV="1" rot="10800000">
            <a:off x="7003080" y="1944360"/>
            <a:ext cx="1835640" cy="1789920"/>
          </a:xfrm>
          <a:prstGeom prst="bentConnector5">
            <a:avLst>
              <a:gd name="adj1" fmla="val -12455"/>
              <a:gd name="adj2" fmla="val 22792"/>
              <a:gd name="adj3" fmla="val 1124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10"/>
          <p:cNvCxnSpPr/>
          <p:nvPr/>
        </p:nvCxnSpPr>
        <p:spPr>
          <a:xfrm flipH="1">
            <a:off x="7264080" y="3733920"/>
            <a:ext cx="1575360" cy="1924560"/>
          </a:xfrm>
          <a:prstGeom prst="bentConnector3">
            <a:avLst>
              <a:gd name="adj1" fmla="val -1449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Text Box 11"/>
          <p:cNvSpPr/>
          <p:nvPr/>
        </p:nvSpPr>
        <p:spPr>
          <a:xfrm>
            <a:off x="7318080" y="4876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5867280" y="5943600"/>
            <a:ext cx="152640" cy="76320"/>
          </a:xfrm>
          <a:prstGeom prst="pie">
            <a:avLst/>
          </a:prstGeom>
          <a:solidFill>
            <a:srgbClr val="58dd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"/>
          <p:cNvSpPr/>
          <p:nvPr/>
        </p:nvSpPr>
        <p:spPr>
          <a:xfrm>
            <a:off x="6324480" y="6019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 flipH="1" flipV="1">
            <a:off x="6553080" y="5867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 flipH="1" flipV="1">
            <a:off x="6095880" y="55623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609588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584352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rateg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asa de retorno, para leyes al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cuperación, extracción de materiales no económicos subsidiados por 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ximizar beneficio, ampliamente utiliz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227640" y="1641600"/>
            <a:ext cx="2351160" cy="357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4535640" cy="1895400"/>
          </a:xfrm>
          <a:prstGeom prst="rect">
            <a:avLst/>
          </a:prstGeom>
          <a:ln w="0">
            <a:noFill/>
          </a:ln>
        </p:spPr>
      </p:pic>
      <p:sp>
        <p:nvSpPr>
          <p:cNvPr id="103" name="Line 6"/>
          <p:cNvSpPr/>
          <p:nvPr/>
        </p:nvSpPr>
        <p:spPr>
          <a:xfrm>
            <a:off x="2916360" y="2060640"/>
            <a:ext cx="0" cy="358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916360" y="3141720"/>
            <a:ext cx="0" cy="3585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916360" y="258768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V="1">
            <a:off x="3851280" y="206064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3851280" y="314172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3851280" y="258768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4788000" y="2616120"/>
            <a:ext cx="0" cy="3589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788000" y="3141720"/>
            <a:ext cx="0" cy="35856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4788000" y="2060640"/>
            <a:ext cx="0" cy="35856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7T21:37:43Z</dcterms:created>
  <dc:creator>Enrique Rubio</dc:creator>
  <dc:description/>
  <dc:language>en-US</dc:language>
  <cp:lastModifiedBy>Freddy Rojas</cp:lastModifiedBy>
  <dcterms:modified xsi:type="dcterms:W3CDTF">2008-06-27T00:57:51Z</dcterms:modified>
  <cp:revision>10</cp:revision>
  <dc:subject/>
  <dc:title>Slide 1</dc:title>
</cp:coreProperties>
</file>