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D63B-300C-40E0-A7E4-E4A27C8B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5137-4938-4CE6-98AB-2750245D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F61C-047E-4DCC-885F-50E923DC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C2A-D462-49BC-ADC5-7A85AEBF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6BC-8B7B-4996-ABB5-4E46DB9B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17F-418C-4CFF-A038-674E5F0E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63D-6F10-4B80-B033-C3F9203B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41E-AA79-470E-880D-F3EEC148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EEA-9DA5-490C-8ECF-92A56820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C8B-099C-4CC0-84DF-4011DA39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E19-3A91-4CA9-884C-5151DD78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C56-4FC5-4AFB-BE10-5B931205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EA8-5ABF-424B-95B0-73B72AD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F7D-52D1-480B-9B04-F8D9E59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1E1-77D7-4A86-9E07-EE818309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E910-AAC9-40B6-89B2-62C2D9DE7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planificación de minas y su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 Prod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hacer min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ía de la envolvente económica en 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716360" y="1413000"/>
            <a:ext cx="4064040" cy="2384280"/>
            <a:chOff x="4716360" y="1413000"/>
            <a:chExt cx="4064040" cy="2384280"/>
          </a:xfrm>
        </p:grpSpPr>
        <p:sp>
          <p:nvSpPr>
            <p:cNvPr id="115" name="Freeform 5"/>
            <p:cNvSpPr/>
            <p:nvPr/>
          </p:nvSpPr>
          <p:spPr>
            <a:xfrm>
              <a:off x="4716360" y="1413000"/>
              <a:ext cx="406404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6743520" y="1773360"/>
              <a:ext cx="1644840" cy="2023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094520" y="335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950160" y="170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894280" y="1861920"/>
              <a:ext cx="792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686280" y="3230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V="1">
              <a:off x="7694280" y="1501200"/>
              <a:ext cx="79236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659280" y="1557360"/>
              <a:ext cx="505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7164360" y="2349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2000" y="1628640"/>
              <a:ext cx="57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6948360" y="263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6156000" y="1773360"/>
              <a:ext cx="79236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948360" y="299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521964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5148360" y="42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148360" y="4724280"/>
            <a:ext cx="93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6084720" y="4724280"/>
            <a:ext cx="115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7164360" y="522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552920" y="4168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74216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15572" t="5910" r="4360" b="24277"/>
          <a:stretch/>
        </p:blipFill>
        <p:spPr>
          <a:xfrm>
            <a:off x="539640" y="1268280"/>
            <a:ext cx="381312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6623" t="5803" r="3075" b="22148"/>
          <a:stretch/>
        </p:blipFill>
        <p:spPr>
          <a:xfrm>
            <a:off x="4716360" y="1268280"/>
            <a:ext cx="3716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16857" t="5005" r="5878" b="22520"/>
          <a:stretch/>
        </p:blipFill>
        <p:spPr>
          <a:xfrm>
            <a:off x="4716360" y="4005360"/>
            <a:ext cx="3711600" cy="240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4"/>
          <a:srcRect l="17596" t="6016" r="3309" b="24011"/>
          <a:stretch/>
        </p:blipFill>
        <p:spPr>
          <a:xfrm>
            <a:off x="539640" y="4005360"/>
            <a:ext cx="3808440" cy="24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wa NPV vs Balanc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4382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Palab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p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rucción de niveles de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ón de frentes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20315" t="28124" r="18749" b="13540"/>
          <a:stretch/>
        </p:blipFill>
        <p:spPr>
          <a:xfrm>
            <a:off x="4495680" y="1905120"/>
            <a:ext cx="4419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encia de Hundimiento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tas frente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frente 2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 frentes 15,000 m2 por año por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frentes 1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número de frentes mayor costo de inversión hast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preparación minera 3500$/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rcRect l="32031" t="34375" r="31253" b="31250"/>
          <a:stretch/>
        </p:blipFill>
        <p:spPr>
          <a:xfrm>
            <a:off x="4800600" y="2362320"/>
            <a:ext cx="3962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locidad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e la productividad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a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elocidad de extra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produ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locidad de extr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locidad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cione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ngo 0.5-0.8 t/m2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iagram_1_brown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sp>
        <p:nvSpPr>
          <p:cNvPr id="151" name="Line 7"/>
          <p:cNvSpPr/>
          <p:nvPr/>
        </p:nvSpPr>
        <p:spPr>
          <a:xfrm>
            <a:off x="5638680" y="6095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63868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649760" y="4343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/m2/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530480" y="6132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638680" y="51051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324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143000" y="5729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143000" y="198108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784920" y="57913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7034040" y="1995480"/>
            <a:ext cx="17290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>
            <a:off x="7831080" y="22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46800" y="16765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to par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900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09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6483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22184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7640" y="5334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650840" y="5334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931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225520" y="3289320"/>
            <a:ext cx="4724640" cy="242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225520" y="3946680"/>
            <a:ext cx="3341880" cy="17683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1142640" y="3886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130760" y="3389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programa de producción del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momento para comenzar a construir el pique a tasa de 1m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 velocidad de hundimiento por frente (m2/añ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balance de puntos cerrados, abiertos,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producción del áre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71291" r="81499" b="1497"/>
          <a:stretch/>
        </p:blipFill>
        <p:spPr>
          <a:xfrm>
            <a:off x="4800600" y="1143000"/>
            <a:ext cx="198108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Ingeniería de Minas que transforma el recurso mineral en el mejor negoci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fine una promesa produ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da de la 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lor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ocumento ban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76720" cy="173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rcRect l="0" t="0" r="1266" b="705"/>
          <a:stretch/>
        </p:blipFill>
        <p:spPr>
          <a:xfrm>
            <a:off x="6477120" y="5116680"/>
            <a:ext cx="2361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V="1">
            <a:off x="1714680" y="5257800"/>
            <a:ext cx="5648040" cy="1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H="1" flipV="1">
            <a:off x="1714680" y="1828440"/>
            <a:ext cx="15840" cy="344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1714680" y="3673440"/>
            <a:ext cx="1191960" cy="15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2873520" y="3657600"/>
            <a:ext cx="30366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94280" y="3673440"/>
            <a:ext cx="27792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3680" y="369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11880" y="533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1747800" y="2514600"/>
            <a:ext cx="5437080" cy="1714680"/>
          </a:xfrm>
          <a:prstGeom prst="pie">
            <a:avLst/>
          </a:prstGeom>
          <a:noFill/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57200" y="2421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33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/ Ev.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80880" y="2057400"/>
            <a:ext cx="8294760" cy="3135240"/>
            <a:chOff x="380880" y="2057400"/>
            <a:chExt cx="8294760" cy="3135240"/>
          </a:xfrm>
        </p:grpSpPr>
        <p:sp>
          <p:nvSpPr>
            <p:cNvPr id="66" name="Rectangle 4"/>
            <p:cNvSpPr/>
            <p:nvPr/>
          </p:nvSpPr>
          <p:spPr>
            <a:xfrm>
              <a:off x="380880" y="2057400"/>
              <a:ext cx="8294760" cy="313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414360" y="2063520"/>
              <a:ext cx="816588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 de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lanificación minera se orientará a maximizar la renta del negocio minero activando cada una de sus fuentes, integrando las restricciones impuestas por el recurso mineral, el mercado y el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blemática Transición Rajo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raestructura Grasberg Block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producción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749" t="35419" r="12500" b="23960"/>
          <a:stretch/>
        </p:blipFill>
        <p:spPr>
          <a:xfrm>
            <a:off x="4572000" y="3200400"/>
            <a:ext cx="434340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rcRect l="14065" t="11458" r="17188" b="28124"/>
          <a:stretch/>
        </p:blipFill>
        <p:spPr>
          <a:xfrm>
            <a:off x="0" y="2728800"/>
            <a:ext cx="4876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miento en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 en unidade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se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, distinto a modelo de bloques de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extrae cada unidad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3800" cy="199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246280" y="133200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Los Pelambres 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638680" y="3936960"/>
            <a:ext cx="1371600" cy="45720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,Y,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n, Cu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6400440" y="32004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07400" y="39625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327672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 flipH="1">
            <a:off x="6172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K por equipo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005240" y="17762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268160" y="28954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0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11"/>
          <p:cNvSpPr/>
          <p:nvPr/>
        </p:nvSpPr>
        <p:spPr>
          <a:xfrm>
            <a:off x="7318080" y="487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5843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 de retorno, para leyes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uperación, extracción de materiales no económicos subsidiados 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ximizar beneficio, ampliamente utili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1641600"/>
            <a:ext cx="2351160" cy="35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535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2916360" y="206064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6360" y="314172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916360" y="258768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851280" y="206064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3851280" y="314172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851280" y="258768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788000" y="2616120"/>
            <a:ext cx="0" cy="35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788000" y="314172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788000" y="206064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1:37:43Z</dcterms:created>
  <dc:creator>Enrique Rubio</dc:creator>
  <dc:description/>
  <dc:language>en-US</dc:language>
  <cp:lastModifiedBy>Freddy Rojas</cp:lastModifiedBy>
  <dcterms:modified xsi:type="dcterms:W3CDTF">2008-06-27T00:57:51Z</dcterms:modified>
  <cp:revision>10</cp:revision>
  <dc:subject/>
  <dc:title>Slide 1</dc:title>
</cp:coreProperties>
</file>