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12.png" ContentType="image/png"/>
  <Override PartName="/ppt/media/image23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C236-79E5-4562-83B9-17A8DFEFE6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8777-F6F5-4950-9C83-D7B730A157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DDCC-10F1-42F9-A439-1D17EBC46BF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6131-E365-4777-A38D-23339D1A3C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07D7-6008-4AC3-AA5E-BAAC2A3DC0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49A4-DCFA-45D7-B993-94B2594CCA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A649-C9BB-4FCD-9C32-2EBCACE2E2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1A99-3971-4F8C-A46D-735537C7F9E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5700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57000"/>
            <a:ext cx="40158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0760" y="6159600"/>
            <a:ext cx="2146320" cy="698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68360" y="260280"/>
            <a:ext cx="820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98840" y="260280"/>
            <a:ext cx="2146320" cy="698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4360" y="2133720"/>
            <a:ext cx="777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573360"/>
            <a:ext cx="777528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5f5f5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vantGarde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antGarde Md B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vantGarde Md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vantGarde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antGarde Md BT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vantGarde Md BT"/>
              </a:rPr>
              <a:t>Variabilidad de leyes en el espacio</a:t>
            </a:r>
            <a:br>
              <a:rPr sz="3600"/>
            </a:br>
            <a:r>
              <a:rPr b="0" lang="es-ES" sz="2000" spc="-1" strike="noStrike">
                <a:solidFill>
                  <a:srgbClr val="0000ff"/>
                </a:solidFill>
                <a:latin typeface="AvantGarde Md BT"/>
              </a:rPr>
              <a:t>o la vida no es tan simple como uno quisiera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36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vantGarde Md BT"/>
              </a:rPr>
              <a:t>Profesor: Dr. Julián M. Ort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 geológico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Visualización en 3-D   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interpret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57440" y="2735280"/>
            <a:ext cx="5829120" cy="412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15573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822320"/>
            <a:ext cx="9144000" cy="503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Variabilidad espacial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00200" y="3660840"/>
            <a:ext cx="2757600" cy="312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60920" y="2046240"/>
            <a:ext cx="3578040" cy="2438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16360" y="4390920"/>
            <a:ext cx="3699000" cy="246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7920" y="1828800"/>
            <a:ext cx="3124080" cy="185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tipo pórfido cupríf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(Andin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cobre de mediana var. (El Tesoro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Yacimiento de oro de alta variabilidad (Pullalli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4920" y="2023920"/>
            <a:ext cx="468360" cy="3492720"/>
          </a:xfrm>
          <a:custGeom>
            <a:avLst/>
            <a:gdLst>
              <a:gd name="textAreaLeft" fmla="*/ 62640 w 468360"/>
              <a:gd name="textAreaRight" fmla="*/ 405720 w 468360"/>
              <a:gd name="textAreaTop" fmla="*/ 721440 h 3492720"/>
              <a:gd name="textAreaBottom" fmla="*/ 2509200 h 34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25" stAng="-5400000" swAng="-5400000"/>
                <a:lnTo>
                  <a:pt x="0" y="11056"/>
                </a:lnTo>
                <a:arcTo wR="21600" hR="8925" stAng="10800000" swAng="-1984903"/>
                <a:lnTo>
                  <a:pt x="10031" y="20212"/>
                </a:lnTo>
                <a:lnTo>
                  <a:pt x="21600" y="18915"/>
                </a:lnTo>
                <a:lnTo>
                  <a:pt x="10031" y="14841"/>
                </a:lnTo>
                <a:lnTo>
                  <a:pt x="10031" y="16461"/>
                </a:lnTo>
                <a:arcTo wR="21600" hR="8925" stAng="8815097" swAng="1814242"/>
                <a:lnTo>
                  <a:pt x="154" y="9990"/>
                </a:lnTo>
                <a:arcTo wR="21600" hR="8925" stAng="-10629339" swAng="5229339"/>
                <a:close/>
              </a:path>
              <a:path fill="darkenLess" w="21600" h="21600">
                <a:moveTo>
                  <a:pt x="21600" y="0"/>
                </a:moveTo>
                <a:arcTo wR="21600" hR="8925" stAng="-5400000" swAng="-5400000"/>
                <a:lnTo>
                  <a:pt x="0" y="8925"/>
                </a:lnTo>
                <a:arcTo wR="21600" hR="8925" stAng="10800000" swAng="-170661"/>
                <a:lnTo>
                  <a:pt x="154" y="9990"/>
                </a:lnTo>
                <a:arcTo wR="21600" hR="8925" stAng="-10629339" swAng="5229339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267336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140400">
            <a:off x="3906000" y="3771000"/>
            <a:ext cx="1008000" cy="324000"/>
          </a:xfrm>
          <a:prstGeom prst="rightArrow">
            <a:avLst>
              <a:gd name="adj1" fmla="val 50000"/>
              <a:gd name="adj2" fmla="val 7777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valuación de yacimient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583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La idea es predecir donde está el mineral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 planificación y diseño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Para eso, se “mide” cuan continuo es un depósito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Además, se construye un </a:t>
            </a:r>
            <a:r>
              <a:rPr b="0" lang="es-CL" sz="2400" spc="-1" strike="noStrike">
                <a:solidFill>
                  <a:srgbClr val="ff0000"/>
                </a:solidFill>
                <a:latin typeface="AvantGarde Md BT"/>
              </a:rPr>
              <a:t>modelo de bloques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 de leyes estimadas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Se puede medir el error y sus consecuencias con </a:t>
            </a:r>
            <a:r>
              <a:rPr b="0" lang="es-CL" sz="2400" spc="-1" strike="noStrike">
                <a:solidFill>
                  <a:srgbClr val="0066ff"/>
                </a:solidFill>
                <a:latin typeface="AvantGarde Md BT"/>
              </a:rPr>
              <a:t>simulación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40360" y="2276640"/>
            <a:ext cx="379872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 BT"/>
              </a:rPr>
              <a:t>Estim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vantGarde Md BT"/>
              </a:rPr>
              <a:t>Simulación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2637000"/>
            <a:ext cx="9144000" cy="2761920"/>
            <a:chOff x="0" y="2637000"/>
            <a:chExt cx="9144000" cy="2761920"/>
          </a:xfrm>
        </p:grpSpPr>
        <p:grpSp>
          <p:nvGrpSpPr>
            <p:cNvPr id="149" name=""/>
            <p:cNvGrpSpPr/>
            <p:nvPr/>
          </p:nvGrpSpPr>
          <p:grpSpPr>
            <a:xfrm>
              <a:off x="0" y="2637000"/>
              <a:ext cx="9144000" cy="2761920"/>
              <a:chOff x="0" y="2637000"/>
              <a:chExt cx="9144000" cy="276192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2637000"/>
                <a:ext cx="9144000" cy="276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1" name="simu vs krigeage2 espagnol" descr=""/>
              <p:cNvPicPr/>
              <p:nvPr/>
            </p:nvPicPr>
            <p:blipFill>
              <a:blip r:embed="rId1"/>
              <a:srcRect l="48761" t="23761" r="0" b="26514"/>
              <a:stretch/>
            </p:blipFill>
            <p:spPr>
              <a:xfrm>
                <a:off x="3165480" y="2968560"/>
                <a:ext cx="2811600" cy="243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simu vs krigeage2 espagnol" descr=""/>
              <p:cNvPicPr/>
              <p:nvPr/>
            </p:nvPicPr>
            <p:blipFill>
              <a:blip r:embed="rId2"/>
              <a:srcRect l="0" t="48943" r="49909" b="0"/>
              <a:stretch/>
            </p:blipFill>
            <p:spPr>
              <a:xfrm>
                <a:off x="6394320" y="2903400"/>
                <a:ext cx="2749680" cy="249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simu vs krigeage2 espagnol" descr=""/>
              <p:cNvPicPr/>
              <p:nvPr/>
            </p:nvPicPr>
            <p:blipFill>
              <a:blip r:embed="rId3"/>
              <a:srcRect l="0" t="0" r="49355" b="50813"/>
              <a:stretch/>
            </p:blipFill>
            <p:spPr>
              <a:xfrm>
                <a:off x="0" y="2997000"/>
                <a:ext cx="2778120" cy="240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"/>
            <p:cNvSpPr/>
            <p:nvPr/>
          </p:nvSpPr>
          <p:spPr>
            <a:xfrm>
              <a:off x="271440" y="267804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re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265716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krig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67480" y="2639880"/>
              <a:ext cx="25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cc0000"/>
                  </a:solidFill>
                  <a:latin typeface="Times New Roman"/>
                  <a:ea typeface="Times New Roman"/>
                </a:rPr>
                <a:t>simulación condi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vantGarde Md BT"/>
              </a:rPr>
              <a:t>Podemos modelar nuestra ignorancia!!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Simulación genera escenarios posibles </a:t>
            </a:r>
            <a:r>
              <a:rPr b="1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 respuestas posibles </a:t>
            </a:r>
            <a:r>
              <a:rPr b="1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CL" sz="1800" spc="-1" strike="noStrike">
                <a:solidFill>
                  <a:srgbClr val="000000"/>
                </a:solidFill>
                <a:latin typeface="AvantGarde Md BT"/>
              </a:rPr>
              <a:t> incertidumbre en la respuesta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89080" y="3728880"/>
            <a:ext cx="2538360" cy="14781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49320" y="5327640"/>
            <a:ext cx="3141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odelos estocásticos múlti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7760" y="4043520"/>
            <a:ext cx="1714320" cy="533160"/>
          </a:xfrm>
          <a:prstGeom prst="rightArrow">
            <a:avLst>
              <a:gd name="adj1" fmla="val 50000"/>
              <a:gd name="adj2" fmla="val 803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37040" y="4032360"/>
            <a:ext cx="97956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 de la M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10240" y="5200560"/>
            <a:ext cx="227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tribución de posibles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643720" y="3681360"/>
            <a:ext cx="2101680" cy="14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Perspectiva histórica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581796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Teoría de probabilidades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Formalizada en el siglo XV por Pascal y Fermat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Gauss y Bayes desempeñaron un papel más reciente (siglo XVIII)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Base de las técnicas geoestadísticas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Kolmogorov, Weiner, Matern, y Gandin (comienzos del siglo XX)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vantGarde Md BT"/>
              </a:rPr>
              <a:t>Geoestadística: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Iniciada en los años 50 por Krige y Sichel en Sudáfrica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Formalizada por Matheron en Francia en los 60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En los 70, Journel y David establecieron centros de investigación en EEUU y Canadá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Simulación condicional: 1974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Indicadores: 1983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vantGarde Md BT"/>
              </a:rPr>
              <a:t>PluriGaussiana: 1994</a:t>
            </a:r>
            <a:endParaRPr b="0" lang="en-US" sz="1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46640" y="698400"/>
            <a:ext cx="1644840" cy="1754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905520" y="4452840"/>
            <a:ext cx="1656000" cy="223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170760" y="2746440"/>
            <a:ext cx="2395440" cy="14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Pregunta difícil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¿Cómo infiero la distribución de probabilidad de un dado?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(sólo veo el 5, no sé que hay debajo)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81160" y="312912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Respuesta astuta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¿Cómo infiero la distribución de probabilidad de un dado?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1640" y="1557000"/>
            <a:ext cx="403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vantGarde Md BT"/>
              </a:rPr>
              <a:t>Si conozco varias realizaciones y asumo cierta homogeneidad espacial, puedo inferir su distribución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81160" y="31291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364000" y="3141720"/>
            <a:ext cx="267336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vantGarde Md BT"/>
              </a:rPr>
              <a:t>Ejemplo simple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1952640"/>
          <a:ext cx="4248000" cy="326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2640"/>
                    <a:ext cx="424800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143240" y="2997360"/>
            <a:ext cx="500076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Md BT"/>
              </a:rPr>
              <a:t>Simulaciones para determinar si discrepancias entre mina y planta son relevantes 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257480" y="2673360"/>
            <a:ext cx="6629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vantGarde Md BT"/>
              </a:rPr>
              <a:t>Simulaciones de leyes para </a:t>
            </a: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optimización de caserones 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889360"/>
            <a:ext cx="4572000" cy="2881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45720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1844640"/>
            <a:ext cx="761976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66880" y="4257720"/>
            <a:ext cx="3705120" cy="244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11280" y="5084640"/>
            <a:ext cx="32400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1828800"/>
            <a:ext cx="761976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Md BT"/>
              </a:rPr>
              <a:t>Conceptos bás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90560" y="1905120"/>
            <a:ext cx="3781440" cy="2361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847880"/>
            <a:ext cx="3790800" cy="2419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66880" y="4267080"/>
            <a:ext cx="3705120" cy="244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72000" y="4267080"/>
            <a:ext cx="3800520" cy="2419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11280" y="5084640"/>
            <a:ext cx="32400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5084640"/>
            <a:ext cx="323640" cy="289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5046" r="2018" b="5790"/>
          <a:stretch/>
        </p:blipFill>
        <p:spPr>
          <a:xfrm>
            <a:off x="4967280" y="3787920"/>
            <a:ext cx="3781440" cy="19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vantGarde Md BT"/>
              </a:rPr>
              <a:t>Paso de recursos a reservas</a:t>
            </a:r>
            <a:r>
              <a:rPr b="0" lang="es-ES_tradnl" sz="3600" spc="-1" strike="noStrike">
                <a:solidFill>
                  <a:srgbClr val="000000"/>
                </a:solidFill>
                <a:latin typeface="AvantGarde Md B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vantGarde Md BT"/>
              </a:rPr>
              <a:t>Nos interesa conocer la respuesta tras una función de transferencia: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series de tiempo de extracción del modelo espacial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Palas extraen desde puntos de extracción y alimentan la planta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vantGarde Md BT"/>
              </a:rPr>
              <a:t>Camiones extraen el material desde distintas frentes y envían a chancado</a:t>
            </a:r>
            <a:endParaRPr b="0" lang="en-US" sz="16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Realidad 3-D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vantGarde Md BT"/>
              </a:rPr>
              <a:t>      Respuesta 1-D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20816" t="34295" r="18757" b="28649"/>
          <a:stretch/>
        </p:blipFill>
        <p:spPr>
          <a:xfrm>
            <a:off x="468360" y="3282840"/>
            <a:ext cx="3198600" cy="277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86200" y="45277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s geológ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Combinación de características geológicas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Litología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Alteracione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Mineralización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4399" b="0"/>
          <a:stretch/>
        </p:blipFill>
        <p:spPr>
          <a:xfrm>
            <a:off x="108000" y="3429000"/>
            <a:ext cx="4103640" cy="2317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8109"/>
          <a:stretch/>
        </p:blipFill>
        <p:spPr>
          <a:xfrm>
            <a:off x="4896000" y="3429000"/>
            <a:ext cx="4022640" cy="2340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965480" y="2241720"/>
            <a:ext cx="2905560" cy="642600"/>
          </a:xfrm>
          <a:prstGeom prst="rect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eyes en el 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acio es compl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023920"/>
            <a:ext cx="973080" cy="1009800"/>
          </a:xfrm>
          <a:custGeom>
            <a:avLst/>
            <a:gdLst>
              <a:gd name="textAreaLeft" fmla="*/ 0 w 973080"/>
              <a:gd name="textAreaRight" fmla="*/ 351360 w 97308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s geológicos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vantGarde Md BT"/>
              </a:rPr>
              <a:t>Modelos complejos:</a:t>
            </a:r>
            <a:endParaRPr b="0" lang="en-US" sz="24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Usualmente, se definen varias “poblaciones” litológicas, de alteración, de mineralización…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vantGarde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vantGarde Md BT"/>
              </a:rPr>
              <a:t>Unidades geológicas se definen en base a estas características</a:t>
            </a:r>
            <a:endParaRPr b="0" lang="en-US" sz="20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900600"/>
            <a:ext cx="4176720" cy="2957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3527" r="0" b="0"/>
          <a:stretch/>
        </p:blipFill>
        <p:spPr>
          <a:xfrm>
            <a:off x="4572000" y="4076640"/>
            <a:ext cx="334800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vantGarde Md BT"/>
              </a:rPr>
              <a:t>Modelo geológico</a:t>
            </a:r>
            <a:endParaRPr b="0" lang="en-US" sz="3600" spc="-1" strike="noStrike">
              <a:solidFill>
                <a:srgbClr val="000000"/>
              </a:solidFill>
              <a:latin typeface="AvantGarde Md B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vantGarde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vantGarde Md BT"/>
              </a:rPr>
              <a:t>Análisis utilizando plantas y secciones</a:t>
            </a:r>
            <a:endParaRPr b="0" lang="en-US" sz="1800" spc="-1" strike="noStrike">
              <a:solidFill>
                <a:srgbClr val="000000"/>
              </a:solidFill>
              <a:latin typeface="AvantGarde Md B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320" y="2622600"/>
            <a:ext cx="4476600" cy="415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91080" y="2622600"/>
            <a:ext cx="4476600" cy="415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9:57:10Z</dcterms:created>
  <dc:creator>Julián Ortiz Cabrera</dc:creator>
  <dc:description/>
  <dc:language>en-US</dc:language>
  <cp:lastModifiedBy>Windows Vista</cp:lastModifiedBy>
  <dcterms:modified xsi:type="dcterms:W3CDTF">2008-04-15T21:14:40Z</dcterms:modified>
  <cp:revision>129</cp:revision>
  <dc:subject/>
  <dc:title>Diapositiva 1</dc:title>
</cp:coreProperties>
</file>