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1AE-8261-47DC-A0C8-89E8B90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B18-C2D9-4D4D-ADF4-F90FA85E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209-B11F-49B7-A45B-89DBC82B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1DF-37C8-43F1-9112-6C349B86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DDF-ED82-499A-88A6-EFE3B2D1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B3C-7726-4477-8FD9-CB5625F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B56-FB95-4208-94F7-A97C49E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292-190A-4838-BCE1-6F7C1011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D2E-8D8E-4C66-9E80-68CC3F25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E38-2157-4FFB-BFB8-CF7AECA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418-D023-4BDE-811B-BC9DBB56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AD4-E349-4203-831E-8B47D877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8C1-F17F-4B2A-94FF-4DEB0EB3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E42DDD3-B7CE-45EA-AD49-9528119D6EC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ación económica con leyes variables</a:t>
            </a:r>
            <a:br>
              <a:rPr sz="28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producción, juega un rol primordial en la determinación del flujo de caja, el que puede afectar toda la estrategia económica de la propiedad min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del chancador y los botaderos, tendrán un mayor efecto en los requerimientos de los sistemas de transporte y los costos oper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743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lla Excel para valorización con leye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1120" cy="145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98680" y="2895480"/>
            <a:ext cx="392580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029200" cy="123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114800"/>
            <a:ext cx="8381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943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venue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28800" y="2057400"/>
                <a:ext cx="510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Y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04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752480" y="281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F = [US$/%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41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factor de utilidad el cuál, multiplicándolo por la ley, nos entrega el Ingreso por unidad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 de descu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4197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= factor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33720" y="1905120"/>
                <a:ext cx="51814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</m:t>
                    </m:r>
                    <m:r>
                      <m:rPr>
                        <m:lit/>
                        <m:nor/>
                      </m:rPr>
                      <m:t xml:space="preserve">Aju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" y="3048120"/>
                <a:ext cx="86961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inicial de la tran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tiempo que ha transcurrido desde el inicio de la extracción por cielo abierto hasta el inicio de la Trans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40384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52680" y="1600200"/>
                <a:ext cx="21337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Ñ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074600"/>
            <a:ext cx="5790960" cy="5173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895480"/>
            <a:ext cx="716256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114800"/>
            <a:ext cx="7162560" cy="2057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por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 = esté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 = Mi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520" y="1752480"/>
                <a:ext cx="7696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ajo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de extraer el bl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PD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elocidad de extracción r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057400"/>
                <a:ext cx="46483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empo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otas an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43200" y="1981080"/>
                <a:ext cx="3200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ici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3505320"/>
                <a:ext cx="708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AnualAju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 aju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00200" y="2209680"/>
                <a:ext cx="57150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otaAnualDesc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447920" y="3962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= Tiempo desde el inicio de la extracción por rajo hasta el inicio de la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Subterr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Subter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=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2133720"/>
                <a:ext cx="6248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subt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io subterráneo descontado +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38400" y="1905120"/>
                <a:ext cx="643716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SubteAjustado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371600" y="3809880"/>
            <a:ext cx="66294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desde el inicio de la extracción por rajo hasta el inicio de la tran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que transcurre desde el inicio de la transición hasta la llegada al 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) Revisión de todos los campos del archivo Excel y proponer cambios, o agregar alguna otra vari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) Realizar un gráfico donde muestre la variabilidad de las leyes de Cu de cada columna (es decir, una gráfico de profundidad vs ley de C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mina a rajo abierto es una excavación superficial, cuyo objetivo es la extracción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lcanzar este mineral, usualmente es necesario excavar grandes cantidades de roca estér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2692440"/>
          <a:ext cx="40384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92440"/>
                    <a:ext cx="40384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bores de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ón de los parámetros físicos de diseño, tales como los tal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lanificación del programa de extracción de mineral y estér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Construcción de un modelo de base de datos del yacimiento, incluyendo su información topográfica, geológica, geotécnica y de co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apa conceptual en la cual se consideran las alternativas de dise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jemplo, un sistema de transporte de materiales convencional que utilice camiones de transporte, resultará en un diseño minero distinto de un sistema de transporte y chancado dentro del p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ecuencia de extracción se debe diseñar tomando en cuenta la ubicación del sistema de correas transportadoras y el de la chancadora in-pit, los cuales se deberán trasladar hacia diferentes puntos cada cierto tiempo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oto y transportador "/>
          <p:cNvPicPr/>
          <p:nvPr/>
        </p:nvPicPr>
        <p:blipFill>
          <a:blip r:embed="rId2"/>
          <a:stretch/>
        </p:blipFill>
        <p:spPr>
          <a:xfrm>
            <a:off x="3276720" y="3772080"/>
            <a:ext cx="243828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971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número de camiones requerido en el pit, dependerá del tipo de transporte que se selecc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siempre muchas alternativas para crear una mina a rajo abierto y cada una de éstas resultará en un plan de extracción y flujo de caja disti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61288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y el tamaño de las insta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jemplo, el tamaño de la planta procesadora y del chancador, determinarán la capacidad de producción máxima de la m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23T00:49:34Z</dcterms:modified>
  <cp:revision>125</cp:revision>
  <dc:subject/>
  <dc:title>Design and Planning of Block Caving Operations</dc:title>
</cp:coreProperties>
</file>