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D257-64E8-472C-B6CB-1A3260CE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353-5A86-4C13-B209-BF9BA1ED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43C-A36A-4EB2-9F78-60A5DF5B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330-A652-4F76-89AF-E3384FAE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0A1-289A-44D0-A9CA-C55EED64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D60-D73B-4AEC-9E3D-58C1448B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2E52-A882-4EFF-9D67-605D2344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AB7-A45D-42D7-A514-9EC0A388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70B-833D-4FD2-9379-00F48B5C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0442-9951-477E-82DA-1B3F39C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513F-AD0C-4FFA-B2BF-24937EE0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43A-F725-40B7-8957-F52C2749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3198-8A2E-450D-99D9-28BC3D4DC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6720" y="64771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lide </a:t>
            </a:r>
            <a:fld id="{A22C8392-9AB7-4F32-99AE-56CDB107562C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-4680" y="5991120"/>
            <a:ext cx="266688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aller de Proyecto Minero:</a:t>
            </a:r>
            <a:br>
              <a:rPr sz="40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ación económica con leyes variables</a:t>
            </a:r>
            <a:br>
              <a:rPr sz="28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las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producción, juega un rol primordial en la determinación del flujo de caja, el que puede afectar toda la estrategia económica de la propiedad min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ubicación del chancador y los botaderos, tendrán un mayor efecto en los requerimientos de los sistemas de transporte y los costos oper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2743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illa Excel para valorización con leyes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1371600"/>
            <a:ext cx="4191120" cy="1455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398680" y="2895480"/>
            <a:ext cx="3925800" cy="1613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905120" y="4648320"/>
            <a:ext cx="5029200" cy="1231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04920" y="4114800"/>
            <a:ext cx="8381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5410080"/>
            <a:ext cx="5943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venue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28800" y="2057400"/>
                <a:ext cx="51055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u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Y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2204</m:t>
                    </m:r>
                    <m:r>
                      <m:t xml:space="preserve">,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752480" y="2819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F = [US$/%C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3841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 un factor de utilidad el cuál, multiplicándolo por la ley, nos entrega el Ingreso por unidad de mi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actor de descu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4419720"/>
            <a:ext cx="6477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= tasa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 = factor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133720" y="1905120"/>
                <a:ext cx="51814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</m:t>
                    </m:r>
                    <m:r>
                      <m:rPr>
                        <m:lit/>
                        <m:nor/>
                      </m:rPr>
                      <m:t xml:space="preserve">Ajus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28600" y="3048120"/>
                <a:ext cx="869616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q</m:t>
                                </m:r>
                              </m:e>
                            </m:d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t xml:space="preserve">q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q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empo inicial de la trans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tiempo que ha transcurrido desde el inicio de la extracción por cielo abierto hasta el inicio de la Transi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40384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Rend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l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t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352680" y="1600200"/>
                <a:ext cx="213372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A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ÑO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76520" y="1074600"/>
            <a:ext cx="5790960" cy="5173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lanilla Ex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2895480"/>
            <a:ext cx="7162560" cy="12193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4114800"/>
            <a:ext cx="7162560" cy="2057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Extracción por R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274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R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F = Revenue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 = esté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 = Mi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 = 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33520" y="1752480"/>
                <a:ext cx="769608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ajo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empo de extraer el blo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34340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PD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= Velocidad de extracción r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752480" y="2057400"/>
                <a:ext cx="46483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empoH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uotas an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743200" y="1981080"/>
                <a:ext cx="32004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uotaAnua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nefici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2120" y="3505320"/>
                <a:ext cx="70866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AnualAjus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otaAnual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rajo aju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600200" y="2209680"/>
                <a:ext cx="571500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Dc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uotaAnualDesc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447920" y="39625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 = Tiempo desde el inicio de la extracción por rajo hasta el inicio de la transi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200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so Extracción Subterrán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eneficio Subterráne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276360"/>
            <a:ext cx="82296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F = Revenue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 =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= Mi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0720" y="2133720"/>
                <a:ext cx="624816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subte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⋅</m:t>
                    </m:r>
                    <m:r>
                      <m:t xml:space="preserve">l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p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neficio subterráneo descontado +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238400" y="1905120"/>
                <a:ext cx="643716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nefDct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enefSubteAjustado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a</m:t>
                                </m:r>
                              </m:e>
                            </m:d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1371600" y="3809880"/>
            <a:ext cx="66294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iempo desde el inicio de la extracción por rajo hasta el inicio de la transi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 Tiempo que transcurre desde el inicio de la transición hasta la llegada al 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= Tasa de descu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rcici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) Revisión de todos los campos del archivo Excel y proponer cambios, o agregar alguna otra vari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) Realizar un gráfico donde muestre la variabilidad de las leyes de Cu de cada columna (es decir, una gráfico de profundidad vs ley de Cu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mina a rajo abierto es una excavación superficial, cuyo objetivo es la extracción de min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alcanzar este mineral, usualmente es necesario excavar grandes cantidades de roca estér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48320" y="2692440"/>
          <a:ext cx="40384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692440"/>
                    <a:ext cx="40384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étodo de explotación por ciel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77724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bores de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lección de los parámetros físicos de diseño, tales como los talu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lanificación del programa de extracción de mineral y estér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. Construcción de un modelo de base de datos del yacimiento, incluyendo su información topográfica, geológica, geotécnica y de cos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tapa conceptual en la cual se consideran las alternativas de diseñ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ejemplo, un sistema de transporte de materiales convencional que utilice camiones de transporte, resultará en un diseño minero distinto de un sistema de transporte y chancado dentro del pit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secuencia de extracción se debe diseñar tomando en cuenta la ubicación del sistema de correas transportadoras y el de la chancadora in-pit, los cuales se deberán trasladar hacia diferentes puntos cada cierto tiempo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38080" y="3809880"/>
            <a:ext cx="2114640" cy="2114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Foto y transportador "/>
          <p:cNvPicPr/>
          <p:nvPr/>
        </p:nvPicPr>
        <p:blipFill>
          <a:blip r:embed="rId2"/>
          <a:stretch/>
        </p:blipFill>
        <p:spPr>
          <a:xfrm>
            <a:off x="3276720" y="3772080"/>
            <a:ext cx="2438280" cy="21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943600" y="3809880"/>
            <a:ext cx="2971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número de camiones requerido en el pit, dependerá del tipo de transporte que se seleccio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n siempre muchas alternativas para crear una mina a rajo abierto y cada una de éstas resultará en un plan de extracción y flujo de caja disti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61288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ubicación y el tamaño de las instal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ejemplo, el tamaño de la planta procesadora y del chancador, determinarán la capacidad de producción máxima de la m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7:53:56Z</dcterms:created>
  <dc:creator>Enrique Rubio</dc:creator>
  <dc:description/>
  <dc:language>en-US</dc:language>
  <cp:lastModifiedBy>Freddy Rojas</cp:lastModifiedBy>
  <dcterms:modified xsi:type="dcterms:W3CDTF">2008-04-23T00:49:34Z</dcterms:modified>
  <cp:revision>125</cp:revision>
  <dc:subject/>
  <dc:title>Design and Planning of Block Caving Operations</dc:title>
</cp:coreProperties>
</file>