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FF5-42FF-4FD4-9628-C9C8F20C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696-C0FF-48C7-BA6F-7BE76887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9AC-FEB0-4F04-9633-5CFE120B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43D-A55E-4A2D-8FEB-DF34E2CC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A71-371C-4F6A-81B3-DB0A9D3E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0ED-B673-42DA-8D84-71FA4C42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6CA-D50D-42D5-9B34-13A634F2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7CE-9699-4660-830B-CF153AF8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E26-66B4-4BFF-9843-54E26A8B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277-D0C8-490D-AAAA-73792AB9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7A4-E9CB-464B-A1C8-9E6BF0D9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900-B00C-4E23-BA75-2EF64561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247A-9946-4CB0-A01F-61E64E215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67EE03A-9955-4133-81D7-71F20A3D3B7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Minero:</a:t>
            </a:r>
            <a:br>
              <a:rPr sz="40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oración económica con leyes variables</a:t>
            </a:r>
            <a:br>
              <a:rPr sz="28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apacidad de producción, juega un rol primordial en la determinación del flujo de caja, el que puede afectar toda la estrategia económica de la propiedad min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ubicación del chancador y los botaderos, tendrán un mayor efecto en los requerimientos de los sistemas de transporte y los costos opera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743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illa Excel para valorización con leyes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lanilla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lanilla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191120" cy="1455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398680" y="2895480"/>
            <a:ext cx="3925800" cy="1613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905120" y="4648320"/>
            <a:ext cx="5029200" cy="1231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114800"/>
            <a:ext cx="8381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410080"/>
            <a:ext cx="59436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venue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828800" y="2057400"/>
                <a:ext cx="5105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F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Y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204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752480" y="281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F = [US$/%C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3841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 factor de utilidad el cuál, multiplicándolo por la ley, nos entrega el Ingreso por unidad de min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actor de descu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41972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= tasa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 = factor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133720" y="1905120"/>
                <a:ext cx="51814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nef</m:t>
                    </m:r>
                    <m:r>
                      <m:rPr>
                        <m:lit/>
                        <m:nor/>
                      </m:rPr>
                      <m:t xml:space="preserve">Aju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8600" y="3048120"/>
                <a:ext cx="86961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empo inicial de la tran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el tiempo que ha transcurrido desde el inicio de la extracción por cielo abierto hasta el inicio de la Transi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40384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nd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te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52680" y="1600200"/>
                <a:ext cx="21337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ÑO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76520" y="1074600"/>
            <a:ext cx="5790960" cy="5173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lanilla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895480"/>
            <a:ext cx="7162560" cy="121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4114800"/>
            <a:ext cx="7162560" cy="2057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o Extracción por 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520" y="274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 de Explotación por Cielo Abie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eneficio R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F = Revenue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 = esté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 = Mi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 =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3520" y="1752480"/>
                <a:ext cx="76960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ajo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F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p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empo de extraer el bl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PD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Velocidad de extracción r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752480" y="2057400"/>
                <a:ext cx="46483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empoH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P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otas an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743200" y="1981080"/>
                <a:ext cx="32004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otaAnua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enefici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2120" y="3505320"/>
                <a:ext cx="7086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nefAnualAjus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uotaAnual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eneficio rajo ajus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600200" y="2209680"/>
                <a:ext cx="571500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nefDct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otaAnualDesc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447920" y="39625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 = Tiempo desde el inicio de la extracción por rajo hasta el inicio de la tran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o Extracción Subterrán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eneficio Subterrá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F = Revenue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 =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=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90720" y="2133720"/>
                <a:ext cx="62481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subt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F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p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eneficio subterráneo descontado +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238400" y="1905120"/>
                <a:ext cx="6437160" cy="13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nefDct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enefSubteAjustado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1371600" y="3809880"/>
            <a:ext cx="66294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Tiempo desde el inicio de la extracción por rajo hasta el inicio de la tran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Tiempo que transcurre desde el inicio de la transición hasta la llegada al 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= Tasa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) Revisión de todos los campos del archivo Excel y proponer cambios, o agregar alguna otra vari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) Realizar un gráfico donde muestre la variabilidad de las leyes de Cu de cada columna (es decir, una gráfico de profundidad vs ley de C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étodo de explotación por cielo abie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mina a rajo abierto es una excavación superficial, cuyo objetivo es la extracción de min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alcanzar este mineral, usualmente es necesario excavar grandes cantidades de roca estér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48320" y="2692440"/>
          <a:ext cx="40384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692440"/>
                    <a:ext cx="40384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étodo de explotación por cielo abie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7724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bores de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lección de los parámetros físicos de diseño, tales como los talu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lanificación del programa de extracción de mineral y estér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 Construcción de un modelo de base de datos del yacimiento, incluyendo su información topográfica, geológica, geotécnica y de cos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apa conceptual en la cual se consideran las alternativas de diseñ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ejemplo, un sistema de transporte de materiales convencional que utilice camiones de transporte, resultará en un diseño minero distinto de un sistema de transporte y chancado dentro del pi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secuencia de extracción se debe diseñar tomando en cuenta la ubicación del sistema de correas transportadoras y el de la chancadora in-pit, los cuales se deberán trasladar hacia diferentes puntos cada cierto tiempo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2114640" cy="211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Foto y transportador "/>
          <p:cNvPicPr/>
          <p:nvPr/>
        </p:nvPicPr>
        <p:blipFill>
          <a:blip r:embed="rId2"/>
          <a:stretch/>
        </p:blipFill>
        <p:spPr>
          <a:xfrm>
            <a:off x="3276720" y="3772080"/>
            <a:ext cx="2438280" cy="21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3809880"/>
            <a:ext cx="29718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número de camiones requerido en el pit, dependerá del tipo de transporte que se selecci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n siempre muchas alternativas para crear una mina a rajo abierto y cada una de éstas resultará en un plan de extracción y flujo de caja distin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61288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ubicación y el tamaño de las instal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ejemplo, el tamaño de la planta procesadora y del chancador, determinarán la capacidad de producción máxima de la m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4-23T00:49:34Z</dcterms:modified>
  <cp:revision>125</cp:revision>
  <dc:subject/>
  <dc:title>Design and Planning of Block Caving Operations</dc:title>
</cp:coreProperties>
</file>