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AF4D-929C-4F5A-B6DA-8CB8C4C0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6B6E-3995-4937-A2C0-A865E770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BC71-C889-4A0D-A7A2-3FAEADB0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081-8FC8-4C82-8194-FCAF241F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8E9-8002-4960-833E-6B4B67E7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682F-B530-4EC6-8595-7AD27687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D555-CD51-4CDA-955B-6830088B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9348-E91B-4C0C-B210-606B61FF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D98-EA36-4AC8-BA71-747252C1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3AEF-4196-41C8-A7E6-26EC67F0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62E2-4F7B-4669-A2ED-C23990C6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EBB-4BDE-4F0C-BDB0-9FB6B8AE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A1CC-4B72-4750-90CF-9F9261F58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AD31CEC2-5AC8-4ADA-92DD-14DB6F41C26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Minero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librio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219320" y="1295280"/>
            <a:ext cx="6565320" cy="4465440"/>
            <a:chOff x="1219320" y="1295280"/>
            <a:chExt cx="6565320" cy="4465440"/>
          </a:xfrm>
        </p:grpSpPr>
        <p:sp>
          <p:nvSpPr>
            <p:cNvPr id="47" name=""/>
            <p:cNvSpPr/>
            <p:nvPr/>
          </p:nvSpPr>
          <p:spPr>
            <a:xfrm>
              <a:off x="4439160" y="1797120"/>
              <a:ext cx="618120" cy="3963600"/>
            </a:xfrm>
            <a:prstGeom prst="rect">
              <a:avLst/>
            </a:prstGeom>
            <a:solidFill>
              <a:srgbClr val="ffff99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616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39160" y="4365360"/>
              <a:ext cx="618120" cy="446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13760" y="4132800"/>
              <a:ext cx="556920" cy="222480"/>
            </a:xfrm>
            <a:prstGeom prst="ellipse">
              <a:avLst/>
            </a:prstGeom>
            <a:solidFill>
              <a:srgbClr val="3366ff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"/>
            <p:cNvCxnSpPr>
              <a:stCxn id="50" idx="2"/>
              <a:endCxn id="52" idx="2"/>
            </p:cNvCxnSpPr>
            <p:nvPr/>
          </p:nvCxnSpPr>
          <p:spPr>
            <a:xfrm flipH="1" flipV="1">
              <a:off x="2953080" y="1686240"/>
              <a:ext cx="1661040" cy="255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" name=""/>
            <p:cNvCxnSpPr>
              <a:stCxn id="50" idx="6"/>
              <a:endCxn id="52" idx="6"/>
            </p:cNvCxnSpPr>
            <p:nvPr/>
          </p:nvCxnSpPr>
          <p:spPr>
            <a:xfrm flipV="1">
              <a:off x="5171040" y="1686240"/>
              <a:ext cx="2032200" cy="255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4" name=""/>
            <p:cNvSpPr/>
            <p:nvPr/>
          </p:nvSpPr>
          <p:spPr>
            <a:xfrm>
              <a:off x="4602960" y="4568400"/>
              <a:ext cx="495720" cy="223920"/>
            </a:xfrm>
            <a:prstGeom prst="ellipse">
              <a:avLst/>
            </a:prstGeom>
            <a:solidFill>
              <a:srgbClr val="0000ff">
                <a:alpha val="1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"/>
            <p:cNvCxnSpPr>
              <a:stCxn id="54" idx="6"/>
              <a:endCxn id="48" idx="6"/>
            </p:cNvCxnSpPr>
            <p:nvPr/>
          </p:nvCxnSpPr>
          <p:spPr>
            <a:xfrm flipV="1">
              <a:off x="5098320" y="1713960"/>
              <a:ext cx="2686680" cy="2966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" name=""/>
            <p:cNvCxnSpPr>
              <a:stCxn id="54" idx="2"/>
              <a:endCxn id="48" idx="2"/>
            </p:cNvCxnSpPr>
            <p:nvPr/>
          </p:nvCxnSpPr>
          <p:spPr>
            <a:xfrm flipH="1" flipV="1">
              <a:off x="2395800" y="1713960"/>
              <a:ext cx="2206800" cy="2966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2" name=""/>
            <p:cNvSpPr/>
            <p:nvPr/>
          </p:nvSpPr>
          <p:spPr>
            <a:xfrm>
              <a:off x="295344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19320" y="363564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44520" y="4476240"/>
              <a:ext cx="24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3240" y="1686240"/>
              <a:ext cx="0" cy="4074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29200" y="1686240"/>
              <a:ext cx="0" cy="2901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53400" y="4420800"/>
              <a:ext cx="0" cy="38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080680" y="4685040"/>
              <a:ext cx="232200" cy="279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39160" y="4962240"/>
              <a:ext cx="556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61640" y="2970000"/>
              <a:ext cx="24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0200" y="4946400"/>
              <a:ext cx="2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91840" y="4834440"/>
              <a:ext cx="2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36280" y="3192840"/>
              <a:ext cx="928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69000" y="2913480"/>
              <a:ext cx="219600" cy="279000"/>
            </a:xfrm>
            <a:custGeom>
              <a:avLst/>
              <a:gdLst/>
              <a:ahLst/>
              <a:rect l="l" t="t" r="r" b="b"/>
              <a:pathLst>
                <a:path w="161" h="227">
                  <a:moveTo>
                    <a:pt x="0" y="0"/>
                  </a:moveTo>
                  <a:cubicBezTo>
                    <a:pt x="23" y="14"/>
                    <a:pt x="115" y="48"/>
                    <a:pt x="138" y="86"/>
                  </a:cubicBezTo>
                  <a:cubicBezTo>
                    <a:pt x="161" y="124"/>
                    <a:pt x="136" y="198"/>
                    <a:pt x="136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85840" y="2940480"/>
              <a:ext cx="24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9472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5200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9616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5344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blema 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) +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Cp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reekS"/>
                <a:ea typeface="Greek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GreekS"/>
                <a:ea typeface="Greek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reekS"/>
              </a:rPr>
              <a:t>den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INGRE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greso</a:t>
            </a:r>
            <a:r>
              <a:rPr b="0" lang="es-ES" sz="36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(P  – C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)  don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   = Tasa de descu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reekS"/>
              </a:rPr>
              <a:t>Densidad (t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reek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reek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gres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P –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ond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   = Tasa de descu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reekS"/>
              </a:rPr>
              <a:t>Densidad (t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reek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reek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+r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 [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+r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[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p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 = 0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-Sub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908000" y="722160"/>
            <a:ext cx="2233800" cy="3282840"/>
            <a:chOff x="1908000" y="722160"/>
            <a:chExt cx="2233800" cy="3282840"/>
          </a:xfrm>
        </p:grpSpPr>
        <p:grpSp>
          <p:nvGrpSpPr>
            <p:cNvPr id="85" name=""/>
            <p:cNvGrpSpPr/>
            <p:nvPr/>
          </p:nvGrpSpPr>
          <p:grpSpPr>
            <a:xfrm>
              <a:off x="1908000" y="722160"/>
              <a:ext cx="2233800" cy="3191040"/>
              <a:chOff x="1908000" y="722160"/>
              <a:chExt cx="2233800" cy="3191040"/>
            </a:xfrm>
          </p:grpSpPr>
          <p:sp>
            <p:nvSpPr>
              <p:cNvPr id="86" name=""/>
              <p:cNvSpPr/>
              <p:nvPr/>
            </p:nvSpPr>
            <p:spPr>
              <a:xfrm>
                <a:off x="1908000" y="1031760"/>
                <a:ext cx="1584360" cy="287280"/>
              </a:xfrm>
              <a:prstGeom prst="ellipse">
                <a:avLst/>
              </a:prstGeom>
              <a:solidFill>
                <a:srgbClr val="bbe0e3">
                  <a:alpha val="6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9800" y="1176120"/>
                <a:ext cx="1584360" cy="2592360"/>
              </a:xfrm>
              <a:prstGeom prst="flowChartMerg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341440" y="1746000"/>
                <a:ext cx="5047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512800" y="722160"/>
                <a:ext cx="50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70160" y="2336760"/>
                <a:ext cx="863640" cy="144360"/>
              </a:xfrm>
              <a:prstGeom prst="ellipse">
                <a:avLst/>
              </a:prstGeom>
              <a:solidFill>
                <a:srgbClr val="bbe0e3">
                  <a:alpha val="6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637080" y="16794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700360" y="815760"/>
                <a:ext cx="0" cy="3097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8360" y="1176120"/>
                <a:ext cx="0" cy="1295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529000" y="207792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195280" y="2420640"/>
              <a:ext cx="1008360" cy="1584360"/>
            </a:xfrm>
            <a:custGeom>
              <a:avLst/>
              <a:gdLst/>
              <a:ahLst/>
              <a:rect l="l" t="t" r="r" b="b"/>
              <a:pathLst>
                <a:path w="635" h="998">
                  <a:moveTo>
                    <a:pt x="45" y="0"/>
                  </a:moveTo>
                  <a:lnTo>
                    <a:pt x="136" y="45"/>
                  </a:lnTo>
                  <a:lnTo>
                    <a:pt x="499" y="45"/>
                  </a:lnTo>
                  <a:lnTo>
                    <a:pt x="635" y="0"/>
                  </a:lnTo>
                  <a:lnTo>
                    <a:pt x="318" y="998"/>
                  </a:lnTo>
                  <a:lnTo>
                    <a:pt x="0" y="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995640" y="1225440"/>
            <a:ext cx="33847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V =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h / 12 (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+ D’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+ DD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’ = D + 2 h tg(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+H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- 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58560" y="2922480"/>
            <a:ext cx="6913440" cy="3528720"/>
            <a:chOff x="1258560" y="2922480"/>
            <a:chExt cx="6913440" cy="3528720"/>
          </a:xfrm>
        </p:grpSpPr>
        <p:sp>
          <p:nvSpPr>
            <p:cNvPr id="98" name=""/>
            <p:cNvSpPr/>
            <p:nvPr/>
          </p:nvSpPr>
          <p:spPr>
            <a:xfrm>
              <a:off x="3274920" y="5391000"/>
              <a:ext cx="431280" cy="216000"/>
            </a:xfrm>
            <a:prstGeom prst="rect">
              <a:avLst/>
            </a:prstGeom>
            <a:solidFill>
              <a:srgbClr val="ffcc99">
                <a:alpha val="9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258560" y="3425760"/>
              <a:ext cx="6049800" cy="2317680"/>
              <a:chOff x="1258560" y="3425760"/>
              <a:chExt cx="6049800" cy="2317680"/>
            </a:xfrm>
          </p:grpSpPr>
          <p:sp>
            <p:nvSpPr>
              <p:cNvPr id="100" name=""/>
              <p:cNvSpPr/>
              <p:nvPr/>
            </p:nvSpPr>
            <p:spPr>
              <a:xfrm>
                <a:off x="1258920" y="3425760"/>
                <a:ext cx="4752720" cy="504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203280" y="5289480"/>
                <a:ext cx="720360" cy="144360"/>
              </a:xfrm>
              <a:prstGeom prst="ellipse">
                <a:avLst/>
              </a:prstGeom>
              <a:solidFill>
                <a:srgbClr val="bbe0e3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74560" y="3562200"/>
                <a:ext cx="424944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03280" y="5505480"/>
                <a:ext cx="720360" cy="144360"/>
              </a:xfrm>
              <a:prstGeom prst="ellipse">
                <a:avLst/>
              </a:prstGeom>
              <a:solidFill>
                <a:srgbClr val="bbe0e3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" name=""/>
              <p:cNvCxnSpPr>
                <a:stCxn id="100" idx="6"/>
                <a:endCxn id="103" idx="6"/>
              </p:cNvCxnSpPr>
              <p:nvPr/>
            </p:nvCxnSpPr>
            <p:spPr>
              <a:xfrm flipH="1">
                <a:off x="3923640" y="3678120"/>
                <a:ext cx="2088000" cy="190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" name=""/>
              <p:cNvCxnSpPr>
                <a:stCxn id="100" idx="2"/>
                <a:endCxn id="103" idx="2"/>
              </p:cNvCxnSpPr>
              <p:nvPr/>
            </p:nvCxnSpPr>
            <p:spPr>
              <a:xfrm>
                <a:off x="1258560" y="3678120"/>
                <a:ext cx="1945080" cy="190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6" name=""/>
              <p:cNvCxnSpPr>
                <a:stCxn id="102" idx="2"/>
                <a:endCxn id="101" idx="2"/>
              </p:cNvCxnSpPr>
              <p:nvPr/>
            </p:nvCxnSpPr>
            <p:spPr>
              <a:xfrm>
                <a:off x="1474200" y="3669840"/>
                <a:ext cx="1729080" cy="169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7" name=""/>
              <p:cNvCxnSpPr>
                <a:stCxn id="102" idx="6"/>
                <a:endCxn id="101" idx="6"/>
              </p:cNvCxnSpPr>
              <p:nvPr/>
            </p:nvCxnSpPr>
            <p:spPr>
              <a:xfrm flipH="1">
                <a:off x="3923640" y="3669840"/>
                <a:ext cx="1800720" cy="169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>
                <a:off x="6227640" y="3655800"/>
                <a:ext cx="0" cy="20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36840" y="5362560"/>
                <a:ext cx="36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16360" y="420984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516360" y="529884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92000" y="5362560"/>
                <a:ext cx="50400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92000" y="5578200"/>
                <a:ext cx="50400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211280" y="2963880"/>
              <a:ext cx="2349360" cy="714240"/>
            </a:xfrm>
            <a:custGeom>
              <a:avLst/>
              <a:gdLst/>
              <a:ahLst/>
              <a:rect l="l" t="t" r="r" b="b"/>
              <a:pathLst>
                <a:path w="1480" h="450">
                  <a:moveTo>
                    <a:pt x="0" y="450"/>
                  </a:moveTo>
                  <a:cubicBezTo>
                    <a:pt x="135" y="385"/>
                    <a:pt x="561" y="114"/>
                    <a:pt x="808" y="57"/>
                  </a:cubicBezTo>
                  <a:cubicBezTo>
                    <a:pt x="1055" y="0"/>
                    <a:pt x="1340" y="97"/>
                    <a:pt x="1480" y="107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95640" y="3425760"/>
              <a:ext cx="1295280" cy="276120"/>
            </a:xfrm>
            <a:custGeom>
              <a:avLst/>
              <a:gdLst/>
              <a:ahLst/>
              <a:rect l="l" t="t" r="r" b="b"/>
              <a:pathLst>
                <a:path w="1769" h="537">
                  <a:moveTo>
                    <a:pt x="0" y="537"/>
                  </a:moveTo>
                  <a:cubicBezTo>
                    <a:pt x="170" y="306"/>
                    <a:pt x="340" y="76"/>
                    <a:pt x="635" y="38"/>
                  </a:cubicBezTo>
                  <a:cubicBezTo>
                    <a:pt x="930" y="0"/>
                    <a:pt x="1349" y="155"/>
                    <a:pt x="1769" y="31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89360" y="2922480"/>
              <a:ext cx="60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19640" y="3354480"/>
              <a:ext cx="1152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h+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01840" y="5802480"/>
              <a:ext cx="2915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e</a:t>
              </a: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 = 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h+H</a:t>
              </a: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 - 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 a desarro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contrar                    sabiendo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Rajo-Subt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[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+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] / [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+r ]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 -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[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-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p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] / [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+r ]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h+H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h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743200" y="1523880"/>
                <a:ext cx="22096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AJO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TE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Freddy Rojas</cp:lastModifiedBy>
  <dcterms:modified xsi:type="dcterms:W3CDTF">2008-04-01T23:31:12Z</dcterms:modified>
  <cp:revision>75</cp:revision>
  <dc:subject/>
  <dc:title>Design and Planning of Block Caving Operations</dc:title>
</cp:coreProperties>
</file>