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5CA-053D-46B5-A0AF-F970E75C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61F-AD52-4C82-8C73-C4765063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FAB-7B24-4C1C-8C0F-B0851447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D5B-CF06-480C-9DAC-6234E103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A75-F82E-48BF-B6A2-08E3CF35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D44-B279-4DB1-835D-EB532779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196-FEB7-4C78-9AAE-F5721645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ACD-AE90-438E-B183-0FACD0E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C65-CEAA-419B-83F7-7C94A07A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7C5-EB1A-4CB0-AB43-17A5E1E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AF1-7DD8-44B4-8CAE-22DA3A40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7F3-BD2A-4092-AA5D-D687DEC2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C047-248D-4F1D-B738-C81F816B7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9113FE9-90EE-47BB-B82A-99BB00CBEFA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ibri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19320" y="1295280"/>
            <a:ext cx="6565320" cy="4465440"/>
            <a:chOff x="1219320" y="1295280"/>
            <a:chExt cx="6565320" cy="4465440"/>
          </a:xfrm>
        </p:grpSpPr>
        <p:sp>
          <p:nvSpPr>
            <p:cNvPr id="47" name=""/>
            <p:cNvSpPr/>
            <p:nvPr/>
          </p:nvSpPr>
          <p:spPr>
            <a:xfrm>
              <a:off x="4439160" y="1797120"/>
              <a:ext cx="618120" cy="3963600"/>
            </a:xfrm>
            <a:prstGeom prst="rect">
              <a:avLst/>
            </a:prstGeom>
            <a:solidFill>
              <a:srgbClr val="ffff99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39160" y="4365360"/>
              <a:ext cx="618120" cy="446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13760" y="4132800"/>
              <a:ext cx="556920" cy="222480"/>
            </a:xfrm>
            <a:prstGeom prst="ellipse">
              <a:avLst/>
            </a:prstGeom>
            <a:solidFill>
              <a:srgbClr val="3366ff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50" idx="2"/>
              <a:endCxn id="52" idx="2"/>
            </p:cNvCxnSpPr>
            <p:nvPr/>
          </p:nvCxnSpPr>
          <p:spPr>
            <a:xfrm flipH="1" flipV="1">
              <a:off x="2953080" y="1686240"/>
              <a:ext cx="166104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50" idx="6"/>
              <a:endCxn id="52" idx="6"/>
            </p:cNvCxnSpPr>
            <p:nvPr/>
          </p:nvCxnSpPr>
          <p:spPr>
            <a:xfrm flipV="1">
              <a:off x="5171040" y="1686240"/>
              <a:ext cx="203220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"/>
            <p:cNvSpPr/>
            <p:nvPr/>
          </p:nvSpPr>
          <p:spPr>
            <a:xfrm>
              <a:off x="4602960" y="4568400"/>
              <a:ext cx="495720" cy="223920"/>
            </a:xfrm>
            <a:prstGeom prst="ellipse">
              <a:avLst/>
            </a:prstGeom>
            <a:solidFill>
              <a:srgbClr val="0000ff">
                <a:alpha val="1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4" idx="6"/>
              <a:endCxn id="48" idx="6"/>
            </p:cNvCxnSpPr>
            <p:nvPr/>
          </p:nvCxnSpPr>
          <p:spPr>
            <a:xfrm flipV="1">
              <a:off x="5098320" y="1713960"/>
              <a:ext cx="268668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54" idx="2"/>
              <a:endCxn id="48" idx="2"/>
            </p:cNvCxnSpPr>
            <p:nvPr/>
          </p:nvCxnSpPr>
          <p:spPr>
            <a:xfrm flipH="1" flipV="1">
              <a:off x="2395800" y="1713960"/>
              <a:ext cx="220680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19320" y="363564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4520" y="447624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3240" y="1686240"/>
              <a:ext cx="0" cy="40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9200" y="1686240"/>
              <a:ext cx="0" cy="290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53400" y="4420800"/>
              <a:ext cx="0" cy="38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80680" y="4685040"/>
              <a:ext cx="232200" cy="27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39160" y="4962240"/>
              <a:ext cx="556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61640" y="297000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0200" y="494640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91840" y="483444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36280" y="3192840"/>
              <a:ext cx="928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69000" y="2913480"/>
              <a:ext cx="219600" cy="279000"/>
            </a:xfrm>
            <a:custGeom>
              <a:avLst/>
              <a:gdLst/>
              <a:ahLst/>
              <a:rect l="l" t="t" r="r" b="b"/>
              <a:pathLst>
                <a:path w="161" h="227">
                  <a:moveTo>
                    <a:pt x="0" y="0"/>
                  </a:moveTo>
                  <a:cubicBezTo>
                    <a:pt x="23" y="14"/>
                    <a:pt x="115" y="48"/>
                    <a:pt x="138" y="86"/>
                  </a:cubicBezTo>
                  <a:cubicBezTo>
                    <a:pt x="161" y="124"/>
                    <a:pt x="136" y="198"/>
                    <a:pt x="13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85840" y="2940480"/>
              <a:ext cx="24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9472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5200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) +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Cp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reekS"/>
                <a:ea typeface="Greek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GreekS"/>
                <a:ea typeface="Greek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reekS"/>
              </a:rPr>
              <a:t>d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6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(P  – C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 don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 –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 = 0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-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908000" y="722160"/>
            <a:ext cx="2233800" cy="3282840"/>
            <a:chOff x="1908000" y="722160"/>
            <a:chExt cx="2233800" cy="3282840"/>
          </a:xfrm>
        </p:grpSpPr>
        <p:grpSp>
          <p:nvGrpSpPr>
            <p:cNvPr id="85" name=""/>
            <p:cNvGrpSpPr/>
            <p:nvPr/>
          </p:nvGrpSpPr>
          <p:grpSpPr>
            <a:xfrm>
              <a:off x="1908000" y="722160"/>
              <a:ext cx="2233800" cy="3191040"/>
              <a:chOff x="1908000" y="722160"/>
              <a:chExt cx="2233800" cy="3191040"/>
            </a:xfrm>
          </p:grpSpPr>
          <p:sp>
            <p:nvSpPr>
              <p:cNvPr id="86" name=""/>
              <p:cNvSpPr/>
              <p:nvPr/>
            </p:nvSpPr>
            <p:spPr>
              <a:xfrm>
                <a:off x="1908000" y="1031760"/>
                <a:ext cx="1584360" cy="28728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9800" y="1176120"/>
                <a:ext cx="1584360" cy="2592360"/>
              </a:xfrm>
              <a:prstGeom prst="flowChartMerg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41440" y="1746000"/>
                <a:ext cx="504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12800" y="72216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70160" y="2336760"/>
                <a:ext cx="863640" cy="14436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37080" y="16794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00360" y="815760"/>
                <a:ext cx="0" cy="3097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8360" y="1176120"/>
                <a:ext cx="0" cy="1295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29000" y="20779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195280" y="2420640"/>
              <a:ext cx="1008360" cy="1584360"/>
            </a:xfrm>
            <a:custGeom>
              <a:avLst/>
              <a:gdLst/>
              <a:ahLst/>
              <a:rect l="l" t="t" r="r" b="b"/>
              <a:pathLst>
                <a:path w="635" h="998">
                  <a:moveTo>
                    <a:pt x="45" y="0"/>
                  </a:moveTo>
                  <a:lnTo>
                    <a:pt x="136" y="45"/>
                  </a:lnTo>
                  <a:lnTo>
                    <a:pt x="499" y="45"/>
                  </a:lnTo>
                  <a:lnTo>
                    <a:pt x="635" y="0"/>
                  </a:lnTo>
                  <a:lnTo>
                    <a:pt x="318" y="998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95640" y="1225440"/>
            <a:ext cx="33847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 =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h / 12 (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’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D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’ = D + 2 h tg(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+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-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58560" y="2922480"/>
            <a:ext cx="6913440" cy="3528720"/>
            <a:chOff x="1258560" y="2922480"/>
            <a:chExt cx="6913440" cy="3528720"/>
          </a:xfrm>
        </p:grpSpPr>
        <p:sp>
          <p:nvSpPr>
            <p:cNvPr id="98" name=""/>
            <p:cNvSpPr/>
            <p:nvPr/>
          </p:nvSpPr>
          <p:spPr>
            <a:xfrm>
              <a:off x="3274920" y="5391000"/>
              <a:ext cx="431280" cy="216000"/>
            </a:xfrm>
            <a:prstGeom prst="rect">
              <a:avLst/>
            </a:prstGeom>
            <a:solidFill>
              <a:srgbClr val="ffcc99">
                <a:alpha val="9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258560" y="3425760"/>
              <a:ext cx="6049800" cy="2317680"/>
              <a:chOff x="1258560" y="3425760"/>
              <a:chExt cx="6049800" cy="2317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258920" y="3425760"/>
                <a:ext cx="4752720" cy="504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03280" y="5289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74560" y="3562200"/>
                <a:ext cx="42494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03280" y="5505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"/>
              <p:cNvCxnSpPr>
                <a:stCxn id="100" idx="6"/>
                <a:endCxn id="103" idx="6"/>
              </p:cNvCxnSpPr>
              <p:nvPr/>
            </p:nvCxnSpPr>
            <p:spPr>
              <a:xfrm flipH="1">
                <a:off x="3923640" y="3678120"/>
                <a:ext cx="208800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"/>
              <p:cNvCxnSpPr>
                <a:stCxn id="100" idx="2"/>
                <a:endCxn id="103" idx="2"/>
              </p:cNvCxnSpPr>
              <p:nvPr/>
            </p:nvCxnSpPr>
            <p:spPr>
              <a:xfrm>
                <a:off x="1258560" y="3678120"/>
                <a:ext cx="194508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"/>
              <p:cNvCxnSpPr>
                <a:stCxn id="102" idx="2"/>
                <a:endCxn id="101" idx="2"/>
              </p:cNvCxnSpPr>
              <p:nvPr/>
            </p:nvCxnSpPr>
            <p:spPr>
              <a:xfrm>
                <a:off x="1474200" y="3669840"/>
                <a:ext cx="172908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7" name=""/>
              <p:cNvCxnSpPr>
                <a:stCxn id="102" idx="6"/>
                <a:endCxn id="101" idx="6"/>
              </p:cNvCxnSpPr>
              <p:nvPr/>
            </p:nvCxnSpPr>
            <p:spPr>
              <a:xfrm flipH="1">
                <a:off x="3923640" y="3669840"/>
                <a:ext cx="180072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6227640" y="3655800"/>
                <a:ext cx="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36840" y="5362560"/>
                <a:ext cx="36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16360" y="4209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16360" y="5298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000" y="536256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000" y="557820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211280" y="2963880"/>
              <a:ext cx="2349360" cy="714240"/>
            </a:xfrm>
            <a:custGeom>
              <a:avLst/>
              <a:gdLst/>
              <a:ahLst/>
              <a:rect l="l" t="t" r="r" b="b"/>
              <a:pathLst>
                <a:path w="1480" h="450">
                  <a:moveTo>
                    <a:pt x="0" y="450"/>
                  </a:moveTo>
                  <a:cubicBezTo>
                    <a:pt x="135" y="385"/>
                    <a:pt x="561" y="114"/>
                    <a:pt x="808" y="57"/>
                  </a:cubicBezTo>
                  <a:cubicBezTo>
                    <a:pt x="1055" y="0"/>
                    <a:pt x="1340" y="97"/>
                    <a:pt x="1480" y="107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5640" y="3425760"/>
              <a:ext cx="1295280" cy="276120"/>
            </a:xfrm>
            <a:custGeom>
              <a:avLst/>
              <a:gdLst/>
              <a:ahLst/>
              <a:rect l="l" t="t" r="r" b="b"/>
              <a:pathLst>
                <a:path w="1769" h="537">
                  <a:moveTo>
                    <a:pt x="0" y="537"/>
                  </a:moveTo>
                  <a:cubicBezTo>
                    <a:pt x="170" y="306"/>
                    <a:pt x="340" y="76"/>
                    <a:pt x="635" y="38"/>
                  </a:cubicBezTo>
                  <a:cubicBezTo>
                    <a:pt x="930" y="0"/>
                    <a:pt x="1349" y="155"/>
                    <a:pt x="1769" y="31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9360" y="292248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9640" y="3354480"/>
              <a:ext cx="115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+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01840" y="5802480"/>
              <a:ext cx="2915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+H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-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a desarro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contrar                    sabie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Rajo-Subt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+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43200" y="1523880"/>
                <a:ext cx="2209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AJO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TE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01T23:31:12Z</dcterms:modified>
  <cp:revision>75</cp:revision>
  <dc:subject/>
  <dc:title>Design and Planning of Block Caving Operations</dc:title>
</cp:coreProperties>
</file>