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F3C-4966-469F-BD4E-9AA7D922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0A3-9CDE-473B-88D6-4542CE64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BAB-388B-44FB-BE5C-57FE7C9E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C72-DA27-46F1-B271-A69E3FC0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091-77B4-4609-B31C-45EBB7FE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65F-4CB2-40F4-ADE6-2D747B8B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652-6FDB-4C97-87F3-D5692F55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F14-62DA-4131-86E2-67D39E3C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58B-F297-435C-A03A-D71213C1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4AE-5AF7-48BC-9918-7BBF256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908-287F-48A2-A0BE-9D410A7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716-3438-4A4B-97EC-A8BBF4F0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8C62-4A55-4896-8397-78EEB652F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D0C664D1-1A6B-49AF-92A0-2160FB80121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aller de Proyecto Minero: Equilibrio 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3276720"/>
            <a:ext cx="3429000" cy="1371240"/>
            <a:chOff x="685800" y="3276720"/>
            <a:chExt cx="3429000" cy="1371240"/>
          </a:xfrm>
        </p:grpSpPr>
        <p:sp>
          <p:nvSpPr>
            <p:cNvPr id="136" name=""/>
            <p:cNvSpPr/>
            <p:nvPr/>
          </p:nvSpPr>
          <p:spPr>
            <a:xfrm>
              <a:off x="685800" y="32767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4440" y="3276720"/>
              <a:ext cx="68580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20240" y="4176720"/>
              <a:ext cx="548640" cy="4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468520" y="3276720"/>
              <a:ext cx="86868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876920" y="3276720"/>
            <a:ext cx="3657600" cy="1523880"/>
            <a:chOff x="4876920" y="3276720"/>
            <a:chExt cx="3657600" cy="1523880"/>
          </a:xfrm>
        </p:grpSpPr>
        <p:sp>
          <p:nvSpPr>
            <p:cNvPr id="141" name=""/>
            <p:cNvSpPr/>
            <p:nvPr/>
          </p:nvSpPr>
          <p:spPr>
            <a:xfrm>
              <a:off x="4876920" y="32767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69240" y="3276720"/>
              <a:ext cx="1072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2400" y="4276800"/>
              <a:ext cx="585000" cy="52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827760" y="3276720"/>
              <a:ext cx="14630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09480" y="1752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ienen además las siguientes á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Área de un trapecio)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nces se ob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c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1219320"/>
                <a:ext cx="426744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24080" y="3352680"/>
                <a:ext cx="2362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43000" y="4648320"/>
                <a:ext cx="68580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 misma for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Área de un trapecio)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nces se ob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c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72000" y="1295280"/>
                <a:ext cx="419112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276720" y="3124080"/>
                <a:ext cx="21333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47920" y="4572000"/>
                <a:ext cx="65530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 estéril = V2 – V1 – V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h, enton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09480" y="2209680"/>
                <a:ext cx="8001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éri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h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724280"/>
                <a:ext cx="8534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éri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h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517" t="75542" r="83016" b="4138"/>
          <a:stretch/>
        </p:blipFill>
        <p:spPr>
          <a:xfrm>
            <a:off x="76320" y="1511280"/>
            <a:ext cx="4714920" cy="397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2486160" cy="3267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da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8380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53352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Blo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5348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m x 10m x 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98560" y="1523880"/>
            <a:ext cx="7238880" cy="1211400"/>
          </a:xfrm>
          <a:custGeom>
            <a:avLst/>
            <a:gdLst/>
            <a:ahLst/>
            <a:rect l="l" t="t" r="r" b="b"/>
            <a:pathLst>
              <a:path w="4560" h="763">
                <a:moveTo>
                  <a:pt x="0" y="695"/>
                </a:moveTo>
                <a:cubicBezTo>
                  <a:pt x="37" y="667"/>
                  <a:pt x="68" y="635"/>
                  <a:pt x="106" y="608"/>
                </a:cubicBezTo>
                <a:cubicBezTo>
                  <a:pt x="175" y="559"/>
                  <a:pt x="251" y="509"/>
                  <a:pt x="317" y="455"/>
                </a:cubicBezTo>
                <a:cubicBezTo>
                  <a:pt x="335" y="441"/>
                  <a:pt x="347" y="421"/>
                  <a:pt x="365" y="407"/>
                </a:cubicBezTo>
                <a:cubicBezTo>
                  <a:pt x="394" y="384"/>
                  <a:pt x="431" y="371"/>
                  <a:pt x="461" y="349"/>
                </a:cubicBezTo>
                <a:cubicBezTo>
                  <a:pt x="478" y="337"/>
                  <a:pt x="494" y="325"/>
                  <a:pt x="509" y="311"/>
                </a:cubicBezTo>
                <a:cubicBezTo>
                  <a:pt x="523" y="299"/>
                  <a:pt x="534" y="283"/>
                  <a:pt x="548" y="272"/>
                </a:cubicBezTo>
                <a:cubicBezTo>
                  <a:pt x="613" y="221"/>
                  <a:pt x="591" y="265"/>
                  <a:pt x="663" y="195"/>
                </a:cubicBezTo>
                <a:cubicBezTo>
                  <a:pt x="736" y="124"/>
                  <a:pt x="809" y="82"/>
                  <a:pt x="903" y="51"/>
                </a:cubicBezTo>
                <a:cubicBezTo>
                  <a:pt x="937" y="40"/>
                  <a:pt x="1008" y="23"/>
                  <a:pt x="1008" y="23"/>
                </a:cubicBezTo>
                <a:cubicBezTo>
                  <a:pt x="1018" y="16"/>
                  <a:pt x="1025" y="3"/>
                  <a:pt x="1037" y="3"/>
                </a:cubicBezTo>
                <a:cubicBezTo>
                  <a:pt x="1258" y="0"/>
                  <a:pt x="1479" y="4"/>
                  <a:pt x="1700" y="13"/>
                </a:cubicBezTo>
                <a:cubicBezTo>
                  <a:pt x="1766" y="16"/>
                  <a:pt x="1828" y="68"/>
                  <a:pt x="1882" y="99"/>
                </a:cubicBezTo>
                <a:cubicBezTo>
                  <a:pt x="1919" y="120"/>
                  <a:pt x="1966" y="130"/>
                  <a:pt x="2007" y="138"/>
                </a:cubicBezTo>
                <a:cubicBezTo>
                  <a:pt x="2065" y="173"/>
                  <a:pt x="2132" y="178"/>
                  <a:pt x="2189" y="215"/>
                </a:cubicBezTo>
                <a:cubicBezTo>
                  <a:pt x="2239" y="248"/>
                  <a:pt x="2296" y="262"/>
                  <a:pt x="2352" y="282"/>
                </a:cubicBezTo>
                <a:cubicBezTo>
                  <a:pt x="2386" y="314"/>
                  <a:pt x="2432" y="313"/>
                  <a:pt x="2477" y="320"/>
                </a:cubicBezTo>
                <a:cubicBezTo>
                  <a:pt x="2647" y="376"/>
                  <a:pt x="2873" y="355"/>
                  <a:pt x="3034" y="359"/>
                </a:cubicBezTo>
                <a:cubicBezTo>
                  <a:pt x="3111" y="398"/>
                  <a:pt x="3200" y="445"/>
                  <a:pt x="3284" y="464"/>
                </a:cubicBezTo>
                <a:cubicBezTo>
                  <a:pt x="3362" y="517"/>
                  <a:pt x="3461" y="520"/>
                  <a:pt x="3552" y="531"/>
                </a:cubicBezTo>
                <a:cubicBezTo>
                  <a:pt x="3609" y="551"/>
                  <a:pt x="3659" y="578"/>
                  <a:pt x="3716" y="599"/>
                </a:cubicBezTo>
                <a:cubicBezTo>
                  <a:pt x="3822" y="638"/>
                  <a:pt x="3935" y="668"/>
                  <a:pt x="4042" y="704"/>
                </a:cubicBezTo>
                <a:cubicBezTo>
                  <a:pt x="4174" y="748"/>
                  <a:pt x="4340" y="745"/>
                  <a:pt x="4474" y="752"/>
                </a:cubicBezTo>
                <a:cubicBezTo>
                  <a:pt x="4547" y="763"/>
                  <a:pt x="4518" y="762"/>
                  <a:pt x="4560" y="7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544760"/>
            <a:ext cx="609480" cy="3124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92564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2840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29000" y="192564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297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429000" y="207756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215424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4004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482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3408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64160" y="2678040"/>
            <a:ext cx="243828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&lt;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&gt;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=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&gt;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1120" y="329256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 = f(H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5238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3763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062" t="12189" r="2481" b="1233"/>
          <a:stretch/>
        </p:blipFill>
        <p:spPr>
          <a:xfrm>
            <a:off x="228600" y="473040"/>
            <a:ext cx="5792760" cy="540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92000" y="473040"/>
            <a:ext cx="4633920" cy="868320"/>
          </a:xfrm>
          <a:custGeom>
            <a:avLst/>
            <a:gdLst/>
            <a:ahLst/>
            <a:rect l="l" t="t" r="r" b="b"/>
            <a:pathLst>
              <a:path w="2919" h="547">
                <a:moveTo>
                  <a:pt x="0" y="0"/>
                </a:moveTo>
                <a:lnTo>
                  <a:pt x="528" y="537"/>
                </a:lnTo>
                <a:lnTo>
                  <a:pt x="2371" y="547"/>
                </a:lnTo>
                <a:lnTo>
                  <a:pt x="2919" y="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743200"/>
            <a:ext cx="0" cy="6858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760" y="487440"/>
            <a:ext cx="5776920" cy="1447560"/>
          </a:xfrm>
          <a:custGeom>
            <a:avLst/>
            <a:gdLst/>
            <a:ahLst/>
            <a:rect l="l" t="t" r="r" b="b"/>
            <a:pathLst>
              <a:path w="3639" h="912">
                <a:moveTo>
                  <a:pt x="0" y="0"/>
                </a:moveTo>
                <a:lnTo>
                  <a:pt x="893" y="902"/>
                </a:lnTo>
                <a:lnTo>
                  <a:pt x="2736" y="912"/>
                </a:lnTo>
                <a:lnTo>
                  <a:pt x="3639" y="1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760" y="1050840"/>
            <a:ext cx="5807160" cy="1494000"/>
          </a:xfrm>
          <a:custGeom>
            <a:avLst/>
            <a:gdLst/>
            <a:ahLst/>
            <a:rect l="l" t="t" r="r" b="b"/>
            <a:pathLst>
              <a:path w="3658" h="941">
                <a:moveTo>
                  <a:pt x="0" y="10"/>
                </a:moveTo>
                <a:lnTo>
                  <a:pt x="893" y="931"/>
                </a:lnTo>
                <a:lnTo>
                  <a:pt x="2736" y="941"/>
                </a:lnTo>
                <a:lnTo>
                  <a:pt x="3658" y="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778200"/>
            <a:ext cx="541044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35812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066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16002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2209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3962520"/>
            <a:ext cx="609480" cy="1295280"/>
          </a:xfrm>
          <a:prstGeom prst="downArrow">
            <a:avLst>
              <a:gd name="adj1" fmla="val 50000"/>
              <a:gd name="adj2" fmla="val 53131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201132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&gt; 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44956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imación de Valor de un Bl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286000"/>
            <a:ext cx="1447560" cy="1371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560" y="434340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centración de cobre %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360" y="38466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67652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4280" y="3581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1480" y="2590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91600" y="1752480"/>
            <a:ext cx="51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: dx*dy*d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v [m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a: v*r=m 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o: (P-Cfyr)*R*m*l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Mina: Cm*m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de Proceso: Cp*m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cio= (P-Cfyr)*R*m*l*2204,6 - Cm*m- Cp*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886200"/>
            <a:ext cx="45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precio de producto ($/unidad de produc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yr: costo de venta y fundic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($/unidad de produc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: recuperación del proceso pro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: costo mina ($/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p: costo de planta ($/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3446640"/>
            <a:ext cx="1720800" cy="2039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720800" cy="203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52480" y="1465200"/>
            <a:ext cx="2837160" cy="185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648320" y="1447920"/>
            <a:ext cx="2917800" cy="1855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9612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5560" y="1279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1671480"/>
            <a:ext cx="7467480" cy="4392720"/>
            <a:chOff x="914400" y="1671480"/>
            <a:chExt cx="7467480" cy="4392720"/>
          </a:xfrm>
        </p:grpSpPr>
        <p:sp>
          <p:nvSpPr>
            <p:cNvPr id="101" name=""/>
            <p:cNvSpPr/>
            <p:nvPr/>
          </p:nvSpPr>
          <p:spPr>
            <a:xfrm>
              <a:off x="1295280" y="19051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2320" y="1905120"/>
              <a:ext cx="11430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1905120"/>
              <a:ext cx="1676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3505320"/>
              <a:ext cx="9144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19360" y="19051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419720" y="1905120"/>
              <a:ext cx="22860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5320" y="4267080"/>
              <a:ext cx="2880" cy="179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9720" y="4343400"/>
              <a:ext cx="25200" cy="1647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19051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19051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81440" y="4908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5105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50532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940200" y="1905120"/>
              <a:ext cx="22320" cy="20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29080" y="3503520"/>
              <a:ext cx="280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97400" y="4343400"/>
              <a:ext cx="280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89640" y="318276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0200" y="27511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5840" y="16714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32200" y="18874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492200" y="572760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92200" y="195912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4400" y="3656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805080" y="1887480"/>
              <a:ext cx="162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4760" y="24638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791320" y="3505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15080" y="37339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iene las rel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1 = H – h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2 = H + h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                       , entonces se 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3505320"/>
                <a:ext cx="23338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441520" y="4724280"/>
                <a:ext cx="35812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3-28T21:54:43Z</dcterms:modified>
  <cp:revision>45</cp:revision>
  <dc:subject/>
  <dc:title>Design and Planning of Block Caving Operations</dc:title>
</cp:coreProperties>
</file>