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2E8-507B-4E5B-A6FF-60A5716C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523-A1BE-4AA0-AA47-FC31E422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BF9F-FF2A-4CB8-B7ED-64F537AD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350-4EAD-435A-8A08-CC9A5AD3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1D47-8A9F-40E4-9B4E-326EED56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939A-856D-4A08-828D-886A1E07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50F7-80BA-4C3E-879F-E1BAA646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C0DF-E9C6-4628-93F8-4542957A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3413-B1D0-4BC2-AE70-7FD036B1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E7B1-BCEB-4825-9C76-AB7961A7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32BE-CAB6-45B9-A3C1-00864A9B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50AB-8E4A-4C6C-9902-6F33D8F8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3484-F8D8-491E-8B78-86D3E5C51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4ACF326-7D56-4CB7-8152-97764164A28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aller de Proyecto Minero: Equilibrio Económic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e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85800" y="3276720"/>
            <a:ext cx="3429000" cy="1371240"/>
            <a:chOff x="685800" y="3276720"/>
            <a:chExt cx="3429000" cy="1371240"/>
          </a:xfrm>
        </p:grpSpPr>
        <p:sp>
          <p:nvSpPr>
            <p:cNvPr id="136" name=""/>
            <p:cNvSpPr/>
            <p:nvPr/>
          </p:nvSpPr>
          <p:spPr>
            <a:xfrm>
              <a:off x="685800" y="32767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34440" y="3276720"/>
              <a:ext cx="68580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20240" y="4176720"/>
              <a:ext cx="548640" cy="47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468520" y="3276720"/>
              <a:ext cx="86868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876920" y="3276720"/>
            <a:ext cx="3657600" cy="1523880"/>
            <a:chOff x="4876920" y="3276720"/>
            <a:chExt cx="3657600" cy="1523880"/>
          </a:xfrm>
        </p:grpSpPr>
        <p:sp>
          <p:nvSpPr>
            <p:cNvPr id="141" name=""/>
            <p:cNvSpPr/>
            <p:nvPr/>
          </p:nvSpPr>
          <p:spPr>
            <a:xfrm>
              <a:off x="4876920" y="32767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69240" y="3276720"/>
              <a:ext cx="10728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42400" y="4276800"/>
              <a:ext cx="585000" cy="523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827760" y="3276720"/>
              <a:ext cx="146304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09480" y="1752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tienen además las siguientes á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3505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Área de un trapecio),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onces se obtiene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deci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752480" y="1219320"/>
                <a:ext cx="4267440" cy="13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∗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124080" y="3352680"/>
                <a:ext cx="23623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143000" y="4648320"/>
                <a:ext cx="685800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 la misma for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Área de un trapecio),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onces se obtiene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deci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572000" y="1295280"/>
                <a:ext cx="419112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∗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276720" y="3124080"/>
                <a:ext cx="213336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447920" y="4572000"/>
                <a:ext cx="655308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 estéril = V2 – V1 – V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h, enton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09480" y="2209680"/>
                <a:ext cx="80010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éril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h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80880" y="4724280"/>
                <a:ext cx="85345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éril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h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517" t="75542" r="83016" b="4138"/>
          <a:stretch/>
        </p:blipFill>
        <p:spPr>
          <a:xfrm>
            <a:off x="76320" y="1511280"/>
            <a:ext cx="4714920" cy="397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2486160" cy="3267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289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daj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83808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533520"/>
            <a:ext cx="403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o de Blo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53481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m x 10m x 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98560" y="1523880"/>
            <a:ext cx="7238880" cy="1211400"/>
          </a:xfrm>
          <a:custGeom>
            <a:avLst/>
            <a:gdLst/>
            <a:ahLst/>
            <a:rect l="l" t="t" r="r" b="b"/>
            <a:pathLst>
              <a:path w="4560" h="763">
                <a:moveTo>
                  <a:pt x="0" y="695"/>
                </a:moveTo>
                <a:cubicBezTo>
                  <a:pt x="37" y="667"/>
                  <a:pt x="68" y="635"/>
                  <a:pt x="106" y="608"/>
                </a:cubicBezTo>
                <a:cubicBezTo>
                  <a:pt x="175" y="559"/>
                  <a:pt x="251" y="509"/>
                  <a:pt x="317" y="455"/>
                </a:cubicBezTo>
                <a:cubicBezTo>
                  <a:pt x="335" y="441"/>
                  <a:pt x="347" y="421"/>
                  <a:pt x="365" y="407"/>
                </a:cubicBezTo>
                <a:cubicBezTo>
                  <a:pt x="394" y="384"/>
                  <a:pt x="431" y="371"/>
                  <a:pt x="461" y="349"/>
                </a:cubicBezTo>
                <a:cubicBezTo>
                  <a:pt x="478" y="337"/>
                  <a:pt x="494" y="325"/>
                  <a:pt x="509" y="311"/>
                </a:cubicBezTo>
                <a:cubicBezTo>
                  <a:pt x="523" y="299"/>
                  <a:pt x="534" y="283"/>
                  <a:pt x="548" y="272"/>
                </a:cubicBezTo>
                <a:cubicBezTo>
                  <a:pt x="613" y="221"/>
                  <a:pt x="591" y="265"/>
                  <a:pt x="663" y="195"/>
                </a:cubicBezTo>
                <a:cubicBezTo>
                  <a:pt x="736" y="124"/>
                  <a:pt x="809" y="82"/>
                  <a:pt x="903" y="51"/>
                </a:cubicBezTo>
                <a:cubicBezTo>
                  <a:pt x="937" y="40"/>
                  <a:pt x="1008" y="23"/>
                  <a:pt x="1008" y="23"/>
                </a:cubicBezTo>
                <a:cubicBezTo>
                  <a:pt x="1018" y="16"/>
                  <a:pt x="1025" y="3"/>
                  <a:pt x="1037" y="3"/>
                </a:cubicBezTo>
                <a:cubicBezTo>
                  <a:pt x="1258" y="0"/>
                  <a:pt x="1479" y="4"/>
                  <a:pt x="1700" y="13"/>
                </a:cubicBezTo>
                <a:cubicBezTo>
                  <a:pt x="1766" y="16"/>
                  <a:pt x="1828" y="68"/>
                  <a:pt x="1882" y="99"/>
                </a:cubicBezTo>
                <a:cubicBezTo>
                  <a:pt x="1919" y="120"/>
                  <a:pt x="1966" y="130"/>
                  <a:pt x="2007" y="138"/>
                </a:cubicBezTo>
                <a:cubicBezTo>
                  <a:pt x="2065" y="173"/>
                  <a:pt x="2132" y="178"/>
                  <a:pt x="2189" y="215"/>
                </a:cubicBezTo>
                <a:cubicBezTo>
                  <a:pt x="2239" y="248"/>
                  <a:pt x="2296" y="262"/>
                  <a:pt x="2352" y="282"/>
                </a:cubicBezTo>
                <a:cubicBezTo>
                  <a:pt x="2386" y="314"/>
                  <a:pt x="2432" y="313"/>
                  <a:pt x="2477" y="320"/>
                </a:cubicBezTo>
                <a:cubicBezTo>
                  <a:pt x="2647" y="376"/>
                  <a:pt x="2873" y="355"/>
                  <a:pt x="3034" y="359"/>
                </a:cubicBezTo>
                <a:cubicBezTo>
                  <a:pt x="3111" y="398"/>
                  <a:pt x="3200" y="445"/>
                  <a:pt x="3284" y="464"/>
                </a:cubicBezTo>
                <a:cubicBezTo>
                  <a:pt x="3362" y="517"/>
                  <a:pt x="3461" y="520"/>
                  <a:pt x="3552" y="531"/>
                </a:cubicBezTo>
                <a:cubicBezTo>
                  <a:pt x="3609" y="551"/>
                  <a:pt x="3659" y="578"/>
                  <a:pt x="3716" y="599"/>
                </a:cubicBezTo>
                <a:cubicBezTo>
                  <a:pt x="3822" y="638"/>
                  <a:pt x="3935" y="668"/>
                  <a:pt x="4042" y="704"/>
                </a:cubicBezTo>
                <a:cubicBezTo>
                  <a:pt x="4174" y="748"/>
                  <a:pt x="4340" y="745"/>
                  <a:pt x="4474" y="752"/>
                </a:cubicBezTo>
                <a:cubicBezTo>
                  <a:pt x="4547" y="763"/>
                  <a:pt x="4518" y="762"/>
                  <a:pt x="4560" y="7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544760"/>
            <a:ext cx="609480" cy="3124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192564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2840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429000" y="192564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297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429000" y="2077560"/>
            <a:ext cx="16002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2154240"/>
            <a:ext cx="1219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2840040"/>
            <a:ext cx="60948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482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34080" y="485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64160" y="2678040"/>
            <a:ext cx="2438280" cy="17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&lt;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&gt;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=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ub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&gt;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&lt;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11120" y="329256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19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B = f(H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15238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237636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3062" t="12189" r="2481" b="1233"/>
          <a:stretch/>
        </p:blipFill>
        <p:spPr>
          <a:xfrm>
            <a:off x="228600" y="473040"/>
            <a:ext cx="5792760" cy="5408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92000" y="473040"/>
            <a:ext cx="4633920" cy="868320"/>
          </a:xfrm>
          <a:custGeom>
            <a:avLst/>
            <a:gdLst/>
            <a:ahLst/>
            <a:rect l="l" t="t" r="r" b="b"/>
            <a:pathLst>
              <a:path w="2919" h="547">
                <a:moveTo>
                  <a:pt x="0" y="0"/>
                </a:moveTo>
                <a:lnTo>
                  <a:pt x="528" y="537"/>
                </a:lnTo>
                <a:lnTo>
                  <a:pt x="2371" y="547"/>
                </a:lnTo>
                <a:lnTo>
                  <a:pt x="2919" y="0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2743200"/>
            <a:ext cx="0" cy="6858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2760" y="487440"/>
            <a:ext cx="5776920" cy="1447560"/>
          </a:xfrm>
          <a:custGeom>
            <a:avLst/>
            <a:gdLst/>
            <a:ahLst/>
            <a:rect l="l" t="t" r="r" b="b"/>
            <a:pathLst>
              <a:path w="3639" h="912">
                <a:moveTo>
                  <a:pt x="0" y="0"/>
                </a:moveTo>
                <a:lnTo>
                  <a:pt x="893" y="902"/>
                </a:lnTo>
                <a:lnTo>
                  <a:pt x="2736" y="912"/>
                </a:lnTo>
                <a:lnTo>
                  <a:pt x="3639" y="10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2760" y="1050840"/>
            <a:ext cx="5807160" cy="1494000"/>
          </a:xfrm>
          <a:custGeom>
            <a:avLst/>
            <a:gdLst/>
            <a:ahLst/>
            <a:rect l="l" t="t" r="r" b="b"/>
            <a:pathLst>
              <a:path w="3658" h="941">
                <a:moveTo>
                  <a:pt x="0" y="10"/>
                </a:moveTo>
                <a:lnTo>
                  <a:pt x="893" y="931"/>
                </a:lnTo>
                <a:lnTo>
                  <a:pt x="2736" y="941"/>
                </a:lnTo>
                <a:lnTo>
                  <a:pt x="3658" y="0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778200"/>
            <a:ext cx="5410440" cy="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358128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106668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160020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220968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3962520"/>
            <a:ext cx="609480" cy="1295280"/>
          </a:xfrm>
          <a:prstGeom prst="downArrow">
            <a:avLst>
              <a:gd name="adj1" fmla="val 50000"/>
              <a:gd name="adj2" fmla="val 53131"/>
            </a:avLst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201132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&gt; B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r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53080" y="449568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&lt; B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r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imación de Valor de un Blo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286000"/>
            <a:ext cx="1447560" cy="13716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5560" y="4343400"/>
            <a:ext cx="29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nsidad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centración de cobre %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360" y="38466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676520" y="3505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54280" y="3581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2286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11480" y="25909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91600" y="1752480"/>
            <a:ext cx="51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lumen: dx*dy*d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v [m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a: v*r=m [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reso: (P-Cfyr)*R*m*l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o Mina: Cm*m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o de Proceso: Cp*m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cio= (P-Cfyr)*R*m*l*2204,6 - Cm*m- Cp*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3886200"/>
            <a:ext cx="457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enclatu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precio de producto ($/unidad de produc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fyr: costo de venta y fundici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ón ($/unidad de produc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: recuperación del proceso produ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: costo mina ($/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p: costo de planta ($/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52480" y="3446640"/>
            <a:ext cx="1720800" cy="2039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1720800" cy="2039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752480" y="1465200"/>
            <a:ext cx="2837160" cy="1855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648320" y="1447920"/>
            <a:ext cx="2917800" cy="1855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19612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blema a re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95560" y="1279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14400" y="1671480"/>
            <a:ext cx="7467480" cy="4392720"/>
            <a:chOff x="914400" y="1671480"/>
            <a:chExt cx="7467480" cy="4392720"/>
          </a:xfrm>
        </p:grpSpPr>
        <p:sp>
          <p:nvSpPr>
            <p:cNvPr id="101" name=""/>
            <p:cNvSpPr/>
            <p:nvPr/>
          </p:nvSpPr>
          <p:spPr>
            <a:xfrm>
              <a:off x="1295280" y="190512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62320" y="1905120"/>
              <a:ext cx="11430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28800" y="1905120"/>
              <a:ext cx="167652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05320" y="3505320"/>
              <a:ext cx="914400" cy="838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419360" y="1905120"/>
              <a:ext cx="14475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419720" y="1905120"/>
              <a:ext cx="228600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05320" y="4267080"/>
              <a:ext cx="2880" cy="179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19720" y="4343400"/>
              <a:ext cx="25200" cy="1647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1905120"/>
              <a:ext cx="0" cy="167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720" y="1905120"/>
              <a:ext cx="0" cy="167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81440" y="4908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480" y="51055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505320" y="5105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940200" y="1905120"/>
              <a:ext cx="22320" cy="20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29080" y="3503520"/>
              <a:ext cx="2809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97400" y="4343400"/>
              <a:ext cx="2809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89640" y="3182760"/>
              <a:ext cx="5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40200" y="2751120"/>
              <a:ext cx="5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5840" y="167148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32200" y="188748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492200" y="5727600"/>
              <a:ext cx="3456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92200" y="1959120"/>
              <a:ext cx="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14400" y="3656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805080" y="1887480"/>
              <a:ext cx="1620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4760" y="246384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791320" y="35053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15080" y="3733920"/>
              <a:ext cx="5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tiene las rel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1 = H – h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2 = H + h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                       , entonces se tiene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523880" y="3505320"/>
                <a:ext cx="23338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441520" y="4724280"/>
                <a:ext cx="358128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Freddy Rojas</cp:lastModifiedBy>
  <dcterms:modified xsi:type="dcterms:W3CDTF">2008-03-28T21:54:43Z</dcterms:modified>
  <cp:revision>45</cp:revision>
  <dc:subject/>
  <dc:title>Design and Planning of Block Caving Operations</dc:title>
</cp:coreProperties>
</file>