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D5E-B655-4C83-80C7-A93059AF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1F6-21D4-488E-B63B-D8F11ACD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996-020D-46E2-B490-A8D471B1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AB3-4AAD-4D2D-821D-02E024E2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ECA-8D74-4501-9693-93DE486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3D2-170F-4122-8540-0522872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436-C2A4-468F-A523-DEF6E444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C50-8600-43A4-A753-238EF018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CB8-59B3-451E-93A4-5CEADC40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CB9-06F6-4231-AFCB-1615FCEC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08E-AFE1-4C6F-AF2E-C84F78A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0A5-6431-4509-B0EF-5C1835AB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807-8ED3-40E5-A6B2-07E2DC67A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C7F662E-632B-4BBB-93B8-6EB570D706A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Práctica: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ación Rajo Subterrán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864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7524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iene una veta de profundidad indeterminada (no se conoce donde termina), de largo 300m y ancho 100m. Además se tiene un bloque que se encuentra a 300m de profundidad, la cuál no se sabe si se extrae a través de una mina subterránea o por rajo abierto. Para efectos de cálculo, considere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mina rajo = 1,5 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mina subterránea = 6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planta = 5 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fundición y refinación (venta) = 0,3 US$/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F = 1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o del mineral = 1,5 US$/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upe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=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loque en cuestión posee una altura de 1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acuerdo a los datos entregados, calcule el beneficio del bloque y concluya si el bloque debe ser extraído por  un método subterráneo o por rajo a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23Z</dcterms:modified>
  <cp:revision>30</cp:revision>
  <dc:subject/>
  <dc:title>Design and Planning of Block Caving Operations</dc:title>
</cp:coreProperties>
</file>