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F73-03EE-43AE-A5EF-7BC05410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603-5C09-4E0D-AC6D-07EB405F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561-93E8-41DF-89C9-C3CC9626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347-B9A2-48BD-B214-B85FA5C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D79-AE5B-476C-A02E-CC6E2E13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FEE-3CF6-4655-9536-A8AF86F9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7E0-C359-4ECD-B0AB-76D957A0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23C-8187-4037-A890-4E262F1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45F-9BB4-4DA6-8867-18954913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476-8637-40CF-8965-059F11B6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9BA-4B26-4B93-808F-EC67502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4A0-F75B-44F5-B090-97A03A8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5C76-1B0A-4615-A79F-AE29C78C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197000" y="898560"/>
            <a:ext cx="4259160" cy="7705800"/>
            <a:chOff x="1197000" y="898560"/>
            <a:chExt cx="4259160" cy="77058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rcRect l="12501" t="21166" r="39287" b="8730"/>
            <a:stretch/>
          </p:blipFill>
          <p:spPr>
            <a:xfrm>
              <a:off x="1341360" y="898560"/>
              <a:ext cx="3819600" cy="41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rcRect l="12524" t="19213" r="35304" b="25000"/>
            <a:stretch/>
          </p:blipFill>
          <p:spPr>
            <a:xfrm>
              <a:off x="1341360" y="5075280"/>
              <a:ext cx="41148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>
              <a:off x="1197000" y="1187280"/>
              <a:ext cx="216000" cy="74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2:34:55Z</dcterms:created>
  <dc:creator>Luis Sota</dc:creator>
  <dc:description/>
  <dc:language>en-US</dc:language>
  <cp:lastModifiedBy>Ucurso</cp:lastModifiedBy>
  <dcterms:modified xsi:type="dcterms:W3CDTF">2008-03-21T16:52:45Z</dcterms:modified>
  <cp:revision>1</cp:revision>
  <dc:subject/>
  <dc:title>Slide 1</dc:title>
</cp:coreProperties>
</file>