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A20F-E45E-48C2-8F80-B11CB613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81C6-5771-47AA-9203-32F7858C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CF7B-764C-4973-8306-6129B5008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92C2-286A-477D-865E-20DB11A2E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B71F-C1B4-4F8B-AF58-131D2B72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1294-11B7-46DD-BD12-BEBD6FB4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90BE-EECA-4342-BDBC-37E6244F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5386-D9F0-438F-A858-E7827C27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2887-FE02-403F-BABA-DAFDFD74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ECA1-A0F9-4B4B-8A2B-11B07A54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2953-CE4D-47DC-82C1-118D4A8B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A48B-CC0F-4F50-AA2B-1061DCF4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8B7E-3C30-4EC5-9BA4-572A1B653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7"/>
          <p:cNvGrpSpPr/>
          <p:nvPr/>
        </p:nvGrpSpPr>
        <p:grpSpPr>
          <a:xfrm>
            <a:off x="1197000" y="898560"/>
            <a:ext cx="4259160" cy="7705800"/>
            <a:chOff x="1197000" y="898560"/>
            <a:chExt cx="4259160" cy="7705800"/>
          </a:xfrm>
        </p:grpSpPr>
        <p:pic>
          <p:nvPicPr>
            <p:cNvPr id="42" name="Picture 4" descr=""/>
            <p:cNvPicPr/>
            <p:nvPr/>
          </p:nvPicPr>
          <p:blipFill>
            <a:blip r:embed="rId1"/>
            <a:srcRect l="12501" t="21166" r="39287" b="8730"/>
            <a:stretch/>
          </p:blipFill>
          <p:spPr>
            <a:xfrm>
              <a:off x="1341360" y="898560"/>
              <a:ext cx="3819600" cy="41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5" descr=""/>
            <p:cNvPicPr/>
            <p:nvPr/>
          </p:nvPicPr>
          <p:blipFill>
            <a:blip r:embed="rId2"/>
            <a:srcRect l="12524" t="19213" r="35304" b="25000"/>
            <a:stretch/>
          </p:blipFill>
          <p:spPr>
            <a:xfrm>
              <a:off x="1341360" y="5075280"/>
              <a:ext cx="4114800" cy="33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Rectangle 6"/>
            <p:cNvSpPr/>
            <p:nvPr/>
          </p:nvSpPr>
          <p:spPr>
            <a:xfrm>
              <a:off x="1197000" y="1187280"/>
              <a:ext cx="216000" cy="741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4T22:34:55Z</dcterms:created>
  <dc:creator>Luis Sota</dc:creator>
  <dc:description/>
  <dc:language>en-US</dc:language>
  <cp:lastModifiedBy>Ucurso</cp:lastModifiedBy>
  <dcterms:modified xsi:type="dcterms:W3CDTF">2008-03-21T16:52:45Z</dcterms:modified>
  <cp:revision>1</cp:revision>
  <dc:subject/>
  <dc:title>Slide 1</dc:title>
</cp:coreProperties>
</file>