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4E0-4E3D-4A83-8F53-3BE18CB6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40B-4B41-40A1-A53F-5A18E642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6219-8B48-4351-9DAB-79DC6E53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9EE-F9F1-4395-9BB7-DEA4972D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DD5-3FF2-45AA-9D2A-29399983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A90-DADA-4325-9B11-BDED20B0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B1F-9F73-489C-8EDA-51869FA2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FF5-F3EF-49BC-AE17-0F27D2AE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AF7-1660-4534-8B80-5C9EADFD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203-0692-49D5-A255-D9DCB7CB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F4A-771E-4179-BED7-2B13FA3F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CA3-751E-49D4-AF45-96AD9CD5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847E-4FBF-4E7D-825C-904E726A8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1197000" y="898560"/>
            <a:ext cx="4259160" cy="7705800"/>
            <a:chOff x="1197000" y="898560"/>
            <a:chExt cx="4259160" cy="7705800"/>
          </a:xfrm>
        </p:grpSpPr>
        <p:pic>
          <p:nvPicPr>
            <p:cNvPr id="42" name="Picture 4" descr=""/>
            <p:cNvPicPr/>
            <p:nvPr/>
          </p:nvPicPr>
          <p:blipFill>
            <a:blip r:embed="rId1"/>
            <a:srcRect l="12501" t="21166" r="39287" b="8730"/>
            <a:stretch/>
          </p:blipFill>
          <p:spPr>
            <a:xfrm>
              <a:off x="1341360" y="898560"/>
              <a:ext cx="3819600" cy="41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"/>
            <p:cNvPicPr/>
            <p:nvPr/>
          </p:nvPicPr>
          <p:blipFill>
            <a:blip r:embed="rId2"/>
            <a:srcRect l="12524" t="19213" r="35304" b="25000"/>
            <a:stretch/>
          </p:blipFill>
          <p:spPr>
            <a:xfrm>
              <a:off x="1341360" y="5075280"/>
              <a:ext cx="411480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6"/>
            <p:cNvSpPr/>
            <p:nvPr/>
          </p:nvSpPr>
          <p:spPr>
            <a:xfrm>
              <a:off x="1197000" y="1187280"/>
              <a:ext cx="216000" cy="741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22:34:55Z</dcterms:created>
  <dc:creator>Luis Sota</dc:creator>
  <dc:description/>
  <dc:language>en-US</dc:language>
  <cp:lastModifiedBy>Ucurso</cp:lastModifiedBy>
  <dcterms:modified xsi:type="dcterms:W3CDTF">2008-03-21T16:52:45Z</dcterms:modified>
  <cp:revision>1</cp:revision>
  <dc:subject/>
  <dc:title>Slide 1</dc:title>
</cp:coreProperties>
</file>