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DA9-8F9D-4BA7-A4E5-4F1F5B65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593-B61B-44CA-ADDF-FEEDB65B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798-F4D4-4E26-BD48-E2EAB959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18B-966D-4AA5-9DBE-1CB7912D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1C4-E028-4418-B2D9-4BCCD0F1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171-993B-4431-B71D-405B64D0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63A-8464-4503-BC50-B327FAB8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64B-9B70-4B73-95BF-77A31F33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14A-500C-400F-885F-B68C50EC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5D8-CF6F-4C13-A18F-AB7BDB04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B35-9FB3-4E4B-A454-A2AA78CD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964-713D-4FA1-A03C-75E5F575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0FCA-784A-41DA-93B5-03EBEBB8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1197000" y="898560"/>
            <a:ext cx="4259160" cy="7705800"/>
            <a:chOff x="1197000" y="898560"/>
            <a:chExt cx="4259160" cy="7705800"/>
          </a:xfrm>
        </p:grpSpPr>
        <p:pic>
          <p:nvPicPr>
            <p:cNvPr id="42" name="Picture 4" descr=""/>
            <p:cNvPicPr/>
            <p:nvPr/>
          </p:nvPicPr>
          <p:blipFill>
            <a:blip r:embed="rId1"/>
            <a:srcRect l="12501" t="21166" r="39287" b="8730"/>
            <a:stretch/>
          </p:blipFill>
          <p:spPr>
            <a:xfrm>
              <a:off x="1341360" y="898560"/>
              <a:ext cx="3819600" cy="41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"/>
            <p:cNvPicPr/>
            <p:nvPr/>
          </p:nvPicPr>
          <p:blipFill>
            <a:blip r:embed="rId2"/>
            <a:srcRect l="12524" t="19213" r="35304" b="25000"/>
            <a:stretch/>
          </p:blipFill>
          <p:spPr>
            <a:xfrm>
              <a:off x="1341360" y="5075280"/>
              <a:ext cx="411480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6"/>
            <p:cNvSpPr/>
            <p:nvPr/>
          </p:nvSpPr>
          <p:spPr>
            <a:xfrm>
              <a:off x="1197000" y="1187280"/>
              <a:ext cx="216000" cy="741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22:34:55Z</dcterms:created>
  <dc:creator>Luis Sota</dc:creator>
  <dc:description/>
  <dc:language>en-US</dc:language>
  <cp:lastModifiedBy>Ucurso</cp:lastModifiedBy>
  <dcterms:modified xsi:type="dcterms:W3CDTF">2008-03-21T16:52:45Z</dcterms:modified>
  <cp:revision>1</cp:revision>
  <dc:subject/>
  <dc:title>Slide 1</dc:title>
</cp:coreProperties>
</file>