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1403280" y="1844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900000" y="3645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iseño Ambiental de una Obra Hidráu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292720" y="602136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91320" y="623736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c3c3c"/>
                </a:solidFill>
                <a:latin typeface="Eurostile"/>
                <a:ea typeface="ＭＳ Ｐゴシック"/>
              </a:rPr>
              <a:t>Santiago 29 de</a:t>
            </a:r>
            <a:r>
              <a:rPr b="0" lang="es-ES_tradnl" sz="1400" spc="-1" strike="noStrike">
                <a:solidFill>
                  <a:srgbClr val="3c3c3c"/>
                </a:solidFill>
                <a:latin typeface="Eurostile"/>
                <a:ea typeface="ＭＳ Ｐゴシック"/>
              </a:rPr>
              <a:t> Abril  </a:t>
            </a:r>
            <a:r>
              <a:rPr b="0" lang="es-ES_tradnl" sz="2000" spc="-1" strike="noStrike">
                <a:solidFill>
                  <a:srgbClr val="3c3c3c"/>
                </a:solidFill>
                <a:latin typeface="Eurostile"/>
                <a:ea typeface="ＭＳ Ｐゴシック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Arial"/>
              </a:rPr>
              <a:t>El titular debe publicar un extracto del EIA en el Diario Oficial y en un diario de la zo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Arial"/>
              </a:rPr>
              <a:t>Las Organizaciones Ciudadanas (OO.CC.) tienen derecho a conocer el contenido del E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Arial"/>
              </a:rPr>
              <a:t>Las OO.CC tienen el derecho de formular observaciones al EIA, en 60 días hábi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Arial"/>
              </a:rPr>
              <a:t>La Comisión tiene la obligación de ponderar las observaciones recibidas y dar a conocer dicha ponder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Arial"/>
              </a:rPr>
              <a:t>Las OO.CC. que formularon observaciones tienen el derecho de presentar un recurso de reclam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484280"/>
            <a:ext cx="345744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R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negatoria de 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997360"/>
            <a:ext cx="3429000" cy="137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Reclamación ante Director ejecutivo CO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5589720"/>
            <a:ext cx="327672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lazo 30 días desde not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99"/>
                </a:solidFill>
                <a:latin typeface="Arial"/>
              </a:rPr>
              <a:t>RECLAM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1474920"/>
            <a:ext cx="4535640" cy="137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RCA denegatoria o que impone condiciones o exigencias al E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2565360"/>
            <a:ext cx="485640" cy="398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6720" y="2914560"/>
            <a:ext cx="485640" cy="398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3419640"/>
            <a:ext cx="441972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Reclamación ante Consejo Directivo CO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8845400">
            <a:off x="2790720" y="4436640"/>
            <a:ext cx="485640" cy="1079280"/>
          </a:xfrm>
          <a:prstGeom prst="downArrow">
            <a:avLst>
              <a:gd name="adj1" fmla="val 50000"/>
              <a:gd name="adj2" fmla="val 5556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361600">
            <a:off x="5219280" y="4437000"/>
            <a:ext cx="486000" cy="1079640"/>
          </a:xfrm>
          <a:prstGeom prst="downArrow">
            <a:avLst>
              <a:gd name="adj1" fmla="val 50000"/>
              <a:gd name="adj2" fmla="val 55537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00200" y="1828800"/>
            <a:ext cx="518148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Resolución fundad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resuelve reclam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4221000"/>
            <a:ext cx="297180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Recurso ante ju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 letras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4267080"/>
            <a:ext cx="317808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lazo 30 días desde not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99"/>
                </a:solidFill>
                <a:latin typeface="Arial"/>
              </a:rPr>
              <a:t>FASE JUD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8845400">
            <a:off x="5948280" y="2916360"/>
            <a:ext cx="486000" cy="1079280"/>
          </a:xfrm>
          <a:prstGeom prst="downArrow">
            <a:avLst>
              <a:gd name="adj1" fmla="val 50000"/>
              <a:gd name="adj2" fmla="val 55519"/>
            </a:avLst>
          </a:prstGeom>
          <a:solidFill>
            <a:srgbClr val="00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361600">
            <a:off x="2268000" y="2924280"/>
            <a:ext cx="486000" cy="1079280"/>
          </a:xfrm>
          <a:prstGeom prst="downArrow">
            <a:avLst>
              <a:gd name="adj1" fmla="val 50000"/>
              <a:gd name="adj2" fmla="val 55519"/>
            </a:avLst>
          </a:prstGeom>
          <a:solidFill>
            <a:srgbClr val="00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000" y="1773360"/>
            <a:ext cx="828036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Arial"/>
              </a:rPr>
              <a:t>Se tramita según reglas del juicio sum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Arial"/>
              </a:rPr>
              <a:t>Es escasamente uti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Arial"/>
              </a:rPr>
              <a:t>Resolu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3399"/>
                </a:solidFill>
                <a:latin typeface="Arial"/>
              </a:rPr>
              <a:t>- ordena modificación de resolución de calificación ambiental, aceptando el EIA o la DIA o cambiando exigenc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3399"/>
                </a:solidFill>
                <a:latin typeface="Arial"/>
              </a:rPr>
              <a:t>- deniega y confir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ASPECTOS RELEVANTES FASE JUD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2000" y="1341360"/>
            <a:ext cx="563868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Resolución calificación ambiental 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584520"/>
            <a:ext cx="3353040" cy="2073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3399"/>
                </a:solidFill>
                <a:uFillTx/>
                <a:latin typeface="Times New Roman"/>
                <a:ea typeface="ＭＳ Ｐゴシック"/>
              </a:rPr>
              <a:t>Cau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No pondera debidamente observaciones de OO.C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2997360"/>
            <a:ext cx="4572000" cy="885960"/>
          </a:xfrm>
          <a:prstGeom prst="rect">
            <a:avLst/>
          </a:prstGeom>
          <a:solidFill>
            <a:srgbClr val="eaeaea"/>
          </a:solidFill>
          <a:ln w="93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Reclamo ante autoridad superior que la dict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140360" y="3784680"/>
            <a:ext cx="533160" cy="2057400"/>
            <a:chOff x="4140360" y="3784680"/>
            <a:chExt cx="533160" cy="2057400"/>
          </a:xfrm>
        </p:grpSpPr>
        <p:sp>
          <p:nvSpPr>
            <p:cNvPr id="85" name=""/>
            <p:cNvSpPr/>
            <p:nvPr/>
          </p:nvSpPr>
          <p:spPr>
            <a:xfrm>
              <a:off x="4140360" y="3784680"/>
              <a:ext cx="0" cy="2057400"/>
            </a:xfrm>
            <a:prstGeom prst="line">
              <a:avLst/>
            </a:prstGeom>
            <a:ln w="936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40360" y="4241880"/>
              <a:ext cx="533160" cy="0"/>
            </a:xfrm>
            <a:prstGeom prst="line">
              <a:avLst/>
            </a:prstGeom>
            <a:ln w="9360">
              <a:solidFill>
                <a:srgbClr val="ff0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40360" y="4927680"/>
              <a:ext cx="533160" cy="0"/>
            </a:xfrm>
            <a:prstGeom prst="line">
              <a:avLst/>
            </a:prstGeom>
            <a:ln w="9360">
              <a:solidFill>
                <a:srgbClr val="ff0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40360" y="5842080"/>
              <a:ext cx="533160" cy="0"/>
            </a:xfrm>
            <a:prstGeom prst="line">
              <a:avLst/>
            </a:prstGeom>
            <a:ln w="9360">
              <a:solidFill>
                <a:srgbClr val="ff0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581720" y="4021200"/>
            <a:ext cx="41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COREMA: Cons. Directi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4240" y="4622760"/>
            <a:ext cx="3882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ir. Ejecutivo CONA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Consejo directi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73160" y="5613480"/>
            <a:ext cx="202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lazo 15 dí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99"/>
                </a:solidFill>
                <a:latin typeface="Arial"/>
              </a:rPr>
              <a:t>RECLAMOS OO.C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8845400">
            <a:off x="5334480" y="2416680"/>
            <a:ext cx="486000" cy="576360"/>
          </a:xfrm>
          <a:prstGeom prst="downArrow">
            <a:avLst>
              <a:gd name="adj1" fmla="val 50000"/>
              <a:gd name="adj2" fmla="val 29648"/>
            </a:avLst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361600">
            <a:off x="2484000" y="2492280"/>
            <a:ext cx="486000" cy="1079640"/>
          </a:xfrm>
          <a:prstGeom prst="downArrow">
            <a:avLst>
              <a:gd name="adj1" fmla="val 50000"/>
              <a:gd name="adj2" fmla="val 55537"/>
            </a:avLst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1459080"/>
            <a:ext cx="820728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1. Observaciones ciudadanas se realizan sobre la base del EIA en un plazo máximo de 60 días (proponentes del proyecto tienen la posibilidad de extender sus plazos y adjuntar nuevos antecedentes dentro del proceso (ADENDA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33360"/>
            <a:ext cx="914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Arial"/>
              </a:rPr>
              <a:t>Limitaciones de la Participación Ciudadana (Terra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2120" y="609480"/>
            <a:ext cx="74674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2. Calidad y cantidad de información proporcionada a las comunidades afect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3. Capacidad de comunidades para proveerse de los recursos necesarios para realizar observaciones a los E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914400"/>
            <a:ext cx="8153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4. Participación ciudadana ocurre cuando existen escasas posibilidades de incidir en el diseño y localización del proyecto pues decisiones ya están tom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304920"/>
            <a:ext cx="7772400" cy="685800"/>
          </a:xfrm>
          <a:prstGeom prst="roundRect">
            <a:avLst>
              <a:gd name="adj" fmla="val 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838080"/>
            <a:ext cx="7772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5. Participación ciudadana se ha limitado al terreno de lo técnico siendo que la decisión final de si se realiza o no el proyecto es de carácter político. Además se circunscribe a los impactos directos del proyec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2360" y="18576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Arial"/>
              </a:rPr>
              <a:t>Algunos Proyectos aprobados por el SEIA que generaron problemas previstos por la Ciudadan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205000"/>
            <a:ext cx="4608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lanta Celulosa Valdi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7400" y="4508640"/>
            <a:ext cx="53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lleno Sanitario Santa M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635280" y="5157720"/>
            <a:ext cx="865440" cy="28728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2781360"/>
            <a:ext cx="720720" cy="1429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3286080" cy="2181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50920" y="3500280"/>
            <a:ext cx="3105000" cy="23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92360" y="333360"/>
            <a:ext cx="7129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Jean J. Rousseau, (1712-1778) filósofo francés, en su libro </a:t>
            </a:r>
            <a:r>
              <a:rPr b="1" lang="es-ES" sz="2400" spc="-1" strike="noStrike">
                <a:solidFill>
                  <a:srgbClr val="003399"/>
                </a:solidFill>
                <a:latin typeface="Arial"/>
              </a:rPr>
              <a:t>"Contrato Social"</a:t>
            </a: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 indica: "Las leyes no son otra cosa, que las condiciones de la asociación civil. El pueblo sometido a las leyes debe ser el autor de las mismas". Podemos considerar esto como un signo de la importancia de la</a:t>
            </a:r>
            <a:r>
              <a:rPr b="1" lang="es-E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Arial"/>
              </a:rPr>
              <a:t>participación ciudadana</a:t>
            </a: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365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"/>
              </a:rPr>
              <a:t>En Chile, luego de  entrar en vigencia 1997 el reglamento del SEIA, se crea, a fines de ese año, en la CONAMA el Depto. de Participación Ciudadana y Educación Ambiental, iniciándose un trabajo sistemático este ámbi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314172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Rousseau indica que el hombre es bueno por naturaleza pero acaba corrompido por la sociedad que impone restricciones a su tendencia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48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700280"/>
            <a:ext cx="39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Programas Pac por Región 2000-200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537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692280"/>
            <a:ext cx="856908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articipación Ciudadana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s la participación de todos los hombres y mujeres que quieran implicarse en los problemas que les afectan, aportando puntos de vista, inquietudes y soluciones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.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71640" y="3213000"/>
            <a:ext cx="38862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99"/>
                </a:solidFill>
                <a:latin typeface="Arial"/>
              </a:rPr>
              <a:t>Participación Ciudadana en SE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3399"/>
                </a:solidFill>
                <a:uFillTx/>
                <a:latin typeface="Arial"/>
              </a:rPr>
              <a:t>Principio:</a:t>
            </a:r>
            <a:r>
              <a:rPr b="0" lang="es-ES_tradnl" sz="2800" spc="-1" strike="noStrike">
                <a:solidFill>
                  <a:srgbClr val="003399"/>
                </a:solidFill>
                <a:latin typeface="Arial"/>
              </a:rPr>
              <a:t> “Es deber del Estado facilitar la participación ciudadana y promover campañas educativas destinadas a la protección del medio ambiente” (art. 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3399"/>
                </a:solidFill>
                <a:uFillTx/>
                <a:latin typeface="Arial"/>
              </a:rPr>
              <a:t>Declaración de Río:</a:t>
            </a:r>
            <a:r>
              <a:rPr b="0" lang="es-ES_tradnl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El mejor modo de tratar las cuestiones ambientales es con la participación de todos los ciudadanos interesados” (Ppio. 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Las mujeres desempeñan un papel fundamental en la ordenación del medio ambiente y en el desarrollo. Es por tanto, imprescindible contar con su plena participación para lograr el desarrollo sostenible”   (Ppio. 2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1557360"/>
            <a:ext cx="79930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egún CONAMA,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participación ciudadana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es un  proceso de comunicación en dos direcciones que ocurre entre la autoridad ambiental y los actores involucrados (titular del proyecto y ciudadanía) donde existe la posibilidad real de la ciudadanía de influir en el proceso de toma de dec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4046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PARTICIPACIÓN CIUDADANA EN EL S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404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PÓS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484280"/>
            <a:ext cx="85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268280"/>
            <a:ext cx="813096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</a:rPr>
              <a:t>El sentido o propósito de la </a:t>
            </a: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participación ciudadana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</a:rPr>
              <a:t> es mejorar  ambientalmente los proyectos que ingresan al SEIA, a través de la consideración de las opiniones, preocupaciones e inquietudes de la ciudadanía expresadas en las observaciones ciudadanas y, finalmente, en las medidas de mitigación, reparación o compensación ambient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260280"/>
            <a:ext cx="77724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stancias de Participación de la Ciudadan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981080"/>
            <a:ext cx="889308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51"/>
              </a:spcBef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Informativo, consultivo y resolutiv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La Ley 19.300 sólo considera el informativo y el consultiv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La comunidad no puede participar en la  toma de decisiones. (Según algunos, esto le resta peso a las opiniones y observaciones hechas por la comunidad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15800" y="411120"/>
            <a:ext cx="804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Marco Legal de la PAC en el SE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341360"/>
            <a:ext cx="8594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El proceso de PAC (Participación Ciudadana) sólo incluye los EIA pues da por hecho que los proyectos ingresados por DIA cumplen con la normativa ambiental vig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8040" y="3551400"/>
            <a:ext cx="8507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La PAC se da en un plazo de 60 días hábiles, de lunes a sábado excluyendo festivos, contados desde la fecha de la publicación del extracto en diario de circulación regional o nacional según correspon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0:22:24Z</dcterms:created>
  <dc:creator>academico</dc:creator>
  <dc:description/>
  <dc:language>en-US</dc:language>
  <cp:lastModifiedBy>academico</cp:lastModifiedBy>
  <dcterms:modified xsi:type="dcterms:W3CDTF">2008-04-27T22:10:17Z</dcterms:modified>
  <cp:revision>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77631450</vt:r8>
  </property>
  <property fmtid="{D5CDD505-2E9C-101B-9397-08002B2CF9AE}" pid="3" name="_AuthorEmail">
    <vt:lpwstr>xvargas@ing.uchile.cl</vt:lpwstr>
  </property>
  <property fmtid="{D5CDD505-2E9C-101B-9397-08002B2CF9AE}" pid="4" name="_AuthorEmailDisplayName">
    <vt:lpwstr>Ximena Vargas</vt:lpwstr>
  </property>
  <property fmtid="{D5CDD505-2E9C-101B-9397-08002B2CF9AE}" pid="5" name="_EmailSubject">
    <vt:lpwstr>clase 7</vt:lpwstr>
  </property>
</Properties>
</file>