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CAA-4D29-4412-98B4-B0D85008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BFF-21BB-4F25-9BCC-FE57F0CC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DBA-A33F-482B-891C-66026CDE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A97-A05A-4DF2-B068-225E8074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59D-563E-41F7-9BFC-6A12B380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1C4-BA1F-4196-98EF-9AD41543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3DEC-4697-45B9-BE37-F2F44F06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640-9FBD-408E-9A2C-3365EB2F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D4A-36A4-490E-9A57-7A9F9F64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90B-7D16-4C23-8078-AC5449DC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73A-DDFF-49F3-81B0-31AFFE88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AA2-EA04-4B13-8BC1-921D2DAF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E0F9-F5C8-4BA3-9B97-1F20317C96D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367020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: Gener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I: Evalu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I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332000" y="1127160"/>
          <a:ext cx="7489800" cy="503856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1341360"/>
          <a:ext cx="8642160" cy="4319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rototipo debe ser capaz de soportar una balde con 500gr a una altura de 30 cm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estructura se construirá con alambre de Cu y soldadura de estañ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508720" y="3859200"/>
            <a:ext cx="3311280" cy="1656720"/>
            <a:chOff x="5508720" y="3859200"/>
            <a:chExt cx="3311280" cy="1656720"/>
          </a:xfrm>
        </p:grpSpPr>
        <p:sp>
          <p:nvSpPr>
            <p:cNvPr id="71" name=""/>
            <p:cNvSpPr/>
            <p:nvPr/>
          </p:nvSpPr>
          <p:spPr>
            <a:xfrm>
              <a:off x="7236000" y="429264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0,5 Kg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508720" y="3859200"/>
              <a:ext cx="2016000" cy="1656720"/>
              <a:chOff x="5508720" y="3859200"/>
              <a:chExt cx="2016000" cy="1656720"/>
            </a:xfrm>
          </p:grpSpPr>
          <p:sp>
            <p:nvSpPr>
              <p:cNvPr id="73" name=""/>
              <p:cNvSpPr/>
              <p:nvPr/>
            </p:nvSpPr>
            <p:spPr>
              <a:xfrm>
                <a:off x="6516720" y="3859200"/>
                <a:ext cx="577800" cy="574560"/>
              </a:xfrm>
              <a:custGeom>
                <a:avLst/>
                <a:gdLst>
                  <a:gd name="textAreaLeft" fmla="*/ 116280 w 577800"/>
                  <a:gd name="textAreaRight" fmla="*/ 461520 w 577800"/>
                  <a:gd name="textAreaTop" fmla="*/ 115560 h 574560"/>
                  <a:gd name="textAreaBottom" fmla="*/ 459000 h 57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25" y="21600"/>
                    </a:lnTo>
                    <a:lnTo>
                      <a:pt x="4675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6516720" y="4435200"/>
                <a:ext cx="577440" cy="936360"/>
                <a:chOff x="6516720" y="4435200"/>
                <a:chExt cx="577440" cy="9363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651672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84720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16720" y="4435200"/>
                  <a:ext cx="577440" cy="110160"/>
                </a:xfrm>
                <a:prstGeom prst="rect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6805800" y="42908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300720" y="44352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508720" y="472428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30 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300720" y="537192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6300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516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6732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948720" y="53715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7164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7380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50920" y="1341360"/>
          <a:ext cx="8642160" cy="42703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SI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Resiste la solicitació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fue el margen de segurida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Fueron claros los requerimien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Se puede optimizar el diseñ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el peso de la estructur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promedio por solda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ómo influye la organización del equipo en el trabajo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052640"/>
          <a:ext cx="7344000" cy="40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344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979640" y="508464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itar sobrecalentamiento: usar disipador de calor y desenchu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1916280"/>
            <a:ext cx="2879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077840"/>
            <a:ext cx="84960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usar alambre desnudo completo o desnudo hasta un par de centímetros de la soldadura porque el forro se quema al sol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lentar con el cautín por un costado de la un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sperar que alcance temperatura de f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plicar soldadura por el lado contrario al del cautí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oldadura debe penetrar en el espacio interior y producir aleación Cu-P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ambre debe estar totalmente lim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052640"/>
            <a:ext cx="8496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vitar absolutamente la grasa de las manos en el punto de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el alambre se ensucia, se debe lijar antes de soldar (grasa, aire de varios días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utín debe reposar en disipador cuando no se está sold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desenchufar cautín si va a pasar un rato largo sin u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determinar si cautín alcanzó la temperatura, tocar la punta del cautín con la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92240"/>
            <a:ext cx="8496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cortar le alambre, usar antipar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se corta un trozo pequeño de alambre, dirigirlo hacia el suelo o la mesa porque va a sal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soldar usar gu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afirmar la estructura al soldar, usar alicate o prensa porque alambre se cali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afirmar con alicate o prensa, hacerlo alejado varios centímetros del punto de soldadura porque el alicate o prensa disipará el calor y enfriará el punto de cont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588000" y="1700280"/>
          <a:ext cx="2089440" cy="174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1700280"/>
                    <a:ext cx="20894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484360" y="3645000"/>
          <a:ext cx="331164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3645000"/>
                    <a:ext cx="331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50920" y="177336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tener unidos hasta que la soldadura solidif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9001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álisis de ca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a Estruc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844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les en los Grup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263844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ordi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335772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407844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cargado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479736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551808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 de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95280" y="1495440"/>
          <a:ext cx="8569440" cy="15019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r la carrera de ingeniería a los procesos diseñar y implementar proyect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1197000"/>
          <a:ext cx="8569440" cy="46465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79640" y="2060640"/>
          <a:ext cx="5904000" cy="280836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17T02:56:19Z</dcterms:modified>
  <cp:revision>37</cp:revision>
  <dc:subject/>
  <dc:title>EL63A-Taller de Proyecto en Control II</dc:title>
</cp:coreProperties>
</file>