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517B-6E0F-437E-8262-E694C7F39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F8E7-338F-4044-82BB-E5B820B0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9805-DB15-4BB5-8C29-29505D00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9D18-0B05-40C6-AD31-8C0952DB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C83E-8671-4ED1-B04C-FAB8D8FC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CCE9-6761-4759-A7DF-487A9784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6D3A-5A87-4631-8D30-BBF63110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E998-92DC-4280-9871-AFF86125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9950-FBFE-463E-BA7A-38A7A951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CD77-694A-43E9-98C0-0760D25E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0C86-C50E-4605-94A7-BE3667EE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0265-6064-424B-AB40-8422DCE2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2839-D270-4B26-BC62-DEC63F5703B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I-110 Introducción a la Ingenierí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nálisis Proyecto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551628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.: Héctor Ag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332000" y="1127160"/>
          <a:ext cx="7489800" cy="5035680"/>
        </p:xfrm>
        <a:graphic>
          <a:graphicData uri="http://schemas.openxmlformats.org/drawingml/2006/table">
            <a:tbl>
              <a:tblPr/>
              <a:tblGrid>
                <a:gridCol w="7489800"/>
              </a:tblGrid>
              <a:tr h="65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 Nota Individual: puntualidad, participación, cumplimiento de ro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ototipo: cumplimiento de especificaciones, evaluar prototipo, estimación de tiempo de construcció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Dise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Construcc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Inf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Trebuchet MS"/>
              </a:rPr>
              <a:t>Proyecto de Ingeniería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8 Marcador de contenido"/>
          <p:cNvSpPr/>
          <p:nvPr/>
        </p:nvSpPr>
        <p:spPr>
          <a:xfrm>
            <a:off x="457200" y="1557360"/>
            <a:ext cx="73548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fue lo más relev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les gust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0000cc"/>
                </a:solidFill>
                <a:latin typeface="Trebuchet MS"/>
              </a:rPr>
              <a:t>Proyecto de Ingeniería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1197000"/>
          <a:ext cx="8569440" cy="464508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der los fundamentos del proceso de diseño y sus formas de aplicación en diferentes áreas de la ingenierí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r la estrategia de trabajo colaborativo en la resolución de los problemas que se le presenten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r técnicas de redacción de informes y efectuar presentaciones orales de acuerdo a estándares de calidad establecid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 los aspectos éticos de un proyecto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0" y="642960"/>
            <a:ext cx="8929800" cy="2698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3143160" y="3429000"/>
            <a:ext cx="4168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Aclarar los reque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57000"/>
            <a:ext cx="7354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Fueron claros los requerimien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faltó por preguntar o aclar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balde vibraba: ¿De quién es la responsabili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Prototi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prender a sol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tender uso del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quirir elementos para diseño (resistencia de materiales, dificultades práctic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mitió planificación: ¿Se puede diseñar sin experienc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Diseño y Constr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rices de Interacción y Dec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mbios en el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justarse a los plaz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so de elementos de segu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ingenieria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                      EL69F- Trabajo de Títu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Estruc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35280" y="1628640"/>
            <a:ext cx="1224000" cy="216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162864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5280" y="1700280"/>
            <a:ext cx="1657080" cy="2089080"/>
          </a:xfrm>
          <a:prstGeom prst="parallelogram">
            <a:avLst>
              <a:gd name="adj" fmla="val 25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1628640"/>
            <a:ext cx="1224000" cy="20876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6000" y="148428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156000" y="1773360"/>
            <a:ext cx="576360" cy="1942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04000" y="1773360"/>
            <a:ext cx="216000" cy="718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7164360" y="2924280"/>
            <a:ext cx="216000" cy="792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16360" y="3645000"/>
            <a:ext cx="215640" cy="21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92360" y="3645000"/>
            <a:ext cx="215640" cy="21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1628640"/>
            <a:ext cx="21600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1628640"/>
            <a:ext cx="21564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4149720"/>
            <a:ext cx="938160" cy="46980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960 h 469800"/>
              <a:gd name="textAreaBottom" fmla="*/ 39384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960200">
            <a:off x="4140000" y="4365360"/>
            <a:ext cx="938160" cy="46980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960 h 469800"/>
              <a:gd name="textAreaBottom" fmla="*/ 39384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rot="19639800">
            <a:off x="2556000" y="4365360"/>
            <a:ext cx="938160" cy="46980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960 h 469800"/>
              <a:gd name="textAreaBottom" fmla="*/ 39384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4165800">
            <a:off x="4662000" y="4998960"/>
            <a:ext cx="938160" cy="46836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600 h 468360"/>
              <a:gd name="textAreaBottom" fmla="*/ 39276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rot="17434200">
            <a:off x="2070000" y="5007240"/>
            <a:ext cx="938160" cy="46836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600 h 468360"/>
              <a:gd name="textAreaBottom" fmla="*/ 39276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7440" y="5614920"/>
            <a:ext cx="4965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8 Marcador de contenido"/>
          <p:cNvSpPr/>
          <p:nvPr/>
        </p:nvSpPr>
        <p:spPr>
          <a:xfrm>
            <a:off x="6443640" y="4365720"/>
            <a:ext cx="2700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br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3526920" y="4545000"/>
            <a:ext cx="576360" cy="360360"/>
          </a:xfrm>
          <a:prstGeom prst="rightArrow">
            <a:avLst>
              <a:gd name="adj1" fmla="val 41852"/>
              <a:gd name="adj2" fmla="val 647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760800">
            <a:off x="4210920" y="4365360"/>
            <a:ext cx="576360" cy="360360"/>
          </a:xfrm>
          <a:prstGeom prst="rightArrow">
            <a:avLst>
              <a:gd name="adj1" fmla="val 41852"/>
              <a:gd name="adj2" fmla="val 647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rot="8839200">
            <a:off x="2841840" y="4365000"/>
            <a:ext cx="576360" cy="360720"/>
          </a:xfrm>
          <a:prstGeom prst="rightArrow">
            <a:avLst>
              <a:gd name="adj1" fmla="val 41852"/>
              <a:gd name="adj2" fmla="val 6470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Presentacion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9280" y="14241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cer 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spectos formales: texto, imágenes, fond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sentador (preparar a la audiencia y mantener la atención, vocabulario técnico y f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sayar presentaciones: tiempo, coordinación entre presentadores, probar diapositiv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3:11:50Z</dcterms:created>
  <dc:creator>Jvargas</dc:creator>
  <dc:description/>
  <dc:language>en-US</dc:language>
  <cp:lastModifiedBy>Uchile</cp:lastModifiedBy>
  <dcterms:modified xsi:type="dcterms:W3CDTF">2008-05-09T18:12:56Z</dcterms:modified>
  <cp:revision>2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75446294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EI110 - Clases pendientes</vt:lpwstr>
  </property>
</Properties>
</file>