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29D-9FC1-4BA8-926B-79E1701D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768F-740E-41DC-B3E6-1BC07690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CD1B-9BDD-46CD-B995-6A23EF0A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158-A411-4116-978B-B0BC4B78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E04-C707-4B5E-930C-B9BA0E29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370-AF45-4F66-AA3F-3395CC12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4D0-F585-4046-A5F3-DBF7C0E4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DFE-AC3B-479C-BBE8-207DE1C1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149-8570-4FF1-BAD1-889764E1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369-8E57-4BD6-8F49-5DB035C9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FD7-E189-4A8A-A0F0-CCFC8149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F79-C0D3-49ED-B6B5-4E598BFD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283D-58D0-493C-A808-C76DB0E728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álisis Proyecto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332000" y="1127160"/>
          <a:ext cx="7489800" cy="503568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457200" y="1557360"/>
            <a:ext cx="7354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ue lo más relev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les gust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197000"/>
          <a:ext cx="8569440" cy="464508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Aclarar los reque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57000"/>
            <a:ext cx="7354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Fueron claros los requerimi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altó por preguntar o aclar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balde vibraba: ¿De quién es la responsabil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oto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prender a sol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ender uso d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quirir elementos para diseño (resistencia de materiales, dificultades práctic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mitió planificación: ¿Se puede diseñar sin experie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Diseño y Constr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rices de Interacción y 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os en el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justarse a los plaz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o de elementos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ingenieria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                      EL69F- Trabajo de Tít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Estruc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1628640"/>
            <a:ext cx="1224000" cy="216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62864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1700280"/>
            <a:ext cx="1657080" cy="2089080"/>
          </a:xfrm>
          <a:prstGeom prst="parallelogram">
            <a:avLst>
              <a:gd name="adj" fmla="val 25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1628640"/>
            <a:ext cx="1224000" cy="2087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148428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6000" y="1773360"/>
            <a:ext cx="576360" cy="1942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1773360"/>
            <a:ext cx="216000" cy="71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7164360" y="2924280"/>
            <a:ext cx="21600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628640"/>
            <a:ext cx="21600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628640"/>
            <a:ext cx="21564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414972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60200">
            <a:off x="4140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rot="19639800">
            <a:off x="2556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4165800">
            <a:off x="4662000" y="499896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17434200">
            <a:off x="2070000" y="500724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7440" y="5614920"/>
            <a:ext cx="496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8 Marcador de contenido"/>
          <p:cNvSpPr/>
          <p:nvPr/>
        </p:nvSpPr>
        <p:spPr>
          <a:xfrm>
            <a:off x="6443640" y="4365720"/>
            <a:ext cx="270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b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3526920" y="454500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760800">
            <a:off x="4210920" y="436536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8839200">
            <a:off x="2841840" y="4365000"/>
            <a:ext cx="576360" cy="360720"/>
          </a:xfrm>
          <a:prstGeom prst="rightArrow">
            <a:avLst>
              <a:gd name="adj1" fmla="val 41852"/>
              <a:gd name="adj2" fmla="val 647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esentacion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1424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cer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pectos formales: texto, imágenes, fon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tador (preparar a la audiencia y mantener la atención, vocabulario técnico y f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sayar presentaciones: tiempo, coordinación entre presentadores, probar diaposi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8-05-09T18:12:56Z</dcterms:modified>
  <cp:revision>2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7544629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