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9.png" ContentType="image/png"/>
  <Override PartName="/ppt/media/image1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B5A-12DF-4138-A525-D862E71E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864-CB72-4F9B-81B6-F2DB45B6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9E55-15BD-48B6-85CD-AA9B088D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8E8-42ED-4A76-AFB5-8764B76D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FC5B-56E8-4D60-8998-31E9F055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BF0E-C418-4065-9FAD-D42733A2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9E9-BFA0-423B-8A58-50D64C1B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0045-F9AF-4E51-9F0A-37184ADF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93C0-8291-442D-96C5-EDE60B1E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BAE-28B8-424D-AE3C-2451B89F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C96-D2CD-42A2-81A1-45BB6098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1BC-BFD5-4AF7-A3F1-5C5D75EC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D149-3753-4F7C-B046-4F7C4F2FB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Marcador de contenido"/>
          <p:cNvSpPr/>
          <p:nvPr/>
        </p:nvSpPr>
        <p:spPr>
          <a:xfrm>
            <a:off x="179280" y="1268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tres ejes se representa simétricamente a 120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 escala en cada una es la misma (ventaj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ven las tres vistas estándar desde arri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56000" y="4065480"/>
            <a:ext cx="367164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papel isométrico, para trazado a 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665964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s se v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3035160" cy="328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651640" y="2637000"/>
            <a:ext cx="2577960" cy="24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simples de hacer pero menos real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2 ejes perpendicular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er eje a normalmente a 45º (30º o 60º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427640" y="3500280"/>
            <a:ext cx="33908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Vista frontal 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ofundidad se modifica para dar rea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3187800" cy="2100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500720" y="2751120"/>
            <a:ext cx="46432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s oblicu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32400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ircunferencia se ven en vista frontal, en el resto aparecen como elip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284720" y="3013200"/>
            <a:ext cx="459108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8 Marcador de contenido"/>
          <p:cNvSpPr/>
          <p:nvPr/>
        </p:nvSpPr>
        <p:spPr>
          <a:xfrm>
            <a:off x="179280" y="119700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 la forma en que vemos el mundo 3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ás realistas pero más difíciles de h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íneas paralelas convergen (puntos de fug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87640" y="3708360"/>
            <a:ext cx="6156360" cy="31496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132000" y="4436640"/>
            <a:ext cx="4319640" cy="2421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7451280" y="4436640"/>
            <a:ext cx="1692360" cy="129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940360" y="4436640"/>
            <a:ext cx="1224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5940000" y="4437000"/>
            <a:ext cx="158436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8 Marcador de contenido"/>
          <p:cNvSpPr/>
          <p:nvPr/>
        </p:nvSpPr>
        <p:spPr>
          <a:xfrm>
            <a:off x="108000" y="1052640"/>
            <a:ext cx="896472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scala de profundidad va disminuyendo a medida que se acerca a horiz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y tantos punto de fuga como grupos de líneas paralelas fura del plano fro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erspectiv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116000" y="3789360"/>
            <a:ext cx="4321080" cy="277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305240" y="3681360"/>
            <a:ext cx="4875120" cy="2843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908000" y="4560840"/>
            <a:ext cx="2808360" cy="229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ormato estándar en ingenie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junto de vistas 2D de un cuer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284720" y="2708280"/>
            <a:ext cx="5111640" cy="3813120"/>
          </a:xfrm>
          <a:prstGeom prst="rect">
            <a:avLst/>
          </a:prstGeom>
          <a:ln w="0">
            <a:noFill/>
          </a:ln>
        </p:spPr>
      </p:pic>
      <p:sp>
        <p:nvSpPr>
          <p:cNvPr id="90" name="8 Marcador de contenido"/>
          <p:cNvSpPr/>
          <p:nvPr/>
        </p:nvSpPr>
        <p:spPr>
          <a:xfrm>
            <a:off x="-36360" y="2708280"/>
            <a:ext cx="504000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ntas como sea necesario para definirlo completamente y sin ambigüedades (2, 3 o 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ubicar las vi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24000" y="2276640"/>
            <a:ext cx="5689800" cy="40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9080" y="0"/>
            <a:ext cx="867564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xiste convención para los estilos de lín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268360" y="2349360"/>
            <a:ext cx="4681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bujos son a escala, pero deben tener dimensiones que los definen (no satur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024000" cy="2706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924360" y="2492280"/>
            <a:ext cx="521964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Dibujos Multivistas (plano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8 Marcador de contenido"/>
          <p:cNvSpPr/>
          <p:nvPr/>
        </p:nvSpPr>
        <p:spPr>
          <a:xfrm>
            <a:off x="-36360" y="1341360"/>
            <a:ext cx="856908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lerancia puede ser explicita o implícita (en función de cifras significativ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términos constructivos a menor tolerancia mayos cos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03640" y="4041720"/>
            <a:ext cx="33130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uadro de Rotul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8 Marcador de contenido"/>
          <p:cNvSpPr/>
          <p:nvPr/>
        </p:nvSpPr>
        <p:spPr>
          <a:xfrm>
            <a:off x="34920" y="1197000"/>
            <a:ext cx="4317840" cy="33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instit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mbre de la pi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olerancia que será utilizada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aterial que será utilizado para fabric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tamiento Térmico u o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Marcador de contenido"/>
          <p:cNvSpPr/>
          <p:nvPr/>
        </p:nvSpPr>
        <p:spPr>
          <a:xfrm>
            <a:off x="4286160" y="1197000"/>
            <a:ext cx="4606920" cy="27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idades de med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dibuj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Iniciales del que revis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Un número único            (ej.: EI110-S2-G3-P2-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56000" y="3822840"/>
            <a:ext cx="4788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scal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8 Marcador de contenido"/>
          <p:cNvSpPr/>
          <p:nvPr/>
        </p:nvSpPr>
        <p:spPr>
          <a:xfrm>
            <a:off x="-36360" y="134136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lación entre medidas en plano y medidas r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8 Marcador de contenido"/>
          <p:cNvSpPr/>
          <p:nvPr/>
        </p:nvSpPr>
        <p:spPr>
          <a:xfrm>
            <a:off x="3851280" y="2492280"/>
            <a:ext cx="12603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i="1" lang="es-CL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92428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p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2924280"/>
            <a:ext cx="20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s en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8 Marcador de contenido"/>
          <p:cNvSpPr/>
          <p:nvPr/>
        </p:nvSpPr>
        <p:spPr>
          <a:xfrm>
            <a:off x="250920" y="3860640"/>
            <a:ext cx="856908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entero y en lo posible múltiplo de 10 o 5 (salvo 1:1,  1:2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iseño Asistido por Computador (en inglé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 facilitar re-impresión y corre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un principio permitían “unir” líneas del dibujo (2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uego entienden figuras 3D y generan vistas (“modelos de alambre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algunos comprenden los materiales sólidos (análisis y simulació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8 Marcador de contenido"/>
          <p:cNvSpPr/>
          <p:nvPr/>
        </p:nvSpPr>
        <p:spPr>
          <a:xfrm>
            <a:off x="250920" y="1052640"/>
            <a:ext cx="889308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rabajan sobre base de datos de entidades geométricas (puntos, líneas, arcos,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utoCA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 Autodesk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icrost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 Bentley Sistems, In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ntelliCAD (versión 2001 disponible en PC’s Zoca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idwork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ProEngine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y Autodesk, Inc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 SketchUp (software grat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8 Marcador de contenido"/>
          <p:cNvSpPr/>
          <p:nvPr/>
        </p:nvSpPr>
        <p:spPr>
          <a:xfrm>
            <a:off x="287280" y="1052640"/>
            <a:ext cx="885672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trabajar en directamente en unidades de ingenier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 imprimir se eligen vistas y se aplica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os dibujos se organizan en capas, se pueden ver o imprimir según la necesidad el p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manejar distintas vistas, escalas y/o visualizar dimen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4360" y="0"/>
            <a:ext cx="812304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Times New Roman"/>
              </a:rPr>
              <a:t>Intellic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Marcador de contenido"/>
          <p:cNvSpPr/>
          <p:nvPr/>
        </p:nvSpPr>
        <p:spPr>
          <a:xfrm>
            <a:off x="287280" y="1052640"/>
            <a:ext cx="8856720" cy="35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ando el espacio de trabajo de papel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paper workspace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 se pueden crear ventanas flotantes (comando 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mview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 ellas se pueden ubicar distintas vist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4360" y="290520"/>
            <a:ext cx="831528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76360" y="92160"/>
            <a:ext cx="76327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562040" y="819000"/>
            <a:ext cx="60199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71560" y="942840"/>
            <a:ext cx="56008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47640" y="318960"/>
            <a:ext cx="6048720" cy="62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03280" y="836640"/>
            <a:ext cx="6343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Técn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179280" y="1268280"/>
            <a:ext cx="8569440" cy="456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mite comunicar diseño (parte del proceso de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ctualmente existen sofisticados software de dibujo: CAD (etapas avanzadas del diseñ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mportante poder expresar una idea en un dibujo simple a mano alzada (etapas inici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bujo Pictór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539640" y="1484280"/>
            <a:ext cx="85694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presentación en 2D de cuerpos 3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Isomét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lic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spec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44323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5-12T18:11:41Z</dcterms:modified>
  <cp:revision>51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25341295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I110 - Clases pendientes</vt:lpwstr>
  </property>
</Properties>
</file>