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1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102-294B-4776-B72E-3806E516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AE5A-2005-4DAA-A125-60097EA3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E2F-6AC1-445C-AAA3-A3C5F3CA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714-FA62-4C54-9F0D-BB5FAEF5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6C3-DAC8-4926-A24F-5DFCD390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86C-B77A-4A26-B7D4-5D47ADE3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318A-07D0-44DA-A28F-139214C5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7A4-273F-4F16-8E33-D961C0DA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0BE3-8D6A-4759-A47E-BE5C29E5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AFD9-16A4-4B99-9461-83A4DB0C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B30-DDE1-4197-A05B-BFD9CC18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34ED-49B3-4913-850B-170FA3E1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2268-CE92-483F-8252-56347F5E5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contenido"/>
          <p:cNvSpPr/>
          <p:nvPr/>
        </p:nvSpPr>
        <p:spPr>
          <a:xfrm>
            <a:off x="179280" y="1268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tres ejes se representa simétricamente a 120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 escala en cada una es la misma (ventaj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ven las tres vistas estándar desde arri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56000" y="4065480"/>
            <a:ext cx="367164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papel isométrico, para trazado a m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665964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s se v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3035160" cy="328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651640" y="2637000"/>
            <a:ext cx="2577960" cy="24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simples de hacer pero menos real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2 ejes perpendicula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3er eje a normalmente a 45º (30º o 60º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27640" y="3500280"/>
            <a:ext cx="3390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Vista frontal 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rofundidad se modifica para dar real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3187800" cy="2100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500720" y="2751120"/>
            <a:ext cx="46432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 se ven en vista frontal, en el resto aparec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284720" y="3013200"/>
            <a:ext cx="45910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8 Marcador de contenido"/>
          <p:cNvSpPr/>
          <p:nvPr/>
        </p:nvSpPr>
        <p:spPr>
          <a:xfrm>
            <a:off x="179280" y="119700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 la forma en que vemos el mundo 3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realistas pero más difíciles de h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íneas paralelas convergen (puntos de fug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987640" y="3708360"/>
            <a:ext cx="6156360" cy="314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132000" y="4436640"/>
            <a:ext cx="4319640" cy="2421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7451280" y="4436640"/>
            <a:ext cx="1692360" cy="129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940360" y="4436640"/>
            <a:ext cx="1224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940000" y="4437000"/>
            <a:ext cx="1584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8 Marcador de contenido"/>
          <p:cNvSpPr/>
          <p:nvPr/>
        </p:nvSpPr>
        <p:spPr>
          <a:xfrm>
            <a:off x="108000" y="105264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scala de profundidad va disminuyendo a medida que se acerca a horiz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Hay tantos punto de fuga como grupos de líneas paralelas fura del plano fro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116000" y="3789360"/>
            <a:ext cx="4321080" cy="2778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305240" y="3681360"/>
            <a:ext cx="4875120" cy="2843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908000" y="4560840"/>
            <a:ext cx="280836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ormato estándar en ingenier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junto de vistas 2D de un cuer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84720" y="2708280"/>
            <a:ext cx="5111640" cy="3813120"/>
          </a:xfrm>
          <a:prstGeom prst="rect">
            <a:avLst/>
          </a:prstGeom>
          <a:ln w="0">
            <a:noFill/>
          </a:ln>
        </p:spPr>
      </p:pic>
      <p:sp>
        <p:nvSpPr>
          <p:cNvPr id="90" name="8 Marcador de contenido"/>
          <p:cNvSpPr/>
          <p:nvPr/>
        </p:nvSpPr>
        <p:spPr>
          <a:xfrm>
            <a:off x="-36360" y="2708280"/>
            <a:ext cx="504000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antas como sea necesario para definirlo completamente y sin ambigüedades (2, 3 o 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ubicar las v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568980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9080" y="0"/>
            <a:ext cx="867564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los estilos de lín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68360" y="2349360"/>
            <a:ext cx="46818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bujos son a escala, pero deben tener dimensiones que los definen (no satur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3024000" cy="2706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924360" y="2492280"/>
            <a:ext cx="521964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olerancia puede ser explicita o implícita (en función de cifras significativ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términos constructivos a menor tolerancia mayos cos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03640" y="4041720"/>
            <a:ext cx="331308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uadro de Rotul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8 Marcador de contenido"/>
          <p:cNvSpPr/>
          <p:nvPr/>
        </p:nvSpPr>
        <p:spPr>
          <a:xfrm>
            <a:off x="34920" y="1197000"/>
            <a:ext cx="431784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instit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pi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olerancia que será utilizada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terial que será utilizado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tamiento Térmico u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Marcador de contenido"/>
          <p:cNvSpPr/>
          <p:nvPr/>
        </p:nvSpPr>
        <p:spPr>
          <a:xfrm>
            <a:off x="4286160" y="1197000"/>
            <a:ext cx="460692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idades de med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dibuj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revis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 número único            (ej.: EI110-S2-G3-P2-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3822840"/>
            <a:ext cx="4788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8 Marcador de contenido"/>
          <p:cNvSpPr/>
          <p:nvPr/>
        </p:nvSpPr>
        <p:spPr>
          <a:xfrm>
            <a:off x="-36360" y="134136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lación entre medidas en plano y medidas re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8 Marcador de contenido"/>
          <p:cNvSpPr/>
          <p:nvPr/>
        </p:nvSpPr>
        <p:spPr>
          <a:xfrm>
            <a:off x="3851280" y="2492280"/>
            <a:ext cx="12603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1 : </a:t>
            </a:r>
            <a:r>
              <a:rPr b="1" i="1" lang="es-CL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92428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pa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292428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la re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8 Marcador de contenido"/>
          <p:cNvSpPr/>
          <p:nvPr/>
        </p:nvSpPr>
        <p:spPr>
          <a:xfrm>
            <a:off x="250920" y="386064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entero y en lo posible múltiplo de 10 o 5 (salvo 1:1,  1:2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ño Asistido por Computador (en inglé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 facilitar re-impresión y corre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un principio permitían “unir” líneas del dibujo (2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uego entienden figuras 3D y generan vistas (“modelos de alambre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algunos comprenden los materiales sólidos (análisis y simulación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8 Marcador de contenido"/>
          <p:cNvSpPr/>
          <p:nvPr/>
        </p:nvSpPr>
        <p:spPr>
          <a:xfrm>
            <a:off x="250920" y="1052640"/>
            <a:ext cx="889308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rabajan sobre base de datos de entidades geométricas (puntos, líneas, arcos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utoCA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 Autodesk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icrost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Bentley Sistems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lliCAD (versión 2001 disponible en PC’s Zoca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idwork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ProEngine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y Autodesk, In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SketchUp (software grat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trabajar en directamente en unidades de ingenier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 imprimir se eligen vistas y se aplic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dibujos se organizan en capas, se pueden ver o imprimir según la necesidad el p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manejar distintas vistas, escalas y/o visualizar dimen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812304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contenido"/>
          <p:cNvSpPr/>
          <p:nvPr/>
        </p:nvSpPr>
        <p:spPr>
          <a:xfrm>
            <a:off x="287280" y="1052640"/>
            <a:ext cx="8856720" cy="35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Usando el espacio de trabajo de papel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paper workspace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 se pueden crear ventanas flotantes (comando 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mview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ellas se pueden ubicar distintas vist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4360" y="290520"/>
            <a:ext cx="83152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476360" y="92160"/>
            <a:ext cx="76327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62040" y="819000"/>
            <a:ext cx="60199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71560" y="942840"/>
            <a:ext cx="56008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47640" y="318960"/>
            <a:ext cx="604872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03280" y="836640"/>
            <a:ext cx="63435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Técn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Marcador de contenido"/>
          <p:cNvSpPr/>
          <p:nvPr/>
        </p:nvSpPr>
        <p:spPr>
          <a:xfrm>
            <a:off x="179280" y="1268280"/>
            <a:ext cx="8569440" cy="456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comunicar diseño (parte del proceso de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existen sofisticados software de dibujo: CAD (etapas avanzadas del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mportante poder expresar una idea en un dibujo simple a mano alzada (etapas inicia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Pictór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Marcador de contenido"/>
          <p:cNvSpPr/>
          <p:nvPr/>
        </p:nvSpPr>
        <p:spPr>
          <a:xfrm>
            <a:off x="539640" y="1484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ción en 2D de cuerpos 3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lic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spec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4432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5-12T18:11:41Z</dcterms:modified>
  <cp:revision>51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25341295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I110 - Clases pendientes</vt:lpwstr>
  </property>
</Properties>
</file>