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A69-CFED-441D-BB6B-8266ED2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F84-10D2-433C-8BCA-CB29364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336-FE0F-460C-9187-ADDE9E94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264-6207-498B-94D8-A2B22760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C53-ECAB-4F5A-88DA-DF9C8BB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A13-1855-463C-937F-6244AEA0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8F3-42D5-42BD-BA40-AD0619B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342-3F47-4E47-8672-96D0E8E8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D5A-4B50-4CC7-9666-4190D98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7BF-25EB-4E8A-9136-DCBAD8D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FF6-D7DF-49F3-847A-F7D6B9F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AFF-A76A-4E5D-B7D0-88449D0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4811-461B-43E0-83ED-5F3EE970B3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04640"/>
            <a:ext cx="842472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s-E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635280" y="1125360"/>
            <a:ext cx="5257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50920" y="16398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omparar alternativas con varios crite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definen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ponen nota (importancia) relativa entr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e totaliza y normaliza, dando un ponderador por crit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Forth y Clyde fue construido en 177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al Union entre Falkirk y Edinburgh fue finalizado en 18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sta 1963 estuvieron unidos por 11 excl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2002 entró en servicio un transportador rotacional de b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falkirk"/>
          <p:cNvPicPr/>
          <p:nvPr/>
        </p:nvPicPr>
        <p:blipFill>
          <a:blip r:embed="rId2"/>
          <a:stretch/>
        </p:blipFill>
        <p:spPr>
          <a:xfrm>
            <a:off x="4643280" y="642960"/>
            <a:ext cx="4260960" cy="55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Graphic1"/>
          <p:cNvPicPr/>
          <p:nvPr/>
        </p:nvPicPr>
        <p:blipFill>
          <a:blip r:embed="rId3"/>
          <a:stretch/>
        </p:blipFill>
        <p:spPr>
          <a:xfrm>
            <a:off x="4643280" y="2500200"/>
            <a:ext cx="421488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38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entrar un bote en el compartimiento, el sistema gira permitiendo que el bote baje al nivel del canal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gp16022"/>
          <p:cNvPicPr/>
          <p:nvPr/>
        </p:nvPicPr>
        <p:blipFill>
          <a:blip r:embed="rId2"/>
          <a:stretch/>
        </p:blipFill>
        <p:spPr>
          <a:xfrm>
            <a:off x="1571760" y="3541680"/>
            <a:ext cx="2698560" cy="303048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>
            <a:off x="3597120" y="3643200"/>
            <a:ext cx="46080" cy="26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00280" y="4714920"/>
            <a:ext cx="785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66"/>
                </a:solidFill>
                <a:latin typeface="Comic Sans MS"/>
              </a:rPr>
              <a:t>3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lkirkwheel1"/>
          <p:cNvPicPr/>
          <p:nvPr/>
        </p:nvPicPr>
        <p:blipFill>
          <a:blip r:embed="rId3"/>
          <a:stretch/>
        </p:blipFill>
        <p:spPr>
          <a:xfrm>
            <a:off x="4357800" y="714240"/>
            <a:ext cx="461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roceso completo toma sólo 15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“tubo” pesa cerca de 300 toneladas, considerando estructura, agua y b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Imgp16024"/>
          <p:cNvPicPr/>
          <p:nvPr/>
        </p:nvPicPr>
        <p:blipFill>
          <a:blip r:embed="rId2"/>
          <a:srcRect l="3667" t="0" r="4022" b="1932"/>
          <a:stretch/>
        </p:blipFill>
        <p:spPr>
          <a:xfrm>
            <a:off x="3186000" y="1571760"/>
            <a:ext cx="58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de diseño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kirk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3840" y="1500120"/>
            <a:ext cx="3071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sistema está balanc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 una máquina de 22 K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ume sólo 1,5 KW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gp16038"/>
          <p:cNvPicPr/>
          <p:nvPr/>
        </p:nvPicPr>
        <p:blipFill>
          <a:blip r:embed="rId2"/>
          <a:srcRect l="0" t="0" r="6961" b="0"/>
          <a:stretch/>
        </p:blipFill>
        <p:spPr>
          <a:xfrm>
            <a:off x="3257640" y="1285920"/>
            <a:ext cx="5815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90792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0360" y="321300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gantt"/>
          <p:cNvPicPr/>
          <p:nvPr/>
        </p:nvPicPr>
        <p:blipFill>
          <a:blip r:embed="rId2"/>
          <a:stretch/>
        </p:blipFill>
        <p:spPr>
          <a:xfrm>
            <a:off x="642960" y="428760"/>
            <a:ext cx="82501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25T16:59:02Z</dcterms:modified>
  <cp:revision>53</cp:revision>
  <dc:subject/>
  <dc:title>EL63A-Taller de Proyecto en Control II</dc:title>
</cp:coreProperties>
</file>