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8.wmf" ContentType="image/x-wmf"/>
  <Override PartName="/ppt/media/image9.jpeg" ContentType="image/jpeg"/>
  <Override PartName="/ppt/media/image10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9309100" cy="7023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9E2A-BFFC-4131-8CF5-A6DCD7E4D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ED16-5D37-4ED3-A3DB-273CBDD9C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6548-C5C8-4D3C-9B90-BEEB7820A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3CE7-1048-4815-B343-5E90E8D5F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D29E-B992-4E0D-812A-1500982A7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BFD4-B19E-49ED-B41E-D6CA44E11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A9BB-09E9-45B8-8149-37E6EA8A9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600A-13DA-402A-9906-BF12A230A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C396-A0DF-4868-BCC6-3F6CE08CD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B9CB-621E-46AB-A66C-B82D8D5DF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A469-CC25-477A-8B0B-CBA7FDE0F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D9D5-5665-4BCA-8A99-89E04AF83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83BA5-4423-4565-8ED9-DF031F59DB0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25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EI110- Introducción a la Ingeniería 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634920" y="5516280"/>
            <a:ext cx="4568760" cy="62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f: Héctor Agus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760320" y="2997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0" y="2997360"/>
            <a:ext cx="896472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El Proceso de Diseño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-252360" y="404640"/>
            <a:ext cx="8424720" cy="10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Curva 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1187280" y="1989000"/>
            <a:ext cx="6840720" cy="23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Actividades se representan en HH</a:t>
            </a:r>
            <a:br>
              <a:rPr sz="2400"/>
            </a:br>
            <a:br>
              <a:rPr sz="2400"/>
            </a:b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Se muestra HH programas acumuladas y HH reales (avance) acumuladas, usualmente en % respecto del to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3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4.- Obtener inform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98720"/>
            <a:ext cx="6778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Más información = mej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Aporta ideas nue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Ojo con Normas legales, Pate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5.- Generar Conceptos alternativ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“</a:t>
            </a:r>
            <a:r>
              <a:rPr b="1" i="1" lang="es-ES" sz="3200" spc="-1" strike="noStrike">
                <a:solidFill>
                  <a:srgbClr val="0033cc"/>
                </a:solidFill>
                <a:latin typeface="Times New Roman"/>
              </a:rPr>
              <a:t>BrainStorm</a:t>
            </a: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Modificaciones, Analogías (inspiració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Sustituir, combinar, modificar, adaptar, nuevos usos, eliminar, reordena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3635280" y="1125360"/>
            <a:ext cx="5257800" cy="25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Arial"/>
              </a:rPr>
              <a:t>Tomar nota de todas las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Arial"/>
              </a:rPr>
              <a:t>Criticas despu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Arial"/>
              </a:rPr>
              <a:t>Se buscan mejoras y combinaciones de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Arial"/>
              </a:rPr>
              <a:t>Más ideas mej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Arial"/>
              </a:rPr>
              <a:t>Estimulas ideas nuevas y “loca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6.- Evaluar Alternativ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Satisfacer Requerimientos de Diseñ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Definir parámetros de evaluación: constructivos, funcionales, de mantenimi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7.- Seleccionar Mejor Alternati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Listado de Criter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Asignar valores a los distintos criterios (matriz de Interacció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Analizar y comparar alternati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Matriz de Intera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7"/>
          <p:cNvSpPr/>
          <p:nvPr/>
        </p:nvSpPr>
        <p:spPr>
          <a:xfrm>
            <a:off x="250920" y="1639800"/>
            <a:ext cx="8497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Comparar alternativas con varios criteri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Se definen criter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Se ponen nota (importancia) relativa entre criter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Se totaliza y normaliza, dando un ponderador por criteri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Matriz de Intera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3" descr=""/>
          <p:cNvPicPr/>
          <p:nvPr/>
        </p:nvPicPr>
        <p:blipFill>
          <a:blip r:embed="rId2"/>
          <a:stretch/>
        </p:blipFill>
        <p:spPr>
          <a:xfrm>
            <a:off x="0" y="1630440"/>
            <a:ext cx="9144000" cy="43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8.- Comunicar Diseñ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50560" y="2133720"/>
            <a:ext cx="849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En forma escrita (manuales, report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En forma oral (presentacion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9.- Implementar Diseñ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77336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Modelos (Físicos, Conceptuales, CAD , Diagramas de cuerpo libre, Matemáticos, et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Hojas de Da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Simula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Fabricación  de Maqueta y/o Prototi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Preocuparse de Aspectos estét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Concep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250920" y="1628640"/>
            <a:ext cx="3673440" cy="1079640"/>
          </a:xfrm>
          <a:prstGeom prst="cloudCallout">
            <a:avLst>
              <a:gd name="adj1" fmla="val 45333"/>
              <a:gd name="adj2" fmla="val 80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ff"/>
                </a:solidFill>
                <a:latin typeface="Times New Roman"/>
              </a:rPr>
              <a:t>Simple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5"/>
          <p:cNvSpPr/>
          <p:nvPr/>
        </p:nvSpPr>
        <p:spPr>
          <a:xfrm>
            <a:off x="4572000" y="4292640"/>
            <a:ext cx="4105440" cy="1369800"/>
          </a:xfrm>
          <a:prstGeom prst="cloudCallout">
            <a:avLst>
              <a:gd name="adj1" fmla="val -33254"/>
              <a:gd name="adj2" fmla="val -8244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ff"/>
                </a:solidFill>
                <a:latin typeface="Times New Roman"/>
              </a:rPr>
              <a:t>Salir del pap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6"/>
          <p:cNvSpPr/>
          <p:nvPr/>
        </p:nvSpPr>
        <p:spPr>
          <a:xfrm>
            <a:off x="4859280" y="1413000"/>
            <a:ext cx="3673440" cy="1368360"/>
          </a:xfrm>
          <a:prstGeom prst="cloudCallout">
            <a:avLst>
              <a:gd name="adj1" fmla="val -57000"/>
              <a:gd name="adj2" fmla="val 697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ff"/>
                </a:solidFill>
                <a:latin typeface="Times New Roman"/>
              </a:rPr>
              <a:t>Mente Abier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7"/>
          <p:cNvSpPr/>
          <p:nvPr/>
        </p:nvSpPr>
        <p:spPr>
          <a:xfrm>
            <a:off x="324000" y="4365720"/>
            <a:ext cx="3673440" cy="1368360"/>
          </a:xfrm>
          <a:prstGeom prst="cloudCallout">
            <a:avLst>
              <a:gd name="adj1" fmla="val 34356"/>
              <a:gd name="adj2" fmla="val -8491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ff"/>
                </a:solidFill>
                <a:latin typeface="Times New Roman"/>
              </a:rPr>
              <a:t>Experimento-Prueb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8"/>
          <p:cNvSpPr/>
          <p:nvPr/>
        </p:nvSpPr>
        <p:spPr>
          <a:xfrm>
            <a:off x="1619280" y="2781360"/>
            <a:ext cx="5832360" cy="1368360"/>
          </a:xfrm>
          <a:prstGeom prst="irregularSeal2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00"/>
                </a:solidFill>
                <a:latin typeface="Times New Roman"/>
              </a:rPr>
              <a:t>Diseñ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3" descr=""/>
          <p:cNvPicPr/>
          <p:nvPr/>
        </p:nvPicPr>
        <p:blipFill>
          <a:blip r:embed="rId2"/>
          <a:stretch/>
        </p:blipFill>
        <p:spPr>
          <a:xfrm>
            <a:off x="0" y="642960"/>
            <a:ext cx="8929800" cy="26985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"/>
          <p:cNvPicPr/>
          <p:nvPr/>
        </p:nvPicPr>
        <p:blipFill>
          <a:blip r:embed="rId3"/>
          <a:stretch/>
        </p:blipFill>
        <p:spPr>
          <a:xfrm>
            <a:off x="3143160" y="3429000"/>
            <a:ext cx="4168800" cy="30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28760" y="713880"/>
            <a:ext cx="40399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6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Ejemplo de diseño…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alkirk Whe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213840" y="150012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anal Forth y Clyde fue construido en 1777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anal Union entre Falkirk y Edinburgh fue finalizado en 182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Hasta 1963 estuvieron unidos por 11 exclus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n 2002 entró en servicio un transportador rotacional de bo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falkirk"/>
          <p:cNvPicPr/>
          <p:nvPr/>
        </p:nvPicPr>
        <p:blipFill>
          <a:blip r:embed="rId2"/>
          <a:stretch/>
        </p:blipFill>
        <p:spPr>
          <a:xfrm>
            <a:off x="4643280" y="642960"/>
            <a:ext cx="4260960" cy="5580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Graphic1"/>
          <p:cNvPicPr/>
          <p:nvPr/>
        </p:nvPicPr>
        <p:blipFill>
          <a:blip r:embed="rId3"/>
          <a:stretch/>
        </p:blipFill>
        <p:spPr>
          <a:xfrm>
            <a:off x="4643280" y="2500200"/>
            <a:ext cx="4214880" cy="20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28760" y="713880"/>
            <a:ext cx="40399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6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Ejemplo de diseño…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alkirk Whe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13840" y="150012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l entrar un bote en el compartimiento, el sistema gira permitiendo que el bote baje al nivel del canal inferi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Imgp16022"/>
          <p:cNvPicPr/>
          <p:nvPr/>
        </p:nvPicPr>
        <p:blipFill>
          <a:blip r:embed="rId2"/>
          <a:stretch/>
        </p:blipFill>
        <p:spPr>
          <a:xfrm>
            <a:off x="1571760" y="3541680"/>
            <a:ext cx="2698560" cy="3030480"/>
          </a:xfrm>
          <a:prstGeom prst="rect">
            <a:avLst/>
          </a:prstGeom>
          <a:ln w="0">
            <a:noFill/>
          </a:ln>
        </p:spPr>
      </p:pic>
      <p:sp>
        <p:nvSpPr>
          <p:cNvPr id="98" name="Line 9"/>
          <p:cNvSpPr/>
          <p:nvPr/>
        </p:nvSpPr>
        <p:spPr>
          <a:xfrm>
            <a:off x="3597120" y="3643200"/>
            <a:ext cx="46080" cy="262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0"/>
          <p:cNvSpPr/>
          <p:nvPr/>
        </p:nvSpPr>
        <p:spPr>
          <a:xfrm>
            <a:off x="3500280" y="4714920"/>
            <a:ext cx="785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0066"/>
                </a:solidFill>
                <a:latin typeface="Comic Sans MS"/>
              </a:rPr>
              <a:t>35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3" descr="falkirkwheel1"/>
          <p:cNvPicPr/>
          <p:nvPr/>
        </p:nvPicPr>
        <p:blipFill>
          <a:blip r:embed="rId3"/>
          <a:stretch/>
        </p:blipFill>
        <p:spPr>
          <a:xfrm>
            <a:off x="4357800" y="714240"/>
            <a:ext cx="461628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28760" y="713880"/>
            <a:ext cx="40399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6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Ejemplo de diseño…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alkirk Whe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13840" y="1500120"/>
            <a:ext cx="30718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l Proceso completo toma sólo 15 minu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ada “tubo” pesa cerca de 300 toneladas, considerando estructura, agua y bo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" descr="Imgp16024"/>
          <p:cNvPicPr/>
          <p:nvPr/>
        </p:nvPicPr>
        <p:blipFill>
          <a:blip r:embed="rId2"/>
          <a:srcRect l="3667" t="0" r="4022" b="1932"/>
          <a:stretch/>
        </p:blipFill>
        <p:spPr>
          <a:xfrm>
            <a:off x="3186000" y="1571760"/>
            <a:ext cx="5886720" cy="43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28760" y="713880"/>
            <a:ext cx="40399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6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Ejemplo de diseño…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alkirk Whe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213840" y="1500120"/>
            <a:ext cx="30718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l sistema está balance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Usa una máquina de 22 K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nsume sólo 1,5 KW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Imgp16038"/>
          <p:cNvPicPr/>
          <p:nvPr/>
        </p:nvPicPr>
        <p:blipFill>
          <a:blip r:embed="rId2"/>
          <a:srcRect l="0" t="0" r="6961" b="0"/>
          <a:stretch/>
        </p:blipFill>
        <p:spPr>
          <a:xfrm>
            <a:off x="3257640" y="1285920"/>
            <a:ext cx="581508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Proceso de Diseñ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395280" y="1557360"/>
            <a:ext cx="8532720" cy="45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0000"/>
              </a:lnSpc>
              <a:spcAft>
                <a:spcPts val="21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0033cc"/>
                </a:solidFill>
                <a:latin typeface="Times New Roman"/>
              </a:rPr>
              <a:t>1.- Reconocer Necesidad</a:t>
            </a:r>
            <a:br>
              <a:rPr sz="3400"/>
            </a:br>
            <a:r>
              <a:rPr b="1" lang="es-ES" sz="3400" spc="-1" strike="noStrike">
                <a:solidFill>
                  <a:srgbClr val="0033cc"/>
                </a:solidFill>
                <a:latin typeface="Times New Roman"/>
              </a:rPr>
              <a:t>2.- Definir el Problema</a:t>
            </a:r>
            <a:br>
              <a:rPr sz="3400"/>
            </a:br>
            <a:r>
              <a:rPr b="1" lang="es-ES" sz="3400" spc="-1" strike="noStrike">
                <a:solidFill>
                  <a:srgbClr val="0033cc"/>
                </a:solidFill>
                <a:latin typeface="Times New Roman"/>
              </a:rPr>
              <a:t>3.- Planificar y Administrar</a:t>
            </a:r>
            <a:br>
              <a:rPr sz="3400"/>
            </a:br>
            <a:r>
              <a:rPr b="1" lang="es-ES" sz="3400" spc="-1" strike="noStrike">
                <a:solidFill>
                  <a:srgbClr val="0033cc"/>
                </a:solidFill>
                <a:latin typeface="Times New Roman"/>
              </a:rPr>
              <a:t>4.- Obtener Información</a:t>
            </a:r>
            <a:br>
              <a:rPr sz="3400"/>
            </a:br>
            <a:r>
              <a:rPr b="1" lang="es-ES" sz="3400" spc="-1" strike="noStrike">
                <a:solidFill>
                  <a:srgbClr val="0033cc"/>
                </a:solidFill>
                <a:latin typeface="Times New Roman"/>
              </a:rPr>
              <a:t>5.- Generar Conceptos Alternativos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Proceso de Diseñ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395280" y="1197000"/>
            <a:ext cx="853272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spcAft>
                <a:spcPts val="21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0033cc"/>
                </a:solidFill>
                <a:latin typeface="Times New Roman"/>
              </a:rPr>
              <a:t>6.- Evaluar Alternativas</a:t>
            </a:r>
            <a:br>
              <a:rPr sz="3400"/>
            </a:br>
            <a:r>
              <a:rPr b="1" lang="es-ES" sz="3400" spc="-1" strike="noStrike">
                <a:solidFill>
                  <a:srgbClr val="0033cc"/>
                </a:solidFill>
                <a:latin typeface="Times New Roman"/>
              </a:rPr>
              <a:t>7.- Seleccionar Concepto más Prometedor</a:t>
            </a:r>
            <a:br>
              <a:rPr sz="3400"/>
            </a:br>
            <a:r>
              <a:rPr b="1" lang="es-ES" sz="3400" spc="-1" strike="noStrike">
                <a:solidFill>
                  <a:srgbClr val="0033cc"/>
                </a:solidFill>
                <a:latin typeface="Times New Roman"/>
              </a:rPr>
              <a:t>8.- Comunicar Diseño</a:t>
            </a:r>
            <a:br>
              <a:rPr sz="3400"/>
            </a:br>
            <a:r>
              <a:rPr b="1" lang="es-ES" sz="3400" spc="-1" strike="noStrike">
                <a:solidFill>
                  <a:srgbClr val="0033cc"/>
                </a:solidFill>
                <a:latin typeface="Times New Roman"/>
              </a:rPr>
              <a:t>9.- Implementar Diseñ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1.- Reconocer Neces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98720"/>
            <a:ext cx="6778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Definir “Consumidores”-”Clientes” (no solo usuari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Identificar que necesit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2.- Definir Proble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50560" y="1844640"/>
            <a:ext cx="677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Declaración del Probl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Requerimientos de Diseñ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5867280" y="1557360"/>
            <a:ext cx="2916360" cy="19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cc"/>
                </a:solidFill>
                <a:latin typeface="Arial"/>
              </a:rPr>
              <a:t>Generaliz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cc"/>
                </a:solidFill>
                <a:latin typeface="Arial"/>
              </a:rPr>
              <a:t>No a ideas preconcebi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cc"/>
                </a:solidFill>
                <a:latin typeface="Arial"/>
              </a:rPr>
              <a:t>Expresar en términos funcion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5796000" y="4076640"/>
            <a:ext cx="2916360" cy="19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cc"/>
                </a:solidFill>
                <a:latin typeface="Arial"/>
              </a:rPr>
              <a:t>Ser Preci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cc"/>
                </a:solidFill>
                <a:latin typeface="Arial"/>
              </a:rPr>
              <a:t>Validar con “clientes” (en lo pos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cc"/>
                </a:solidFill>
                <a:latin typeface="Arial"/>
              </a:rPr>
              <a:t>Expresar en términos funcion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3.- Planificar y Administr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9872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Uso de cartas Gantt, Curvas de Av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3059280" y="2924280"/>
            <a:ext cx="34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No perder el control de plazos ni recursos invert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3132000" y="3789360"/>
            <a:ext cx="3457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Dependenci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Ruta Crí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-252360" y="-100440"/>
            <a:ext cx="842472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Carta Gant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324000" y="907920"/>
            <a:ext cx="8820000" cy="23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74680" indent="-274680">
              <a:lnSpc>
                <a:spcPct val="115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Ventajas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•Identifica actividades al nivel de agregación  deseado.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•Dimensiona actividades en términos de unidades de tiempo.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•Señala los recursos necesarios.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•Controla el avance del progra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360360" y="3213000"/>
            <a:ext cx="8820000" cy="28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74680" indent="-274680">
              <a:lnSpc>
                <a:spcPct val="115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Desventajas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•Manejo de un número limitado de actividades.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•No permite trabajar fácilmente las interrelaciones de secuencia entre diferentes actividades.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•La trayectoria crítica no se muestra claramente, ni presenta ventajas para su análi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3" descr="gantt"/>
          <p:cNvPicPr/>
          <p:nvPr/>
        </p:nvPicPr>
        <p:blipFill>
          <a:blip r:embed="rId2"/>
          <a:stretch/>
        </p:blipFill>
        <p:spPr>
          <a:xfrm>
            <a:off x="642960" y="428760"/>
            <a:ext cx="825012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Uchile</cp:lastModifiedBy>
  <dcterms:modified xsi:type="dcterms:W3CDTF">2008-03-25T16:59:02Z</dcterms:modified>
  <cp:revision>53</cp:revision>
  <dc:subject/>
  <dc:title>EL63A-Taller de Proyecto en Control II</dc:title>
</cp:coreProperties>
</file>