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D95-9270-4B1C-87B0-3537D521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750-0DA5-4FB9-983F-83C428DA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312A-6B18-4CD3-9183-02F8CECA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FD8-5E7D-404C-9730-5CB02F46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4E7-B139-4F7A-9E56-7CCE3B09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029-BB1E-4069-87AB-4213594B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F97-0BD9-4568-A745-86CF519A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9BC-401C-4711-9D92-7547CB19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CD3-FE93-48F2-BD66-675A98A4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796-8DD6-4A7C-992C-3CC8124F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80D-0B61-40A2-A7B8-A3913B15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E38-998F-47C0-B74B-6BECFBE0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2238-719D-42BE-8E83-CC93FB2D1B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367020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y analizar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: Gener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I: Evalu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I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32000" y="1127160"/>
          <a:ext cx="7489800" cy="503856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1341360"/>
          <a:ext cx="8642160" cy="43196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rototipo debe ser capaz de soportar una balde con 500gr a una altura de 30 cm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estructura se construirá con alambre de Cu y soldadura de estañ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508720" y="3859200"/>
            <a:ext cx="3311280" cy="1656720"/>
            <a:chOff x="5508720" y="3859200"/>
            <a:chExt cx="3311280" cy="1656720"/>
          </a:xfrm>
        </p:grpSpPr>
        <p:sp>
          <p:nvSpPr>
            <p:cNvPr id="71" name=""/>
            <p:cNvSpPr/>
            <p:nvPr/>
          </p:nvSpPr>
          <p:spPr>
            <a:xfrm>
              <a:off x="7236000" y="429264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0,5 Kg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508720" y="3859200"/>
              <a:ext cx="2016000" cy="1656720"/>
              <a:chOff x="5508720" y="3859200"/>
              <a:chExt cx="2016000" cy="1656720"/>
            </a:xfrm>
          </p:grpSpPr>
          <p:sp>
            <p:nvSpPr>
              <p:cNvPr id="73" name=""/>
              <p:cNvSpPr/>
              <p:nvPr/>
            </p:nvSpPr>
            <p:spPr>
              <a:xfrm>
                <a:off x="6516720" y="3859200"/>
                <a:ext cx="577800" cy="574560"/>
              </a:xfrm>
              <a:custGeom>
                <a:avLst/>
                <a:gdLst>
                  <a:gd name="textAreaLeft" fmla="*/ 116280 w 577800"/>
                  <a:gd name="textAreaRight" fmla="*/ 461520 w 577800"/>
                  <a:gd name="textAreaTop" fmla="*/ 115560 h 574560"/>
                  <a:gd name="textAreaBottom" fmla="*/ 459000 h 57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925" y="21600"/>
                    </a:lnTo>
                    <a:lnTo>
                      <a:pt x="4675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6516720" y="4435200"/>
                <a:ext cx="577440" cy="936360"/>
                <a:chOff x="6516720" y="4435200"/>
                <a:chExt cx="577440" cy="9363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651672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84720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16720" y="4435200"/>
                  <a:ext cx="577440" cy="110160"/>
                </a:xfrm>
                <a:prstGeom prst="rect">
                  <a:avLst/>
                </a:pr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6805800" y="42908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00720" y="443520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508720" y="4724280"/>
                <a:ext cx="158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30 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300720" y="537192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300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516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6732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948720" y="537156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7164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7380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50920" y="1341360"/>
          <a:ext cx="8642160" cy="42703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5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SI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Resiste la solicitació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fue el margen de segurida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Fueron claros los requerimient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Se puede optimizar el diseño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es el peso de la estructur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promedio por soldad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ómo influye la organización del equipo en el trabajo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1052640"/>
          <a:ext cx="7344000" cy="40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052640"/>
                    <a:ext cx="73440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979640" y="508464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itar sobrecalentamiento: usar disipador de calor y desenchu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1916280"/>
            <a:ext cx="2879640" cy="86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077840"/>
            <a:ext cx="849600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usar alambre desnudo completo o desnudo hasta un par de centímetros de la soldadura porque el forro se quema al sol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lentar con el cautín por un costado de la un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sperar que alcance temperatura de fu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plicar soldadura por el lado contrario al del cautí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oldadura debe penetrar en el espacio interior y producir aleación Cu-P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ambre debe estar totalmente lim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052640"/>
            <a:ext cx="8496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vitar absolutamente la grasa de las manos en el punto de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el alambre se ensucia, se debe lijar antes de soldar (grasa, aire de varios días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utín debe reposar en disipador cuando no se está sold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desenchufar cautín si va a pasar un rato largo sin us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determinar si cautín alcanzó la temperatura, tocar la punta del cautín con la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092240"/>
            <a:ext cx="8496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cortar le alambre, usar antipar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se corta un trozo pequeño de alambre, dirigirlo hacia el suelo o la mesa porque va a sal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soldar usar gu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afirmar la estructura al soldar, usar alicate o prensa porque alambre se cali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afirmar con alicate o prensa, hacerlo alejado varios centímetros del punto de soldadura porque el alicate o prensa disipará el calor y enfriará el punto de conta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588000" y="1700280"/>
          <a:ext cx="2089440" cy="174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1700280"/>
                    <a:ext cx="208944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484360" y="3645000"/>
          <a:ext cx="331164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3645000"/>
                    <a:ext cx="33116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50920" y="1773360"/>
            <a:ext cx="62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tener unidos hasta que la soldadura solidif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9001080" cy="52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álisis de ca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a Estruc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844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les en los Grup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263844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ordin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335772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407844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cargado de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479736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551808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 de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1495440"/>
          <a:ext cx="8569440" cy="15019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4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r la carrera de ingeniería a los procesos diseñar y implementar proyect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1197000"/>
          <a:ext cx="8569440" cy="46465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79640" y="2060640"/>
          <a:ext cx="5904000" cy="280836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17T02:56:19Z</dcterms:modified>
  <cp:revision>37</cp:revision>
  <dc:subject/>
  <dc:title>EL63A-Taller de Proyecto en Control II</dc:title>
</cp:coreProperties>
</file>