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8.wmf" ContentType="image/x-wm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D292-EA51-49A2-8484-9BEA1F39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3BB0-7D99-4C58-8942-7944A5A0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ECA-6620-4873-A9CE-A23E3987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1D40-6802-4BDC-B621-C66B61562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C11F-7F38-4B85-838B-B471F6F9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23E8-86C6-4342-A339-A9A5B9E9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16E-9346-40F3-87B5-19AA18C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50F-C525-4E74-92C6-3D378C26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95F-6692-4009-8E44-3888512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BCB4-F30B-4551-8CE0-6011F5D6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8A7C-3388-4240-8D4E-11CBD7E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C782-1632-45A8-ACD9-065200BB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34D-8D72-4C6F-B04C-7D427714C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1486080"/>
            <a:ext cx="8064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aúl Sáez Sáez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1913-199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Premio Nacional de Ciencias Aplicadas y Tecnológicas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24000" y="2637000"/>
          <a:ext cx="8135280" cy="2617560"/>
        </p:xfrm>
        <a:graphic>
          <a:graphicData uri="http://schemas.openxmlformats.org/drawingml/2006/table">
            <a:tbl>
              <a:tblPr/>
              <a:tblGrid>
                <a:gridCol w="8135280"/>
              </a:tblGrid>
              <a:tr h="26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Ingeniero Civil, Universidad de Chile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irigió los trabajos para evitar que el lago </a:t>
                      </a:r>
                      <a:r>
                        <a:rPr b="1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Riñihue</a:t>
                      </a:r>
                      <a:r>
                        <a:rPr b="0" lang="es-E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inundara con sus aguas la ciudad de Valdivia, a raíz del terremoto de 1960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Raúl Sáez"/>
          <p:cNvPicPr/>
          <p:nvPr/>
        </p:nvPicPr>
        <p:blipFill>
          <a:blip r:embed="rId2"/>
          <a:stretch/>
        </p:blipFill>
        <p:spPr>
          <a:xfrm>
            <a:off x="6851520" y="476280"/>
            <a:ext cx="1551240" cy="1789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965280" y="621504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ttp://www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195640" y="5381640"/>
          <a:ext cx="6480000" cy="639720"/>
        </p:xfrm>
        <a:graphic>
          <a:graphicData uri="http://schemas.openxmlformats.org/drawingml/2006/table">
            <a:tbl>
              <a:tblPr/>
              <a:tblGrid>
                <a:gridCol w="64800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981000" indent="-98100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Premios Nacionales de Ciencias. Comisión Nacional de Investigación Científica y Tecnológica (CONICY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08000" y="836640"/>
            <a:ext cx="8964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1204920"/>
            <a:ext cx="9144000" cy="424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-27000"/>
            <a:ext cx="9036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s-ES" sz="2400" spc="-1" strike="noStrike">
                <a:solidFill>
                  <a:srgbClr val="ffff00"/>
                </a:solidFill>
                <a:latin typeface="Times New Roman"/>
              </a:rPr>
              <a:t>22 de Mayo 1960, Valdiv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Deslizamientos de tierra producen 3 tacos en el desagüe del Riñih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2997360"/>
            <a:ext cx="2016000" cy="1296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541440"/>
            <a:ext cx="8569080" cy="48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Riñihue sube 40 cms por d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aúl Sáez S. Gerente de ENDESA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Eliminar al máximo los afluentes al l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struir un canal de desagü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ernando Martínez  Ingeniero de ENDESA, debe definir el trazado, sin tiempo para realizar estudios acab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47628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2920" y="2757600"/>
            <a:ext cx="489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0360" y="476280"/>
            <a:ext cx="0" cy="228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-50760" y="1020600"/>
            <a:ext cx="3470400" cy="36324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64000" y="907920"/>
            <a:ext cx="5580000" cy="3892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68360" y="5084640"/>
            <a:ext cx="8675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uego de 2 meses de trabajo se abre el canal y evacua a 700 m</a:t>
            </a:r>
            <a:r>
              <a:rPr b="0" lang="es-ES" sz="2400" spc="-1" strike="noStrike" baseline="30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/s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8200" y="1989000"/>
            <a:ext cx="806616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Grupos (5 c/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esarrollo de temas en cátedra (no obligatoria pero con evalu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rabajo en Proyectos en horario de laboratorio (2 horas, asistencia obligatoria, así como a las presentaciones, máx. 2 inasistenc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119700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F=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40%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+  20%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br>
              <a:rPr sz="3600"/>
            </a:b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, NP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s proyectos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es-MX" sz="3600" spc="-1" strike="noStrike" baseline="-25000">
                <a:solidFill>
                  <a:srgbClr val="0000ff"/>
                </a:solidFill>
                <a:latin typeface="Times New Roman"/>
              </a:rPr>
              <a:t>Cl</a:t>
            </a: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: Nota de Clase </a:t>
            </a:r>
            <a:br>
              <a:rPr sz="3600"/>
            </a:br>
            <a:r>
              <a:rPr b="0" lang="es-MX" sz="3600" spc="-1" strike="noStrike">
                <a:solidFill>
                  <a:srgbClr val="0000ff"/>
                </a:solidFill>
                <a:latin typeface="Times New Roman"/>
              </a:rPr>
              <a:t>        (actividades en horario de cátedra)</a:t>
            </a:r>
            <a:r>
              <a:rPr b="0" lang="es-E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56908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133880" cy="5029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867280" y="1125360"/>
            <a:ext cx="2571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76480" y="895320"/>
            <a:ext cx="67910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00000" y="1773360"/>
          <a:ext cx="7416720" cy="317016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 y presentaciones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052640"/>
          <a:ext cx="8424360" cy="4523760"/>
        </p:xfrm>
        <a:graphic>
          <a:graphicData uri="http://schemas.openxmlformats.org/drawingml/2006/table">
            <a:tbl>
              <a:tblPr/>
              <a:tblGrid>
                <a:gridCol w="8424360"/>
              </a:tblGrid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. Retirarse antes del fin del taller sin autorización puede significar  una inasistenc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9640" y="333360"/>
          <a:ext cx="8569080" cy="5703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303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907920"/>
          <a:ext cx="8353440" cy="46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907920"/>
                    <a:ext cx="8353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084640"/>
            <a:ext cx="80647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836640"/>
            <a:ext cx="7705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60280"/>
            <a:ext cx="8281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708360" y="3832200"/>
            <a:ext cx="52563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529000" y="4336920"/>
            <a:ext cx="4275000" cy="1089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8000" y="2708280"/>
            <a:ext cx="7705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j. Teorema de Pitág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bajo en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476440" y="188424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3-06T14:29:19Z</dcterms:modified>
  <cp:revision>27</cp:revision>
  <dc:subject/>
  <dc:title>EL63A-Taller de Proyecto en Control II</dc:title>
</cp:coreProperties>
</file>