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8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694C-6FF0-418F-9701-85068894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3824-AB6C-419D-8B1D-00C9D8E6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F1D4-1953-4DF2-8CC2-B24316484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9809-4AC9-4921-8E49-5CF524D8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7409-24F1-4676-89AD-18D3EBC1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B27E-4C3E-4CBA-BEFD-57221ADC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9BF1-7F19-4706-A9E0-6BA9E20A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4DF1-98EB-4EA0-903F-82EC1EF0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2CD7-CA99-416E-939A-F12EDA4A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291E-E68A-45BC-A4A7-503F27D4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2711-AB8F-4A8B-86C4-95AC1062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F21D-1300-4B5E-BE62-BD5DD5AB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5DB3-EEC2-4930-8C92-583D31B6D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1486080"/>
            <a:ext cx="8064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Raúl Sáez Sáez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1913-199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Premio Nacional de Ciencias Aplicadas y Tecnológicas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24000" y="2637000"/>
          <a:ext cx="8135280" cy="2617560"/>
        </p:xfrm>
        <a:graphic>
          <a:graphicData uri="http://schemas.openxmlformats.org/drawingml/2006/table">
            <a:tbl>
              <a:tblPr/>
              <a:tblGrid>
                <a:gridCol w="8135280"/>
              </a:tblGrid>
              <a:tr h="261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Ingeniero Civil, Universidad de Chile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Dirigió los trabajos para evitar que el lago </a:t>
                      </a:r>
                      <a:r>
                        <a:rPr b="1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Riñihue</a:t>
                      </a: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inundara con sus aguas la ciudad de Valdivia, a raíz del terremoto de 1960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" descr="Raúl Sáez"/>
          <p:cNvPicPr/>
          <p:nvPr/>
        </p:nvPicPr>
        <p:blipFill>
          <a:blip r:embed="rId2"/>
          <a:stretch/>
        </p:blipFill>
        <p:spPr>
          <a:xfrm>
            <a:off x="6851520" y="476280"/>
            <a:ext cx="1551240" cy="1789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965280" y="621504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ttp://www.uchile.c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195640" y="5381640"/>
          <a:ext cx="6480000" cy="639720"/>
        </p:xfrm>
        <a:graphic>
          <a:graphicData uri="http://schemas.openxmlformats.org/drawingml/2006/table">
            <a:tbl>
              <a:tblPr/>
              <a:tblGrid>
                <a:gridCol w="64800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981000" indent="-981000" algn="just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ENTE: Premios Nacionales de Ciencias. Comisión Nacional de Investigación Científica y Tecnológica (CONICY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08000" y="836640"/>
            <a:ext cx="896472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1204920"/>
            <a:ext cx="9144000" cy="424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8000" y="-27000"/>
            <a:ext cx="90360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22 de Mayo 1960, Valdiv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Deslizamientos de tierra producen 3 tacos en el desagüe del Riñih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2997360"/>
            <a:ext cx="2016000" cy="1296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541440"/>
            <a:ext cx="8569080" cy="48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Riñihue sube 40 cms por d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Raúl Sáez S. Gerente de ENDESA</a:t>
            </a:r>
            <a:r>
              <a:rPr b="0" lang="es-ES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Eliminar al máximo los afluentes al l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Construir un canal de desagü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Fernando Martínez  Ingeniero de ENDESA, debe definir el trazado, sin tiempo para realizar estudios acab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50760" y="1020600"/>
            <a:ext cx="3470400" cy="3632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564000" y="907920"/>
            <a:ext cx="5580000" cy="3892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8360" y="5084640"/>
            <a:ext cx="8675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Luego de 2 meses de trabajo se abre el canal y evacua a 700 m</a:t>
            </a:r>
            <a:r>
              <a:rPr b="0" lang="es-ES" sz="2400" spc="-1" strike="noStrike" baseline="30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/s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I1101 Introducción a la Ingeni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8200" y="1989000"/>
            <a:ext cx="8066160" cy="39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abajo en Grupos (5 c/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sarrollo de temas en cátedra (no obligatoria pero con evaluaci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abajo en Proyectos en horario de laboratorio (2 horas, asistencia obligatoria, así como a las presentaciones, máx. 2 inasistenc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95280" y="119700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F= 40%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+ 40%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+  20%N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Cl</a:t>
            </a:r>
            <a:br>
              <a:rPr sz="3600"/>
            </a:b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, 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: Notas proyectos</a:t>
            </a: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Cl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: Nota de Clase </a:t>
            </a: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       (actividades en horario de cátedra)</a:t>
            </a:r>
            <a:r>
              <a:rPr b="0" lang="es-E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56908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4133880" cy="5029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867280" y="1125360"/>
            <a:ext cx="257184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76480" y="895320"/>
            <a:ext cx="67910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Qué es la Ingenierí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00000" y="1773360"/>
          <a:ext cx="7416720" cy="317016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GENE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asistencia a taller y presentaciones es 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igatoria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y se reprobará el curso con más de 2 inasistencias no justificadas ante la escuel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átedra se realizarán  periódicamente actividades evaluadas, con notas cualitativas o cuantitativa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95280" y="1052640"/>
          <a:ext cx="8424360" cy="4523760"/>
        </p:xfrm>
        <a:graphic>
          <a:graphicData uri="http://schemas.openxmlformats.org/drawingml/2006/table">
            <a:tbl>
              <a:tblPr/>
              <a:tblGrid>
                <a:gridCol w="8424360"/>
              </a:tblGrid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tualidad: La duración del taller es de 2 horas, se pasará lista y los atrasos deben ser justificados. Retirarse antes del fin del taller sin autorización puede significar  una inasistenci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 y ayudantes, ante cualquier duda preguntar antes de realizar una activ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de segura, sin generar condiciones de riesgo, respetando las normas específicas dadas. Utilizar elementos de protección personal (EPP): lentes de seguridad, guantes y otros según las herramientas a utiliz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539640" y="333360"/>
          <a:ext cx="8569080" cy="570384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4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herramientas correctamente, para la función que fueron diseñadas y con la finalidad para la que fueron entregadas (trabajo en los proyect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. Aprovechar el tiempo en el trabajo grupal en el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prohíbe estrictamente realizar actividades ajenas al trabajo en el proyecto, en el horario de tall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ar análisis de riesgo: Analista debe entregar un análisis de riesgo antes de cada sesión, realizado y firmado por todos los integrantes del gru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do lo que se construya debe ser guardado en el casillero asigna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24000" y="1539720"/>
          <a:ext cx="8569080" cy="31132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NALIZ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enes sean sorprendidos infringiendo estas normas, o realizando actividades que atenten contra la seguridad y/o el normal desarrollo del trabajo del grupo, serán multados, cada vez con un descuento en 5 décimas en su nota individual, y su grupo con una décima en la nota del proyecto correspondiente.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303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igen del Térm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62864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ff"/>
                </a:solidFill>
                <a:latin typeface="Times New Roman"/>
              </a:rPr>
              <a:t>Ingenerare</a:t>
            </a:r>
            <a:r>
              <a:rPr b="1" lang="es-MX" sz="4400" spc="-1" strike="noStrike">
                <a:solidFill>
                  <a:srgbClr val="0000ff"/>
                </a:solidFill>
                <a:latin typeface="Times New Roman"/>
              </a:rPr>
              <a:t>:  Crear (latín)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95280" y="907920"/>
          <a:ext cx="8353440" cy="460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907920"/>
                    <a:ext cx="8353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7777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“…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es el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 de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los recursos de la naturaleza en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o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del hombre y de la sociedad”</a:t>
            </a:r>
            <a:r>
              <a:rPr b="0" lang="en-US" sz="4000" spc="-1" strike="noStrike" baseline="30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5084640"/>
            <a:ext cx="806472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Thomas Tredgold,  fundador de</a:t>
            </a:r>
            <a:br>
              <a:rPr sz="2400"/>
            </a:b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The Institution of Civil Engineer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, Inglaterra 1828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1280" y="206064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 (no ciencia ni técnica).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recursos naturales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l ser humano (ética)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 la sociedad (Rol Socia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42920" y="836640"/>
            <a:ext cx="77058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Utiliza ciencia y técnica.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ctualmente: trabajo en equi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260280"/>
            <a:ext cx="8281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Cóm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708360" y="3832200"/>
            <a:ext cx="5256360" cy="2621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529000" y="4336920"/>
            <a:ext cx="4275000" cy="1089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8000" y="2708280"/>
            <a:ext cx="7705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j. Teorema de Pitágo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549360"/>
            <a:ext cx="8281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bajo en 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476440" y="1884240"/>
            <a:ext cx="66675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3-06T14:29:19Z</dcterms:modified>
  <cp:revision>27</cp:revision>
  <dc:subject/>
  <dc:title>EL63A-Taller de Proyecto en Control II</dc:title>
</cp:coreProperties>
</file>