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A9D-7F5E-462A-BCF5-AF6B4BD7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1F4-75A3-4A59-B414-925DA465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EA4-7C20-4460-A642-86C70130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6FE-B700-4437-8198-D91F656F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88DA-D3C0-4188-B60E-968CDC66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A0CB-7FF1-4C9E-BD9E-4299055C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CB3-ECC6-4EE1-B984-33836CBF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289-C1F7-4B49-9C21-776F6A81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E656-EC14-48E7-BA00-6DFF5DF6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54DA-13ED-40F8-B72C-684019CE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6554-96E8-40CC-8B87-43C78731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B55-1CB1-40DA-B694-9D7C0851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56DD-11A1-40F7-AD67-E8D524324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 Introducción a la Ingenierí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tica en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stero Mi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55720" y="1047600"/>
            <a:ext cx="74311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stero Mi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75837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t. 3º Misión U. de Chile -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438200"/>
            <a:ext cx="871380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cumplimiento de su labor, la Universidad responde a los requerimientos de la Nación constituyéndose como reserva intelectual caracterizada por un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iencia soc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ítica y éticamente respons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 reconociendo como contenido de su misión la atención de lo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as y necesidades del paí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t. 3º Misión U. de Chile -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052640"/>
            <a:ext cx="8713800" cy="54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 ese fin, se obliga al más completo conocimiento de la realidad nacional y a su desarrollo por medio de la investigación y la creación; postula e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arrollo integral, equilibrado y sostenible del paí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portando a la solución de sus problemas desde la perspectiva universitaria, y propende 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ien comú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 a la formación de una ciudadanía inspirada en valores democráticos, procurando el resguardo y enriquecimiento del acervo cultural nacional y univers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1341000"/>
            <a:ext cx="6265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5805360"/>
            <a:ext cx="6192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000"/>
            </a:b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1628640"/>
            <a:ext cx="144360" cy="1152720"/>
          </a:xfrm>
          <a:custGeom>
            <a:avLst/>
            <a:gdLst>
              <a:gd name="textAreaLeft" fmla="*/ 0 w 144360"/>
              <a:gd name="textAreaRight" fmla="*/ 52200 w 1443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43640" y="2924280"/>
            <a:ext cx="144360" cy="1152360"/>
          </a:xfrm>
          <a:custGeom>
            <a:avLst/>
            <a:gdLst>
              <a:gd name="textAreaLeft" fmla="*/ 0 w 144360"/>
              <a:gd name="textAreaRight" fmla="*/ 52200 w 1443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720" y="181296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ó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06160" y="3141720"/>
            <a:ext cx="21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ara qu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280" y="1341360"/>
            <a:ext cx="7201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Ciencias, tecnología, diseño, creatividad, innovación, optimizar recur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1800" y="90792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ó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1440" y="3068640"/>
            <a:ext cx="21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ara qu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3787920"/>
            <a:ext cx="72010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Beneficio de la sociedad,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(Bien común)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Beneficio del ser hum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300640"/>
            <a:ext cx="576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¿Dinero    o   Felic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1052280"/>
            <a:ext cx="871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Del vocablo griego </a:t>
            </a:r>
            <a:r>
              <a:rPr b="0" i="1" lang="es-CL" sz="4000" spc="-1" strike="noStrike">
                <a:solidFill>
                  <a:srgbClr val="0000ff"/>
                </a:solidFill>
                <a:latin typeface="Times New Roman"/>
              </a:rPr>
              <a:t>ethos</a:t>
            </a:r>
            <a:r>
              <a:rPr b="0" lang="es-E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É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933720"/>
            <a:ext cx="8713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Ser humano </a:t>
            </a:r>
            <a:r>
              <a:rPr b="0" lang="es-CL" sz="4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 Ciudadano </a:t>
            </a:r>
            <a:r>
              <a:rPr b="0" lang="es-CL" sz="4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 Ingeni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2060640"/>
            <a:ext cx="8424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El </a:t>
            </a:r>
            <a:r>
              <a:rPr b="0" i="1" lang="es-CL" sz="4000" spc="-1" strike="noStrike">
                <a:solidFill>
                  <a:srgbClr val="0000ff"/>
                </a:solidFill>
                <a:latin typeface="Times New Roman"/>
              </a:rPr>
              <a:t>ethos</a:t>
            </a: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 es el suelo firme, el fundamento de la praxis (práctica), la raíz de la que brotan todos los actos humanos.</a:t>
            </a:r>
            <a:br>
              <a:rPr sz="4000"/>
            </a:br>
            <a:r>
              <a:rPr b="0" lang="es-E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7840" y="1197000"/>
            <a:ext cx="7489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Fundamento de </a:t>
            </a:r>
            <a:r>
              <a:rPr b="1" lang="es-CL" sz="4000" spc="-1" strike="noStrike">
                <a:solidFill>
                  <a:srgbClr val="0000ff"/>
                </a:solidFill>
                <a:latin typeface="Times New Roman"/>
              </a:rPr>
              <a:t>nuestras acciones</a:t>
            </a: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(Arte de vivir, modo de s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É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36360" y="4941720"/>
            <a:ext cx="860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Instintos – supervivencia – costumb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205000"/>
            <a:ext cx="31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Razon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00536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Ordenes (temor/recompens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3068640"/>
            <a:ext cx="41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Decisión - Liber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3068640"/>
            <a:ext cx="41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s-CL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s-CL" sz="4000" spc="-1" strike="noStrike">
                <a:solidFill>
                  <a:srgbClr val="ff0000"/>
                </a:solidFill>
                <a:latin typeface="Times New Roman"/>
              </a:rPr>
              <a:t>Responsabilida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388360" y="3860280"/>
            <a:ext cx="0" cy="1582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É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87640" y="1773360"/>
            <a:ext cx="27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Times New Roman"/>
              </a:rPr>
              <a:t>Bien – 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125360"/>
            <a:ext cx="4176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Decisió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83280" y="1773360"/>
            <a:ext cx="27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0000"/>
                </a:solidFill>
                <a:latin typeface="Times New Roman"/>
              </a:rPr>
              <a:t>(“fácil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4076640"/>
            <a:ext cx="27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Times New Roman"/>
              </a:rPr>
              <a:t>Mal men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068640"/>
            <a:ext cx="68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0000"/>
                </a:solidFill>
                <a:latin typeface="Times New Roman"/>
              </a:rPr>
              <a:t>Generalmente debemos optar p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Estero Minte 7 de Mayo 1995 - 27 muer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896472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6-11T21:59:44Z</dcterms:modified>
  <cp:revision>22</cp:revision>
  <dc:subject/>
  <dc:title>EL63A-Taller de Proyecto en Control II</dc:title>
</cp:coreProperties>
</file>