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5CD-CBE2-421E-B230-77E408CC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560-63D6-4C22-9074-CB6B805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BA6-FCAB-49BA-9637-F4E8B399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D6B-E81A-49C3-9E64-A25EB506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DDE-3535-4032-9B58-DB6F1EE6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5EA-9244-4ECB-BA1C-7F0E23AA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C16-03AB-4858-8902-7F449240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CC4-5FF4-453C-89A7-C62E231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104-D4CC-457F-A42F-7A462F6F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D0A7-9C34-41BF-98F6-1E74ED7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818-B8F1-4774-A846-F91FCF05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0E6-C985-405A-B4C0-25C2E08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4348-732D-4460-9727-C818841FF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ica en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55720" y="1047600"/>
            <a:ext cx="74311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8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38200"/>
            <a:ext cx="871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umplimiento de su labor, la Universidad responde a los requerimientos de la Nación constituyéndose como reserva intelectual caracterizada por u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encia 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ítica y éticamente respons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reconociendo como contenido de su misión la atención de l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s y necesidades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1380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ese fin, se obliga al más completo conocimiento de la realidad nacional y a su desarrollo por medio de la investigación y la creación; postula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arrollo integral, equilibrado y sostenible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ortando a la solución de sus problemas desde la perspectiva universitaria, y propende 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en comú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a la formación de una ciudadanía inspirada en valores democráticos, procurando el resguardo y enriquecimiento del acervo cultural nacional y unive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626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61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62864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92428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1812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6160" y="31417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iencias, tecnología, diseño, creatividad, innovación, optimizar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800" y="9079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440" y="306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7920"/>
            <a:ext cx="720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 la sociedad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(Bien común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l 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30064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¿Dinero    o  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l vocablo griego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93372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Ser hum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Ciudad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Ingen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6064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es el suelo firme, el fundamento de la praxis (práctica), la raíz de la que brotan todos los actos humanos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7840" y="119700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Fundamento de </a:t>
            </a:r>
            <a:r>
              <a:rPr b="1" lang="es-CL" sz="4000" spc="-1" strike="noStrike">
                <a:solidFill>
                  <a:srgbClr val="0000ff"/>
                </a:solidFill>
                <a:latin typeface="Times New Roman"/>
              </a:rPr>
              <a:t>nuestras accione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(Arte de vivir, modo de s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4941720"/>
            <a:ext cx="860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Instintos – supervivencia – costu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az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00536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Ordenes (temor/recompen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 -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Responsabil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88360" y="3860280"/>
            <a:ext cx="0" cy="15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Bien –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2536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28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0000"/>
                </a:solidFill>
                <a:latin typeface="Times New Roman"/>
              </a:rPr>
              <a:t>(“fácil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imes New Roman"/>
              </a:rPr>
              <a:t>Mal me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8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Generalmente debemos optar 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ero Minte 7 de Mayo 1995 - 27 mu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964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1:59:44Z</dcterms:modified>
  <cp:revision>22</cp:revision>
  <dc:subject/>
  <dc:title>EL63A-Taller de Proyecto en Control II</dc:title>
</cp:coreProperties>
</file>