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CD3-C71F-4141-AA85-980B3FBE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621-450A-44AC-B88E-D2B07B1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2EC-F750-44E3-AA5F-31C5046E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EF9-634E-48C8-9622-EE3BBFCD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1F0-3790-466E-B2BF-BB252E1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F59-9F0C-4517-9AC8-B30EE83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8B5-64F0-4D03-B087-DAC94664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716-5FF7-41F0-BCAE-8CC30A7F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EC9-D4A9-4DE3-B586-99B2439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05F-2AE5-4A61-8943-9C1921B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1C5-EF12-4230-AB76-D2243C7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449-53AB-4ABC-90BD-34359A2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DC5-C5A0-4374-9F34-382CB879B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ica en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55720" y="1047600"/>
            <a:ext cx="74311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83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38200"/>
            <a:ext cx="8713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umplimiento de su labor, la Universidad responde a los requerimientos de la Nación constituyéndose como reserva intelectual caracterizada por u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encia 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ítica y éticamente respons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reconociendo como contenido de su misión la atención de l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s y necesidades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052640"/>
            <a:ext cx="871380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ese fin, se obliga al más completo conocimiento de la realidad nacional y a su desarrollo por medio de la investigación y la creación; postula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arrollo integral, equilibrado y sostenible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portando a la solución de sus problemas desde la perspectiva universitaria, y propende 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en comú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a la formación de una ciudadanía inspirada en valores democráticos, procurando el resguardo y enriquecimiento del acervo cultural nacional y univer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626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61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628640"/>
            <a:ext cx="144360" cy="11527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924280"/>
            <a:ext cx="144360" cy="115236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720" y="181296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6160" y="31417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7201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iencias, tecnología, diseño, creatividad, innovación, optimizar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800" y="9079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440" y="306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787920"/>
            <a:ext cx="720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 la sociedad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(Bien común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l se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300640"/>
            <a:ext cx="57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¿Dinero    o  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l vocablo griego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93372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Ser hum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Ciudad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Ingen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6064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es el suelo firme, el fundamento de la praxis (práctica), la raíz de la que brotan todos los actos humanos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7840" y="1197000"/>
            <a:ext cx="7489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Fundamento de </a:t>
            </a:r>
            <a:r>
              <a:rPr b="1" lang="es-CL" sz="4000" spc="-1" strike="noStrike">
                <a:solidFill>
                  <a:srgbClr val="0000ff"/>
                </a:solidFill>
                <a:latin typeface="Times New Roman"/>
              </a:rPr>
              <a:t>nuestras accione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(Arte de vivir, modo de s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4941720"/>
            <a:ext cx="860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Instintos – supervivencia – costu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az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00536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Ordenes (temor/recompen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 -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Responsabil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88360" y="3860280"/>
            <a:ext cx="0" cy="15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Bien –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2536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28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0000"/>
                </a:solidFill>
                <a:latin typeface="Times New Roman"/>
              </a:rPr>
              <a:t>(“fácil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imes New Roman"/>
              </a:rPr>
              <a:t>Mal me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864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Generalmente debemos optar 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ero Minte 7 de Mayo 1995 - 27 mu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9647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1:59:44Z</dcterms:modified>
  <cp:revision>22</cp:revision>
  <dc:subject/>
  <dc:title>EL63A-Taller de Proyecto en Control II</dc:title>
</cp:coreProperties>
</file>