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B72-6791-48CB-87B6-303B9E30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49E-7697-416B-B036-ECE4EB24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2C6-71A1-4977-9CB3-184AA894B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210-ABF0-4AD6-835C-58BE5051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3D1-AF8F-4F65-8A23-70437FBC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4136-53C7-4FD9-8C08-43DE3DC0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CC9-AA54-4658-BEF4-421D1881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42F-52F2-4173-8C3E-1B5E031A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F6E6-C5DC-41BD-A9DC-76E83F63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08E-36AA-4C69-8CDA-A8C30ED3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39A-942B-4C42-AD64-3E4FFFD4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7B2-EF41-400F-A0D1-7DB2E30A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6AA6-A416-48BE-B655-4B8513FCF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tica en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55720" y="1047600"/>
            <a:ext cx="743112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stero Mi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5837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438200"/>
            <a:ext cx="87138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cumplimiento de su labor, la Universidad responde a los requerimientos de la Nación constituyéndose como reserva intelectual caracterizada por u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iencia soc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ítica y éticamente respons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reconociendo como contenido de su misión la atención de lo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as y necesidades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t. 3º Misión U. de Chile -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1052640"/>
            <a:ext cx="871380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 ese fin, se obliga al más completo conocimiento de la realidad nacional y a su desarrollo por medio de la investigación y la creación; postula e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arrollo integral, equilibrado y sostenible del paí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portando a la solución de sus problemas desde la perspectiva universitaria, y propende 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en comú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a la formación de una ciudadanía inspirada en valores democráticos, procurando el resguardo y enriquecimiento del acervo cultural nacional y univers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341000"/>
            <a:ext cx="62658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3280" y="5805360"/>
            <a:ext cx="619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000"/>
            </a:b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628640"/>
            <a:ext cx="144360" cy="115272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3640" y="2924280"/>
            <a:ext cx="144360" cy="1152360"/>
          </a:xfrm>
          <a:custGeom>
            <a:avLst/>
            <a:gdLst>
              <a:gd name="textAreaLeft" fmla="*/ 0 w 144360"/>
              <a:gd name="textAreaRight" fmla="*/ 52200 w 1443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720" y="181296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6160" y="314172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63280" y="1341360"/>
            <a:ext cx="720108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Ciencias, tecnología, diseño, creatividad, innovación, optimizar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800" y="90792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ó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1440" y="3068640"/>
            <a:ext cx="21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ara qu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3787920"/>
            <a:ext cx="7201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 la sociedad,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(Bien común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Beneficio del ser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300640"/>
            <a:ext cx="5761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¿Dinero    o   Felic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l vocablo griego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3933720"/>
            <a:ext cx="87138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Ser hum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Ciudadano </a:t>
            </a:r>
            <a:r>
              <a:rPr b="0" lang="es-CL" sz="4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Ingeni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2060640"/>
            <a:ext cx="84247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El </a:t>
            </a:r>
            <a:r>
              <a:rPr b="0" i="1" lang="es-CL" sz="4000" spc="-1" strike="noStrike">
                <a:solidFill>
                  <a:srgbClr val="0000ff"/>
                </a:solidFill>
                <a:latin typeface="Times New Roman"/>
              </a:rPr>
              <a:t>etho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es el suelo firme, el fundamento de la praxis (práctica), la raíz de la que brotan todos los actos humanos.</a:t>
            </a:r>
            <a:br>
              <a:rPr sz="4000"/>
            </a:b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7840" y="1197000"/>
            <a:ext cx="7489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Fundamento de </a:t>
            </a:r>
            <a:r>
              <a:rPr b="1" lang="es-CL" sz="4000" spc="-1" strike="noStrike">
                <a:solidFill>
                  <a:srgbClr val="0000ff"/>
                </a:solidFill>
                <a:latin typeface="Times New Roman"/>
              </a:rPr>
              <a:t>nuestras acciones</a:t>
            </a: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(Arte de vivir, modo de s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6360" y="4941720"/>
            <a:ext cx="860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Instintos – supervivencia – costumb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05000"/>
            <a:ext cx="31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Razon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00536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Ordenes (temor/recompen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 -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068640"/>
            <a:ext cx="41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Responsabilida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8388360" y="3860280"/>
            <a:ext cx="0" cy="158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4428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É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8764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0000"/>
                </a:solidFill>
                <a:latin typeface="Times New Roman"/>
              </a:rPr>
              <a:t>Bien – 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125360"/>
            <a:ext cx="417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ff"/>
                </a:solidFill>
                <a:latin typeface="Times New Roman"/>
              </a:rPr>
              <a:t>Decis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3280" y="177336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ff0000"/>
                </a:solidFill>
                <a:latin typeface="Times New Roman"/>
              </a:rPr>
              <a:t>(“fácil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076640"/>
            <a:ext cx="27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Times New Roman"/>
              </a:rPr>
              <a:t>Mal men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3068640"/>
            <a:ext cx="68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Generalmente debemos optar p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Estero Minte 7 de Mayo 1995 - 27 muer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896472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1:59:44Z</dcterms:modified>
  <cp:revision>22</cp:revision>
  <dc:subject/>
  <dc:title>EL63A-Taller de Proyecto en Control II</dc:title>
</cp:coreProperties>
</file>