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89A58-8EEB-4062-B571-A9137DD7A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0C569-B693-42A2-BBB6-2723586D4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10AF8-C8D0-4180-9686-B61834B1D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420C8-FAAD-4247-A122-234705C0F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18D03-2DE3-4DD4-8091-CF9696D6F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CAB65-174F-403A-8A0A-39CE40B80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AB6C1-73F4-42C0-9F35-A9AD9BCCF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7618B-4134-4D57-880C-9CD5E5CD3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469BC-AEDD-446D-B5D3-89D52090B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91641-BE19-4E4B-9113-ED58AC1CF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E05EB-B3CB-4034-85F3-1E22D55D2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E11B8-4917-4A83-9E13-FF87F02D1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99DBF-5B6C-492A-BBC8-BD0C79391D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5960" y="691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EI1101 Introducción a la Ingeniería 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760320" y="299736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yectos de Ingenierí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Escuela de  Ingeniería - fcfm - Universidad de Chile                                         EI1101- Introducción a la Ingenierí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Etapas de un proyecto de Ingenierí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222200" y="2060640"/>
            <a:ext cx="1729080" cy="10080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Arial"/>
              </a:rPr>
              <a:t>Estudio(s)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Arial"/>
              </a:rPr>
              <a:t>(pre)factibil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0920" y="1052640"/>
            <a:ext cx="1908000" cy="863640"/>
          </a:xfrm>
          <a:prstGeom prst="cloudCallout">
            <a:avLst>
              <a:gd name="adj1" fmla="val -38851"/>
              <a:gd name="adj2" fmla="val 44300"/>
            </a:avLst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Id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Neces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311640" y="2421000"/>
            <a:ext cx="287280" cy="287280"/>
          </a:xfrm>
          <a:prstGeom prst="diamond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" name=""/>
          <p:cNvCxnSpPr>
            <a:stCxn id="49" idx="0"/>
            <a:endCxn id="48" idx="1"/>
          </p:cNvCxnSpPr>
          <p:nvPr/>
        </p:nvCxnSpPr>
        <p:spPr>
          <a:xfrm flipH="1" rot="16200000">
            <a:off x="492840" y="1836720"/>
            <a:ext cx="699120" cy="759240"/>
          </a:xfrm>
          <a:prstGeom prst="bentConnector2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52" name=""/>
          <p:cNvCxnSpPr>
            <a:stCxn id="48" idx="3"/>
            <a:endCxn id="50" idx="1"/>
          </p:cNvCxnSpPr>
          <p:nvPr/>
        </p:nvCxnSpPr>
        <p:spPr>
          <a:xfrm>
            <a:off x="2950920" y="2565000"/>
            <a:ext cx="361080" cy="1080"/>
          </a:xfrm>
          <a:prstGeom prst="bentConnector2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50" idx="2"/>
            <a:endCxn id="48" idx="2"/>
          </p:cNvCxnSpPr>
          <p:nvPr/>
        </p:nvCxnSpPr>
        <p:spPr>
          <a:xfrm rot="5400000">
            <a:off x="2590920" y="2203920"/>
            <a:ext cx="361080" cy="1369080"/>
          </a:xfrm>
          <a:prstGeom prst="bentConnector3">
            <a:avLst>
              <a:gd name="adj1" fmla="val 163373"/>
            </a:avLst>
          </a:prstGeom>
          <a:ln w="381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>
            <a:off x="2951280" y="1484280"/>
            <a:ext cx="10080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Rechaz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5" name=""/>
          <p:cNvCxnSpPr>
            <a:stCxn id="50" idx="0"/>
            <a:endCxn id="54" idx="2"/>
          </p:cNvCxnSpPr>
          <p:nvPr/>
        </p:nvCxnSpPr>
        <p:spPr>
          <a:xfrm flipV="1">
            <a:off x="3455640" y="1915920"/>
            <a:ext cx="1080" cy="505440"/>
          </a:xfrm>
          <a:prstGeom prst="bentConnector2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3886200" y="2349360"/>
            <a:ext cx="1295280" cy="4302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Licit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" name=""/>
          <p:cNvCxnSpPr>
            <a:stCxn id="50" idx="3"/>
            <a:endCxn id="56" idx="1"/>
          </p:cNvCxnSpPr>
          <p:nvPr/>
        </p:nvCxnSpPr>
        <p:spPr>
          <a:xfrm>
            <a:off x="3598920" y="2565000"/>
            <a:ext cx="288000" cy="1080"/>
          </a:xfrm>
          <a:prstGeom prst="bentConnector2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5759280" y="1916280"/>
            <a:ext cx="1152720" cy="2872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Propuesta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759280" y="2274840"/>
            <a:ext cx="1152720" cy="2872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Propuesta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759280" y="2637000"/>
            <a:ext cx="1152720" cy="2872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759280" y="2995560"/>
            <a:ext cx="1152720" cy="2872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Propuesta 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"/>
          <p:cNvCxnSpPr>
            <a:stCxn id="56" idx="3"/>
            <a:endCxn id="58" idx="1"/>
          </p:cNvCxnSpPr>
          <p:nvPr/>
        </p:nvCxnSpPr>
        <p:spPr>
          <a:xfrm flipV="1">
            <a:off x="5181120" y="2060280"/>
            <a:ext cx="578520" cy="505440"/>
          </a:xfrm>
          <a:prstGeom prst="bentConnector3">
            <a:avLst>
              <a:gd name="adj1" fmla="val 50000"/>
            </a:avLst>
          </a:prstGeom>
          <a:ln w="381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56" idx="3"/>
            <a:endCxn id="59" idx="1"/>
          </p:cNvCxnSpPr>
          <p:nvPr/>
        </p:nvCxnSpPr>
        <p:spPr>
          <a:xfrm flipV="1">
            <a:off x="5181120" y="2418840"/>
            <a:ext cx="578520" cy="146880"/>
          </a:xfrm>
          <a:prstGeom prst="bentConnector3">
            <a:avLst>
              <a:gd name="adj1" fmla="val 50000"/>
            </a:avLst>
          </a:prstGeom>
          <a:ln w="381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64" name=""/>
          <p:cNvCxnSpPr>
            <a:stCxn id="56" idx="3"/>
            <a:endCxn id="60" idx="1"/>
          </p:cNvCxnSpPr>
          <p:nvPr/>
        </p:nvCxnSpPr>
        <p:spPr>
          <a:xfrm>
            <a:off x="5181120" y="2565360"/>
            <a:ext cx="578520" cy="216720"/>
          </a:xfrm>
          <a:prstGeom prst="bentConnector3">
            <a:avLst>
              <a:gd name="adj1" fmla="val 50000"/>
            </a:avLst>
          </a:prstGeom>
          <a:ln w="381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65" name=""/>
          <p:cNvCxnSpPr>
            <a:stCxn id="56" idx="3"/>
            <a:endCxn id="61" idx="1"/>
          </p:cNvCxnSpPr>
          <p:nvPr/>
        </p:nvCxnSpPr>
        <p:spPr>
          <a:xfrm>
            <a:off x="5181120" y="2565360"/>
            <a:ext cx="578520" cy="575280"/>
          </a:xfrm>
          <a:prstGeom prst="bentConnector3">
            <a:avLst>
              <a:gd name="adj1" fmla="val 50000"/>
            </a:avLst>
          </a:prstGeom>
          <a:ln w="381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66" name=""/>
          <p:cNvSpPr/>
          <p:nvPr/>
        </p:nvSpPr>
        <p:spPr>
          <a:xfrm>
            <a:off x="7272360" y="2421000"/>
            <a:ext cx="1440000" cy="4302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Adjudic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985080" y="1773360"/>
            <a:ext cx="216000" cy="1726920"/>
          </a:xfrm>
          <a:custGeom>
            <a:avLst/>
            <a:gdLst>
              <a:gd name="textAreaLeft" fmla="*/ 0 w 216000"/>
              <a:gd name="textAreaRight" fmla="*/ 78120 w 216000"/>
              <a:gd name="textAreaTop" fmla="*/ 45000 h 1726920"/>
              <a:gd name="textAreaBottom" fmla="*/ 1681920 h 1726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46200" y="4724280"/>
            <a:ext cx="1297080" cy="7207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Ingenier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Concept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30560" y="4724280"/>
            <a:ext cx="1224000" cy="7207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Ingenier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Bás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38560" y="4005360"/>
            <a:ext cx="936720" cy="576000"/>
          </a:xfrm>
          <a:prstGeom prst="rect">
            <a:avLst/>
          </a:prstGeom>
          <a:noFill/>
          <a:ln w="93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Arial"/>
              </a:rPr>
              <a:t>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0000ff"/>
                </a:solidFill>
                <a:latin typeface="Arial"/>
              </a:rPr>
              <a:t>de Enl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814920" y="4724280"/>
            <a:ext cx="1223640" cy="7207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Ingenier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de Deta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541840" y="4724280"/>
            <a:ext cx="1370160" cy="7207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Construc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199280" y="4724280"/>
            <a:ext cx="1370160" cy="7207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Puest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en March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" name=""/>
          <p:cNvCxnSpPr>
            <a:stCxn id="66" idx="3"/>
            <a:endCxn id="68" idx="1"/>
          </p:cNvCxnSpPr>
          <p:nvPr/>
        </p:nvCxnSpPr>
        <p:spPr>
          <a:xfrm flipH="1">
            <a:off x="645840" y="2636640"/>
            <a:ext cx="8066880" cy="2448360"/>
          </a:xfrm>
          <a:prstGeom prst="bentConnector5">
            <a:avLst>
              <a:gd name="adj1" fmla="val -2829"/>
              <a:gd name="adj2" fmla="val 47014"/>
              <a:gd name="adj3" fmla="val 102829"/>
            </a:avLst>
          </a:prstGeom>
          <a:ln w="381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8" idx="3"/>
            <a:endCxn id="69" idx="1"/>
          </p:cNvCxnSpPr>
          <p:nvPr/>
        </p:nvCxnSpPr>
        <p:spPr>
          <a:xfrm>
            <a:off x="1943280" y="5084280"/>
            <a:ext cx="288000" cy="1080"/>
          </a:xfrm>
          <a:prstGeom prst="bentConnector2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69" idx="3"/>
            <a:endCxn id="71" idx="1"/>
          </p:cNvCxnSpPr>
          <p:nvPr/>
        </p:nvCxnSpPr>
        <p:spPr>
          <a:xfrm>
            <a:off x="3454200" y="5084280"/>
            <a:ext cx="361080" cy="1080"/>
          </a:xfrm>
          <a:prstGeom prst="bentConnector2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9" idx="0"/>
            <a:endCxn id="70" idx="1"/>
          </p:cNvCxnSpPr>
          <p:nvPr/>
        </p:nvCxnSpPr>
        <p:spPr>
          <a:xfrm flipH="1" flipV="1" rot="5400000">
            <a:off x="2825640" y="4311000"/>
            <a:ext cx="430920" cy="396000"/>
          </a:xfrm>
          <a:prstGeom prst="bentConnector2">
            <a:avLst/>
          </a:prstGeom>
          <a:ln w="38160">
            <a:solidFill>
              <a:srgbClr val="0000ff"/>
            </a:solidFill>
            <a:prstDash val="sysDot"/>
            <a:miter/>
            <a:tailEnd len="med" type="triangle" w="med"/>
          </a:ln>
        </p:spPr>
      </p:cxnSp>
      <p:cxnSp>
        <p:nvCxnSpPr>
          <p:cNvPr id="78" name=""/>
          <p:cNvCxnSpPr>
            <a:stCxn id="70" idx="3"/>
            <a:endCxn id="71" idx="0"/>
          </p:cNvCxnSpPr>
          <p:nvPr/>
        </p:nvCxnSpPr>
        <p:spPr>
          <a:xfrm>
            <a:off x="4174920" y="4293720"/>
            <a:ext cx="253080" cy="430920"/>
          </a:xfrm>
          <a:prstGeom prst="bentConnector2">
            <a:avLst/>
          </a:prstGeom>
          <a:ln w="38160">
            <a:solidFill>
              <a:srgbClr val="0000ff"/>
            </a:solidFill>
            <a:prstDash val="sysDot"/>
            <a:miter/>
            <a:tailEnd len="med" type="triangle" w="med"/>
          </a:ln>
        </p:spPr>
      </p:cxnSp>
      <p:sp>
        <p:nvSpPr>
          <p:cNvPr id="79" name=""/>
          <p:cNvSpPr/>
          <p:nvPr/>
        </p:nvSpPr>
        <p:spPr>
          <a:xfrm>
            <a:off x="5616720" y="4005360"/>
            <a:ext cx="2519280" cy="43164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Ingeniería de Terre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0" name=""/>
          <p:cNvCxnSpPr>
            <a:stCxn id="71" idx="3"/>
            <a:endCxn id="72" idx="1"/>
          </p:cNvCxnSpPr>
          <p:nvPr/>
        </p:nvCxnSpPr>
        <p:spPr>
          <a:xfrm>
            <a:off x="5038560" y="5084280"/>
            <a:ext cx="504000" cy="1080"/>
          </a:xfrm>
          <a:prstGeom prst="bentConnector2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1" idx="3"/>
            <a:endCxn id="79" idx="1"/>
          </p:cNvCxnSpPr>
          <p:nvPr/>
        </p:nvCxnSpPr>
        <p:spPr>
          <a:xfrm flipV="1">
            <a:off x="5038560" y="4220280"/>
            <a:ext cx="578880" cy="864360"/>
          </a:xfrm>
          <a:prstGeom prst="bentConnector3">
            <a:avLst>
              <a:gd name="adj1" fmla="val 49968"/>
            </a:avLst>
          </a:prstGeom>
          <a:ln w="381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3"/>
            <a:endCxn id="73" idx="1"/>
          </p:cNvCxnSpPr>
          <p:nvPr/>
        </p:nvCxnSpPr>
        <p:spPr>
          <a:xfrm>
            <a:off x="6912000" y="5084280"/>
            <a:ext cx="288000" cy="1080"/>
          </a:xfrm>
          <a:prstGeom prst="bentConnector2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6337440" y="443700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850160" y="443700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616720" y="5877000"/>
            <a:ext cx="2519280" cy="43164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Término (Entreg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73" idx="3"/>
            <a:endCxn id="85" idx="0"/>
          </p:cNvCxnSpPr>
          <p:nvPr/>
        </p:nvCxnSpPr>
        <p:spPr>
          <a:xfrm flipH="1">
            <a:off x="6876360" y="5084280"/>
            <a:ext cx="1693080" cy="793080"/>
          </a:xfrm>
          <a:prstGeom prst="bentConnector4">
            <a:avLst>
              <a:gd name="adj1" fmla="val -13504"/>
              <a:gd name="adj2" fmla="val 72706"/>
            </a:avLst>
          </a:prstGeom>
          <a:ln w="381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Escuela de  Ingeniería - fcfm - Universidad de Chile                                         EI1101- Introducción a la Ingenierí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24000" y="43920"/>
            <a:ext cx="842472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ipos de Proyecto Según Ejecu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395280" y="1197000"/>
            <a:ext cx="853272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45000"/>
              </a:lnSpc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1.- Ingeniería Propia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2.- Ingeniería llave en mano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3.- Ingeniería por Administración Delegada(*)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4.- Ingeniería por Administración Controlada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Escuela de  Ingeniería - fcfm - Universidad de Chile                                         EI1101- Introducción a la Ingenierí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0" y="1733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108000" y="260280"/>
          <a:ext cx="8856720" cy="5353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260280"/>
                    <a:ext cx="8856720" cy="535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3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Escuela de  Ingeniería - fcfm - Universidad de Chile                                         EI1101- Introducción a la Ingenierí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24000" y="43920"/>
            <a:ext cx="842472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ipos de Contrato d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rvicios de Ingenierí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95280" y="1197000"/>
            <a:ext cx="853272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45000"/>
              </a:lnSpc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1.- Suma alzada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2.- Precio unitario por hora efectiva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3.- Precio unitario por hora efectiva (máximo garantizado)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4.- Costos directos y suma alzada de gastos general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Escuela de  Ingeniería - fcfm - Universidad de Chile                                         EI1101- Introducción a la Ingenierí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rminología Técnic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84360" y="1484280"/>
            <a:ext cx="4608360" cy="41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cc"/>
                </a:solidFill>
                <a:latin typeface="Arial"/>
              </a:rPr>
              <a:t>Cliente-Manda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cc"/>
                </a:solidFill>
                <a:latin typeface="Arial"/>
              </a:rPr>
              <a:t>Contratista – Empresa de Ingenier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cc"/>
                </a:solidFill>
                <a:latin typeface="Arial"/>
              </a:rPr>
              <a:t>Kick off Meeting (Reunión de Partid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cc"/>
                </a:solidFill>
                <a:latin typeface="Arial"/>
              </a:rPr>
              <a:t>Formación del Equi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cc"/>
                </a:solidFill>
                <a:latin typeface="Arial"/>
              </a:rPr>
              <a:t>Límites de Bater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cc"/>
                </a:solidFill>
                <a:latin typeface="Arial"/>
              </a:rPr>
              <a:t>Gerente del proyec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cc"/>
                </a:solidFill>
                <a:latin typeface="Arial"/>
              </a:rPr>
              <a:t>Gerente de Ingenier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cc"/>
                </a:solidFill>
                <a:latin typeface="Arial"/>
              </a:rPr>
              <a:t>Líder de Discipl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cc"/>
                </a:solidFill>
                <a:latin typeface="Arial"/>
              </a:rPr>
              <a:t>Consul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cc"/>
                </a:solidFill>
                <a:latin typeface="Arial"/>
              </a:rPr>
              <a:t>Manual de Procedimien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cc"/>
                </a:solidFill>
                <a:latin typeface="Arial"/>
              </a:rPr>
              <a:t>Reuniones de Coordin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cc"/>
                </a:solidFill>
                <a:latin typeface="Arial"/>
              </a:rPr>
              <a:t>Archivo del Proyec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3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Escuela de  Ingeniería - fcfm - Universidad de Chile                                         EI1101- Introducción a la Ingenierí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rminología Técnic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84360" y="1484280"/>
            <a:ext cx="4608360" cy="41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cc"/>
                </a:solidFill>
                <a:latin typeface="Arial"/>
              </a:rPr>
              <a:t>Cliente-Manda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cc"/>
                </a:solidFill>
                <a:latin typeface="Arial"/>
              </a:rPr>
              <a:t>Contratista – Empresa de Ingenier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cc"/>
                </a:solidFill>
                <a:latin typeface="Arial"/>
              </a:rPr>
              <a:t>Kick off Meeting (Reunión de Partid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cc"/>
                </a:solidFill>
                <a:latin typeface="Arial"/>
              </a:rPr>
              <a:t>Formación del Equi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cc"/>
                </a:solidFill>
                <a:latin typeface="Arial"/>
              </a:rPr>
              <a:t>Límites de Bater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cc"/>
                </a:solidFill>
                <a:latin typeface="Arial"/>
              </a:rPr>
              <a:t>Gerente del proyec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cc"/>
                </a:solidFill>
                <a:latin typeface="Arial"/>
              </a:rPr>
              <a:t>Gerente de Ingenier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cc"/>
                </a:solidFill>
                <a:latin typeface="Arial"/>
              </a:rPr>
              <a:t>Líder de Discipl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cc"/>
                </a:solidFill>
                <a:latin typeface="Arial"/>
              </a:rPr>
              <a:t>Consul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cc"/>
                </a:solidFill>
                <a:latin typeface="Arial"/>
              </a:rPr>
              <a:t>Manual de Procedimien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cc"/>
                </a:solidFill>
                <a:latin typeface="Arial"/>
              </a:rPr>
              <a:t>Reuniones de Coordin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cc"/>
                </a:solidFill>
                <a:latin typeface="Arial"/>
              </a:rPr>
              <a:t>Archivo del Proyec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3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Escuela de  Ingeniería - fcfm - Universidad de Chile                                         EI1101- Introducción a la Ingenierí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erminología Contractual - Legal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84360" y="1484280"/>
            <a:ext cx="5759280" cy="38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Bases de la propuesta de Ingenier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Contrato del Proyec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Proceso de contratación abierta del Proyec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Proceso de contratación directa del Proyec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Mult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Garantí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Reten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Estados de Pa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Horas de Ingenier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Iniciación de Activida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Ordenes de Trabaj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3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Escuela de  Ingeniería - fcfm - Universidad de Chile                                         EI1101- Introducción a la Ingenierí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4T16:52:24Z</dcterms:created>
  <dc:creator>Héctor Agusto A.</dc:creator>
  <dc:description/>
  <dc:language>en-US</dc:language>
  <cp:lastModifiedBy>LI2</cp:lastModifiedBy>
  <dcterms:modified xsi:type="dcterms:W3CDTF">2008-06-11T22:04:43Z</dcterms:modified>
  <cp:revision>17</cp:revision>
  <dc:subject/>
  <dc:title>EL63A-Taller de Proyecto en Control II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8948759</vt:r8>
  </property>
  <property fmtid="{D5CDD505-2E9C-101B-9397-08002B2CF9AE}" pid="3" name="_AuthorEmail">
    <vt:lpwstr>hagusto@ing.uchile.cl</vt:lpwstr>
  </property>
  <property fmtid="{D5CDD505-2E9C-101B-9397-08002B2CF9AE}" pid="4" name="_AuthorEmailDisplayName">
    <vt:lpwstr>Héctor Agusto</vt:lpwstr>
  </property>
  <property fmtid="{D5CDD505-2E9C-101B-9397-08002B2CF9AE}" pid="5" name="_EmailSubject">
    <vt:lpwstr>clase de esta semana</vt:lpwstr>
  </property>
</Properties>
</file>