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0A2C-B72B-451C-99C1-23DA9E59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3BD-003D-43E4-B82E-87675F07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B98B-97AF-4935-8A8D-F7E2992C3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59DC-02A5-4931-BA80-E86E8DD80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9B9C-587F-4649-908D-20183928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8C33-68E6-4B80-AF03-33B6EDBF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69D-0C2B-4C5D-A6D1-A66DFC57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0895-7AF2-48D5-90C4-AC3E6579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043D-3B43-42B1-ABB5-7B37950F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015-4D69-4ECD-A896-0E3671B4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4D1B-B35D-4529-B29A-F18A2938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8666-82C2-48E8-A1E4-0D51B00A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86EB-28D8-420C-BADA-89EB37520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s de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tapas de un proyecto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22200" y="2060640"/>
            <a:ext cx="1729080" cy="1008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Estudio(s)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(pre)fact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052640"/>
            <a:ext cx="1908000" cy="863640"/>
          </a:xfrm>
          <a:prstGeom prst="cloudCallout">
            <a:avLst>
              <a:gd name="adj1" fmla="val -38851"/>
              <a:gd name="adj2" fmla="val 443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Nece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311640" y="2421000"/>
            <a:ext cx="287280" cy="287280"/>
          </a:xfrm>
          <a:prstGeom prst="diamond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9" idx="0"/>
            <a:endCxn id="48" idx="1"/>
          </p:cNvCxnSpPr>
          <p:nvPr/>
        </p:nvCxnSpPr>
        <p:spPr>
          <a:xfrm flipH="1" rot="16200000">
            <a:off x="492840" y="1836720"/>
            <a:ext cx="699120" cy="7592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48" idx="3"/>
            <a:endCxn id="50" idx="1"/>
          </p:cNvCxnSpPr>
          <p:nvPr/>
        </p:nvCxnSpPr>
        <p:spPr>
          <a:xfrm>
            <a:off x="2950920" y="256500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2"/>
            <a:endCxn id="48" idx="2"/>
          </p:cNvCxnSpPr>
          <p:nvPr/>
        </p:nvCxnSpPr>
        <p:spPr>
          <a:xfrm rot="5400000">
            <a:off x="2590920" y="2203920"/>
            <a:ext cx="361080" cy="1369080"/>
          </a:xfrm>
          <a:prstGeom prst="bentConnector3">
            <a:avLst>
              <a:gd name="adj1" fmla="val 163373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951280" y="1484280"/>
            <a:ext cx="1008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Rech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0" idx="0"/>
            <a:endCxn id="54" idx="2"/>
          </p:cNvCxnSpPr>
          <p:nvPr/>
        </p:nvCxnSpPr>
        <p:spPr>
          <a:xfrm flipV="1">
            <a:off x="3455640" y="1915920"/>
            <a:ext cx="1080" cy="50544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886200" y="2349360"/>
            <a:ext cx="129528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ci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0" idx="3"/>
            <a:endCxn id="56" idx="1"/>
          </p:cNvCxnSpPr>
          <p:nvPr/>
        </p:nvCxnSpPr>
        <p:spPr>
          <a:xfrm>
            <a:off x="3598920" y="256500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5759280" y="191628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59280" y="227484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59280" y="263700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9280" y="2995560"/>
            <a:ext cx="1152720" cy="287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ropuesta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6" idx="3"/>
            <a:endCxn id="58" idx="1"/>
          </p:cNvCxnSpPr>
          <p:nvPr/>
        </p:nvCxnSpPr>
        <p:spPr>
          <a:xfrm flipV="1">
            <a:off x="5181120" y="2060280"/>
            <a:ext cx="578520" cy="50544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6" idx="3"/>
            <a:endCxn id="59" idx="1"/>
          </p:cNvCxnSpPr>
          <p:nvPr/>
        </p:nvCxnSpPr>
        <p:spPr>
          <a:xfrm flipV="1">
            <a:off x="5181120" y="2418840"/>
            <a:ext cx="578520" cy="1468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6" idx="3"/>
            <a:endCxn id="60" idx="1"/>
          </p:cNvCxnSpPr>
          <p:nvPr/>
        </p:nvCxnSpPr>
        <p:spPr>
          <a:xfrm>
            <a:off x="5181120" y="2565360"/>
            <a:ext cx="578520" cy="21672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56" idx="3"/>
            <a:endCxn id="61" idx="1"/>
          </p:cNvCxnSpPr>
          <p:nvPr/>
        </p:nvCxnSpPr>
        <p:spPr>
          <a:xfrm>
            <a:off x="5181120" y="2565360"/>
            <a:ext cx="578520" cy="575280"/>
          </a:xfrm>
          <a:prstGeom prst="bentConnector3">
            <a:avLst>
              <a:gd name="adj1" fmla="val 50000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7272360" y="2421000"/>
            <a:ext cx="1440000" cy="430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jud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985080" y="1773360"/>
            <a:ext cx="216000" cy="1726920"/>
          </a:xfrm>
          <a:custGeom>
            <a:avLst/>
            <a:gdLst>
              <a:gd name="textAreaLeft" fmla="*/ 0 w 216000"/>
              <a:gd name="textAreaRight" fmla="*/ 78120 w 21600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6200" y="4724280"/>
            <a:ext cx="129708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cep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30560" y="4724280"/>
            <a:ext cx="122400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38560" y="4005360"/>
            <a:ext cx="936720" cy="576000"/>
          </a:xfrm>
          <a:prstGeom prst="rect">
            <a:avLst/>
          </a:prstGeom>
          <a:noFill/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ff"/>
                </a:solidFill>
                <a:latin typeface="Arial"/>
              </a:rPr>
              <a:t>de En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14920" y="4724280"/>
            <a:ext cx="122364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 D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4184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onstr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9280" y="4724280"/>
            <a:ext cx="1370160" cy="720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ue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en Mar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66" idx="3"/>
            <a:endCxn id="68" idx="1"/>
          </p:cNvCxnSpPr>
          <p:nvPr/>
        </p:nvCxnSpPr>
        <p:spPr>
          <a:xfrm flipH="1">
            <a:off x="645840" y="2636640"/>
            <a:ext cx="8066880" cy="2448360"/>
          </a:xfrm>
          <a:prstGeom prst="bentConnector5">
            <a:avLst>
              <a:gd name="adj1" fmla="val -2829"/>
              <a:gd name="adj2" fmla="val 47014"/>
              <a:gd name="adj3" fmla="val 102829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3"/>
            <a:endCxn id="69" idx="1"/>
          </p:cNvCxnSpPr>
          <p:nvPr/>
        </p:nvCxnSpPr>
        <p:spPr>
          <a:xfrm>
            <a:off x="194328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9" idx="3"/>
            <a:endCxn id="71" idx="1"/>
          </p:cNvCxnSpPr>
          <p:nvPr/>
        </p:nvCxnSpPr>
        <p:spPr>
          <a:xfrm>
            <a:off x="3454200" y="5084280"/>
            <a:ext cx="36108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9" idx="0"/>
            <a:endCxn id="70" idx="1"/>
          </p:cNvCxnSpPr>
          <p:nvPr/>
        </p:nvCxnSpPr>
        <p:spPr>
          <a:xfrm flipH="1" flipV="1" rot="5400000">
            <a:off x="2825640" y="4311000"/>
            <a:ext cx="430920" cy="39600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cxnSp>
        <p:nvCxnSpPr>
          <p:cNvPr id="78" name=""/>
          <p:cNvCxnSpPr>
            <a:stCxn id="70" idx="3"/>
            <a:endCxn id="71" idx="0"/>
          </p:cNvCxnSpPr>
          <p:nvPr/>
        </p:nvCxnSpPr>
        <p:spPr>
          <a:xfrm>
            <a:off x="4174920" y="4293720"/>
            <a:ext cx="253080" cy="430920"/>
          </a:xfrm>
          <a:prstGeom prst="bentConnector2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616720" y="400536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geniería de Terr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1" idx="3"/>
            <a:endCxn id="72" idx="1"/>
          </p:cNvCxnSpPr>
          <p:nvPr/>
        </p:nvCxnSpPr>
        <p:spPr>
          <a:xfrm>
            <a:off x="5038560" y="5084280"/>
            <a:ext cx="504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1" idx="3"/>
            <a:endCxn id="79" idx="1"/>
          </p:cNvCxnSpPr>
          <p:nvPr/>
        </p:nvCxnSpPr>
        <p:spPr>
          <a:xfrm flipV="1">
            <a:off x="5038560" y="4220280"/>
            <a:ext cx="578880" cy="864360"/>
          </a:xfrm>
          <a:prstGeom prst="bentConnector3">
            <a:avLst>
              <a:gd name="adj1" fmla="val 49968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3"/>
            <a:endCxn id="73" idx="1"/>
          </p:cNvCxnSpPr>
          <p:nvPr/>
        </p:nvCxnSpPr>
        <p:spPr>
          <a:xfrm>
            <a:off x="6912000" y="5084280"/>
            <a:ext cx="288000" cy="1080"/>
          </a:xfrm>
          <a:prstGeom prst="bentConnector2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633744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850160" y="443700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16720" y="5877000"/>
            <a:ext cx="2519280" cy="431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érmino (Entre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73" idx="3"/>
            <a:endCxn id="85" idx="0"/>
          </p:cNvCxnSpPr>
          <p:nvPr/>
        </p:nvCxnSpPr>
        <p:spPr>
          <a:xfrm flipH="1">
            <a:off x="6876360" y="5084280"/>
            <a:ext cx="1693080" cy="793080"/>
          </a:xfrm>
          <a:prstGeom prst="bentConnector4">
            <a:avLst>
              <a:gd name="adj1" fmla="val -13504"/>
              <a:gd name="adj2" fmla="val 72706"/>
            </a:avLst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pos de Proyecto Según Ejecu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Ingeniería Propi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Ingeniería llave en mano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Ingeniería por Administración Delegada(*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Ingeniería por Administración Controlad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8000" y="260280"/>
          <a:ext cx="8856720" cy="535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60280"/>
                    <a:ext cx="8856720" cy="53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43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ipos de Contrato d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rvicios de Ingenie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.- Suma alzad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- Precio unitario por hora efectiva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.- Precio unitario por hora efectiva (máximo garantizado)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4.- Costos directos y suma alzada de gastos gener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rminología Téc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1484280"/>
            <a:ext cx="460836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liente-Mand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tratista – Empres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Kick off Meeting (Reunión de Part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Formación del Equ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mites de Bat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Gerente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Líder de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Consul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Manual de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Reuniones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cc"/>
                </a:solidFill>
                <a:latin typeface="Arial"/>
              </a:rPr>
              <a:t>Archiv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rminología Contractual - Leg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1484280"/>
            <a:ext cx="575928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Bases de la propuesta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ontrato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abier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Proceso de contratación directa del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Mul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Garant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Rete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stados de P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oras de Ingeni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iciación de Ac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Ordene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scuela de  Ingeniería - fcfm - Universidad de Chile                                         EI1101- Introducción a la Ingenierí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8-06-11T22:04:43Z</dcterms:modified>
  <cp:revision>17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948759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clase de esta semana</vt:lpwstr>
  </property>
</Properties>
</file>