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430-0F88-449A-982E-BA931517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CF2-7563-4977-AE46-23408D0A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9EA-656E-4F6A-8883-086DC85B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A49-60AE-4C65-90C6-17A0DBE0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04B-7C01-4DA1-9AF7-0FBB2135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39E-2CC3-4FB9-8A34-F8CE6E61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3BA-5B68-4C7D-95F7-02C61DF4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58B-C85C-4EC6-ABEE-03EE8880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D21-BA80-46A4-938D-C3583498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44D-7B2C-477E-A49B-894EF1F4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376-BA0A-46C6-A5AC-6907DEAA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ED6-208B-419E-AADB-185C021A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0588-20F7-4068-8FF8-E3B7FDA74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9" idx="0"/>
            <a:endCxn id="48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8" idx="3"/>
            <a:endCxn id="50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2"/>
            <a:endCxn id="48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0" idx="0"/>
            <a:endCxn id="54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0" idx="3"/>
            <a:endCxn id="56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6" idx="3"/>
            <a:endCxn id="58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6" idx="3"/>
            <a:endCxn id="59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6" idx="3"/>
            <a:endCxn id="60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6" idx="3"/>
            <a:endCxn id="61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6" idx="3"/>
            <a:endCxn id="68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3"/>
            <a:endCxn id="69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1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9" idx="0"/>
            <a:endCxn id="70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8" name=""/>
          <p:cNvCxnSpPr>
            <a:stCxn id="70" idx="3"/>
            <a:endCxn id="71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1" idx="3"/>
            <a:endCxn id="72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9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73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73" idx="3"/>
            <a:endCxn id="85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11T22:04:43Z</dcterms:modified>
  <cp:revision>17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48759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</vt:lpwstr>
  </property>
</Properties>
</file>