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BEA-BC9D-4B98-9121-0A2087B1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C2D-DD4F-49F1-AB09-487BE5C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423-70E2-4E2F-82BE-AA0CFB47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2F6-8FA1-4F97-86C3-BD3E7C37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C70-0471-4BE4-A237-4307B9E3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BD3-6C7B-4253-BA85-889C12C4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62B-E17E-4D91-82B1-65EE7D9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AA6-F13F-4669-A888-C51EF87C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F80-C8FF-40AB-9499-DE1ECBA2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FF4-81C1-45EC-B70D-D1A6480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1AD-9856-473B-88C8-E02894C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685-4507-4191-9E50-AA0AB84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BEA-991F-4E04-9E28-BD5B5759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9" idx="0"/>
            <a:endCxn id="48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8" idx="3"/>
            <a:endCxn id="50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2"/>
            <a:endCxn id="48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0" idx="0"/>
            <a:endCxn id="54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0" idx="3"/>
            <a:endCxn id="56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6" idx="3"/>
            <a:endCxn id="58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6" idx="3"/>
            <a:endCxn id="59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60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6" idx="3"/>
            <a:endCxn id="61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3"/>
            <a:endCxn id="68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3"/>
            <a:endCxn id="69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1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0"/>
            <a:endCxn id="70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stCxn id="70" idx="3"/>
            <a:endCxn id="71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3"/>
            <a:endCxn id="72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9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3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3" idx="3"/>
            <a:endCxn id="85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2:04:43Z</dcterms:modified>
  <cp:revision>17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8759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</vt:lpwstr>
  </property>
</Properties>
</file>