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357E-A230-4017-9E29-01E78E37C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0B1E-C140-4FE7-BE00-EC9C6BAA7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10C1-66E2-45C1-BB3E-BCDB9BE20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028A-C002-4D9A-BA78-9E5450C4E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01B6-1E16-4D32-B99B-DA7525489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4F33-29D5-42C8-AD10-BC9E3C09E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2F7A-64A6-44CC-A570-78B080FE4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8BF8-93D4-4D52-AB11-F624E72F1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4F9C-9BF4-4D8A-ADAE-2AB41C56B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44E6-8FE1-48B6-9D5B-420D548E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F651-708C-4C31-A4D1-EB7966BC5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50F1-343D-4651-B64C-460E712EA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8C9C4-967B-40F3-A1A1-E05F96FA52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1"/>
          <p:cNvSpPr/>
          <p:nvPr/>
        </p:nvSpPr>
        <p:spPr>
          <a:xfrm>
            <a:off x="285840" y="1357200"/>
            <a:ext cx="83581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valuación proyecto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15% Planos y dis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40% Funcionalidad del Braz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umple con las dimensiones del diseño 3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istema de agarre de argollas 3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Operatividad del Brazo 3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tética 10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15% Presen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30% trabajo pers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1"/>
          <p:cNvSpPr/>
          <p:nvPr/>
        </p:nvSpPr>
        <p:spPr>
          <a:xfrm>
            <a:off x="285840" y="1357200"/>
            <a:ext cx="83581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esent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ódulo cátedra: Grupos 10 a 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ódulo taller: Grupos 1 a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debe asistir al módulo en que su grupo presenta (asistir al otro módulo es voluntari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10 minutos máximo por presentación, incluidas pregun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Pauta de Evaluación Presentación</a:t>
            </a:r>
            <a:br>
              <a:rPr sz="4000"/>
            </a:b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(7 min, subir a Ucursos, Presentan los 2 integrantes que no han presentad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914400" y="1523880"/>
          <a:ext cx="7777080" cy="4573440"/>
        </p:xfrm>
        <a:graphic>
          <a:graphicData uri="http://schemas.openxmlformats.org/drawingml/2006/table">
            <a:tbl>
              <a:tblPr/>
              <a:tblGrid>
                <a:gridCol w="1584360"/>
                <a:gridCol w="6192720"/>
              </a:tblGrid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men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icador de evalu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47916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. Las ideas expresadas son claras y coherentes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479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. El lenguaje utilizado es rico  en vocabulari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79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. Existió organización, síntesis y jerarquización de ide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2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. Las ideas expresadas demostraron un manejo conceptua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136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. La exposición del tema incorporó las siguientes fases: introducción, desarrollo del tema y cierre. (Introducción 10%, desarrollo 65% y cierre 25%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</a:tbl>
          </a:graphicData>
        </a:graphic>
      </p:graphicFrame>
      <p:sp>
        <p:nvSpPr>
          <p:cNvPr id="48" name="Text Box 24"/>
          <p:cNvSpPr/>
          <p:nvPr/>
        </p:nvSpPr>
        <p:spPr>
          <a:xfrm>
            <a:off x="81000" y="2708280"/>
            <a:ext cx="45864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5"/>
          <p:cNvSpPr/>
          <p:nvPr/>
        </p:nvSpPr>
        <p:spPr>
          <a:xfrm rot="10800000">
            <a:off x="998280" y="1988640"/>
            <a:ext cx="54612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UNICACIÓN VER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uta de Evalu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611280" y="1197000"/>
          <a:ext cx="8064360" cy="5216400"/>
        </p:xfrm>
        <a:graphic>
          <a:graphicData uri="http://schemas.openxmlformats.org/drawingml/2006/table">
            <a:tbl>
              <a:tblPr/>
              <a:tblGrid>
                <a:gridCol w="1728720"/>
                <a:gridCol w="6335640"/>
              </a:tblGrid>
              <a:tr h="55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men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icador de evalu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104076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. El apoyo audiovisual es claro y permite la compresión de lo que se expon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1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. El recurso Power-point, utiliza el tamaño de letra adecuado (28-44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. El recurso Power-point, no se encuentra agotado de text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582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. El expositor hizo Variación en la voz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1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. El expositor realizó gestos y movimientos corporales para dar énfasis a las ideas expuest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. El expositor tuvo contacto visual con los oyent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</a:tbl>
          </a:graphicData>
        </a:graphic>
      </p:graphicFrame>
      <p:sp>
        <p:nvSpPr>
          <p:cNvPr id="53" name="Text Box 27"/>
          <p:cNvSpPr/>
          <p:nvPr/>
        </p:nvSpPr>
        <p:spPr>
          <a:xfrm rot="10800000">
            <a:off x="998280" y="1844640"/>
            <a:ext cx="5461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UNICACIÓN NO VER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LI2</cp:lastModifiedBy>
  <dcterms:modified xsi:type="dcterms:W3CDTF">2008-06-23T15:02:19Z</dcterms:modified>
  <cp:revision>40</cp:revision>
  <dc:subject/>
  <dc:title>EL63A-Taller de Proyecto en Control I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452113621</vt:r8>
  </property>
  <property fmtid="{D5CDD505-2E9C-101B-9397-08002B2CF9AE}" pid="3" name="_AuthorEmail">
    <vt:lpwstr>hagusto@ing.uchile.cl</vt:lpwstr>
  </property>
  <property fmtid="{D5CDD505-2E9C-101B-9397-08002B2CF9AE}" pid="4" name="_AuthorEmailDisplayName">
    <vt:lpwstr>Héctor Agusto</vt:lpwstr>
  </property>
  <property fmtid="{D5CDD505-2E9C-101B-9397-08002B2CF9AE}" pid="5" name="_EmailSubject">
    <vt:lpwstr>Evaluación del Proyecto 2, actividades finales</vt:lpwstr>
  </property>
</Properties>
</file>