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2EF-411C-4A83-A1D5-BB597D45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B39-1C3C-4969-A549-0750451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783-9165-4FB7-9589-AB0549DC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E11-21FD-4A6C-8AD9-5A51660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05D-071A-4A2F-8559-7BA37D0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387-2CD9-4C0F-AE4F-272C7384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274-A4A0-49FF-B5B0-C531E09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284-5BE2-4038-B59B-BAADA87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5D6-3083-4479-B15E-1AFF8BF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1C5-2724-4F55-86EF-4B58544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AF4-FA67-46F2-B12A-2C6F231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44C-0045-4345-BF7A-0F75679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644-91EA-4CA0-B870-FEE9EF00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00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5334120"/>
            <a:ext cx="71614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I1101- Introducción a la Ingeniería I</a:t>
            </a: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of. Jorge Cas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80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82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258920" y="1413000"/>
            <a:ext cx="6265800" cy="4019400"/>
            <a:chOff x="1258920" y="1413000"/>
            <a:chExt cx="6265800" cy="4019400"/>
          </a:xfrm>
        </p:grpSpPr>
        <p:sp>
          <p:nvSpPr>
            <p:cNvPr id="45" name=""/>
            <p:cNvSpPr/>
            <p:nvPr/>
          </p:nvSpPr>
          <p:spPr>
            <a:xfrm>
              <a:off x="1258920" y="1868400"/>
              <a:ext cx="6265800" cy="35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ntu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uir indicaciones de Profesor y ayud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herramientas correctam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tar análisis de ries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1413000"/>
              <a:ext cx="6265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S DE TRABAJO EN TA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4130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8920" y="5432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89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247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58920" y="1868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3-20T14:32:52Z</dcterms:modified>
  <cp:revision>47</cp:revision>
  <dc:subject/>
  <dc:title>EL63A-Taller de Proyecto en Control II</dc:title>
</cp:coreProperties>
</file>