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3F6-9844-4953-928D-522B19FA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E2C-3832-42E6-9855-F6DBB4CC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356-7F08-4030-B22E-8EAEFB6C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0E3F-D4FC-40E3-9197-F0CA1D19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0EFF-A604-44E8-8FE8-EB57AB69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C1A-F996-454F-978B-DC9CCA37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6B3-CE0B-4313-8F19-2F2EA78E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238D-5277-415C-8F9B-97FF80F8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084C-3246-4AAA-93FF-D1677426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214-8A13-4A38-B9F5-B0AA56D7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EBF2-462F-4478-997D-6CE5C5DD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457-4A4B-4848-A1B3-005D4EA1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55E8-9D85-47DE-B394-FD9608847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SC0001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38280" y="5334120"/>
            <a:ext cx="716148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EI1101- Introducción a la Ingeniería I</a:t>
            </a: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Prof. Jorge Cast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95280" y="1197000"/>
          <a:ext cx="8569440" cy="46465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 los fundamentos del proceso de diseño y sus formas de aplicación en diferentes áreas de la ingenierí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r la estrategia de trabajo colaborativo en la resolución de los problemas que se le presenten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r técnicas de redacción de informes y efectuar presentaciones orales de acuerdo a estándares de calidad establecid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 los aspectos éticos de un proyecto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79640" y="2060640"/>
          <a:ext cx="5904000" cy="280836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2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Construcción y prueb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50920" y="1511280"/>
          <a:ext cx="8713800" cy="367020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ir y analizar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o I: Generar altern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o II: Evaluar altern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cción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cción II y Prueb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ció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332000" y="1127160"/>
          <a:ext cx="7489800" cy="503856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66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Nota Individual: puntualidad, participación, cumplimiento de ro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ototipo: cumplimiento de especificaciones, evaluar prototipo, estimación de tiempo de construcció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Dise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Construc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50920" y="1341360"/>
          <a:ext cx="8642160" cy="43196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8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6373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rototipo debe ser capaz de soportar una balde con 500gr a una altura de 30 cm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6373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estructura se construirá con alambre de Cu y soldadura de estañ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508720" y="3859200"/>
            <a:ext cx="3311280" cy="1656720"/>
            <a:chOff x="5508720" y="3859200"/>
            <a:chExt cx="3311280" cy="1656720"/>
          </a:xfrm>
        </p:grpSpPr>
        <p:sp>
          <p:nvSpPr>
            <p:cNvPr id="80" name=""/>
            <p:cNvSpPr/>
            <p:nvPr/>
          </p:nvSpPr>
          <p:spPr>
            <a:xfrm>
              <a:off x="7236000" y="4292640"/>
              <a:ext cx="15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0,5 Kg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5508720" y="3859200"/>
              <a:ext cx="2016000" cy="1656720"/>
              <a:chOff x="5508720" y="3859200"/>
              <a:chExt cx="2016000" cy="1656720"/>
            </a:xfrm>
          </p:grpSpPr>
          <p:sp>
            <p:nvSpPr>
              <p:cNvPr id="82" name=""/>
              <p:cNvSpPr/>
              <p:nvPr/>
            </p:nvSpPr>
            <p:spPr>
              <a:xfrm>
                <a:off x="6516720" y="3859200"/>
                <a:ext cx="577800" cy="574560"/>
              </a:xfrm>
              <a:custGeom>
                <a:avLst/>
                <a:gdLst>
                  <a:gd name="textAreaLeft" fmla="*/ 116280 w 577800"/>
                  <a:gd name="textAreaRight" fmla="*/ 461520 w 577800"/>
                  <a:gd name="textAreaTop" fmla="*/ 115560 h 574560"/>
                  <a:gd name="textAreaBottom" fmla="*/ 459000 h 57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925" y="21600"/>
                    </a:lnTo>
                    <a:lnTo>
                      <a:pt x="4675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6516720" y="4435200"/>
                <a:ext cx="577440" cy="936360"/>
                <a:chOff x="6516720" y="4435200"/>
                <a:chExt cx="577440" cy="9363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6516720" y="4545360"/>
                  <a:ext cx="246960" cy="826200"/>
                </a:xfrm>
                <a:custGeom>
                  <a:avLst/>
                  <a:gdLst>
                    <a:gd name="textAreaLeft" fmla="*/ 84600 w 246960"/>
                    <a:gd name="textAreaRight" fmla="*/ 162360 w 246960"/>
                    <a:gd name="textAreaTop" fmla="*/ 283320 h 826200"/>
                    <a:gd name="textAreaBottom" fmla="*/ 542880 h 826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1419" y="21600"/>
                      </a:lnTo>
                      <a:lnTo>
                        <a:pt x="10181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847200" y="4545360"/>
                  <a:ext cx="246960" cy="826200"/>
                </a:xfrm>
                <a:custGeom>
                  <a:avLst/>
                  <a:gdLst>
                    <a:gd name="textAreaLeft" fmla="*/ 84600 w 246960"/>
                    <a:gd name="textAreaRight" fmla="*/ 162360 w 246960"/>
                    <a:gd name="textAreaTop" fmla="*/ 283320 h 826200"/>
                    <a:gd name="textAreaBottom" fmla="*/ 542880 h 826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1419" y="21600"/>
                      </a:lnTo>
                      <a:lnTo>
                        <a:pt x="10181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516720" y="4435200"/>
                  <a:ext cx="577440" cy="110160"/>
                </a:xfrm>
                <a:prstGeom prst="rect">
                  <a:avLst/>
                </a:pr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"/>
              <p:cNvSpPr/>
              <p:nvPr/>
            </p:nvSpPr>
            <p:spPr>
              <a:xfrm>
                <a:off x="6805800" y="429084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300720" y="4435200"/>
                <a:ext cx="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508720" y="4724280"/>
                <a:ext cx="158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30 c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300720" y="5371920"/>
                <a:ext cx="12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6300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6516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6732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6948720" y="5371560"/>
                <a:ext cx="72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716436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738036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1341360"/>
          <a:ext cx="8642160" cy="427032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5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ISIS DEL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Resiste la solicitació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l fue el margen de segurida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Fueron claros los requerimiento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Se puede optimizar el diseño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l es el peso de la estructur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promedio por soldadu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ómo influye la organización del equipo en el trabajo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26920" y="1052640"/>
          <a:ext cx="7344000" cy="40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052640"/>
                    <a:ext cx="73440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979640" y="5084640"/>
            <a:ext cx="68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vitar sobrecalentamiento: usar disipador de calor y desenchu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1916280"/>
            <a:ext cx="2879640" cy="86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077840"/>
            <a:ext cx="849600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usar alambre desnudo completo o desnudo hasta un par de centímetros de la soldadura porque el forro se quema al sol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calentar con el cautín por un costado de la un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esperar que alcance temperatura de fu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plicar soldadura por el lado contrario al del cautí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oldadura debe penetrar en el espacio interior y producir aleación Cu-P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ambre debe estar totalmente lim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052640"/>
            <a:ext cx="8496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evitar absolutamente la grasa de las manos en el punto de soldad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i el alambre se ensucia, se debe lijar antes de soldar (grasa, aire de varios días, et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cautín debe reposar en disipador cuando no se está solda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desenchufar cautín si va a pasar un rato largo sin us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para determinar si cautín alcanzó la temperatura, tocar la punta del cautín con la soldad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092240"/>
            <a:ext cx="84960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cortar le alambre, usar antipar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i se corta un trozo pequeño de alambre, dirigirlo hacia el suelo o la mesa porque va a sal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soldar usar gu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para afirmar la estructura al soldar, usar alicate o prensa porque alambre se calie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afirmar con alicate o prensa, hacerlo alejado varios centímetros del punto de soldadura porque el alicate o prensa disipará el calor y enfriará el punto de contac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588000" y="1700280"/>
          <a:ext cx="2089440" cy="174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8000" y="1700280"/>
                    <a:ext cx="208944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484360" y="3645000"/>
          <a:ext cx="3311640" cy="26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3645000"/>
                    <a:ext cx="331164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50920" y="1773360"/>
            <a:ext cx="62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tener unidos hasta que la soldadura solidif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258920" y="1413000"/>
            <a:ext cx="6265800" cy="4019400"/>
            <a:chOff x="1258920" y="1413000"/>
            <a:chExt cx="6265800" cy="4019400"/>
          </a:xfrm>
        </p:grpSpPr>
        <p:sp>
          <p:nvSpPr>
            <p:cNvPr id="45" name=""/>
            <p:cNvSpPr/>
            <p:nvPr/>
          </p:nvSpPr>
          <p:spPr>
            <a:xfrm>
              <a:off x="1258920" y="1868400"/>
              <a:ext cx="6265800" cy="35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ntual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guir indicaciones de Profesor y ayudant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zar implementos de Segurida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zar herramientas correctam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bajar en forma Respons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letar análisis de ries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1413000"/>
              <a:ext cx="626580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RMAS DE TRABAJO EN TALL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58920" y="141300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8920" y="543240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58920" y="1413000"/>
              <a:ext cx="0" cy="40194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524720" y="1413000"/>
              <a:ext cx="0" cy="40194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58920" y="186840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8000" y="765000"/>
            <a:ext cx="9001080" cy="52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álisis de cas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seño y Construcción de una Estructu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1844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les en los Grup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0920" y="263844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ordin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3357720"/>
            <a:ext cx="6801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ret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0920" y="4078440"/>
            <a:ext cx="6801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cargado de Mater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0920" y="479736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al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0920" y="551808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rol de Proy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95280" y="1495440"/>
          <a:ext cx="8569440" cy="15019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4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r la carrera de ingeniería a los procesos diseñar y implementar proyect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8-03-20T14:32:52Z</dcterms:modified>
  <cp:revision>47</cp:revision>
  <dc:subject/>
  <dc:title>EL63A-Taller de Proyecto en Control II</dc:title>
</cp:coreProperties>
</file>