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1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C88-4CB6-49FF-B1DC-C8493117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E70-603B-4C77-93D1-BDC707D1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74B-11AE-434B-98FA-055C946E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4BE-DF5A-4F42-A8A4-5C219474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20D-A97E-4A72-9B17-A38AE099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D01-0247-4F9F-AEBB-74025C2A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5419-9036-4428-8772-62C08FE5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0AC-EFEC-4FAC-93AF-4E8953DD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C97-AA5A-41D6-ABE8-AEFAEE14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62B-B035-481F-98B5-2D9AAA04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7C5-689F-430E-96C5-9D4B061A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9B0-2B48-4574-BB71-11292ED2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2C17-A268-4139-A446-A8FDB4F44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contenido"/>
          <p:cNvSpPr/>
          <p:nvPr/>
        </p:nvSpPr>
        <p:spPr>
          <a:xfrm>
            <a:off x="179280" y="1268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tres ejes se representa simétricamente a 120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 escala en cada una es la misma (ventaj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ven las tres vistas estándar desde arri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56000" y="4065480"/>
            <a:ext cx="367164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papel isométrico, para trazado a 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665964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s se v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035160" cy="32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651640" y="2637000"/>
            <a:ext cx="257796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simples de hacer pero menos real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2 ejes perpendicul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er eje a normalmente a 45º (30º o 60º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3500280"/>
            <a:ext cx="3390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Vista frontal 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ofundidad se modifica para dar rea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187800" cy="210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00720" y="2751120"/>
            <a:ext cx="46432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 se ven en vista frontal, en el resto aparec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84720" y="3013200"/>
            <a:ext cx="45910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8 Marcador de contenido"/>
          <p:cNvSpPr/>
          <p:nvPr/>
        </p:nvSpPr>
        <p:spPr>
          <a:xfrm>
            <a:off x="179280" y="119700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 la forma en que vemos el mundo 3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realistas pero más difíciles de h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íneas paralelas convergen (puntos de fug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87640" y="3708360"/>
            <a:ext cx="6156360" cy="314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32000" y="4436640"/>
            <a:ext cx="4319640" cy="2421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451280" y="4436640"/>
            <a:ext cx="1692360" cy="129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940360" y="4436640"/>
            <a:ext cx="1224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940000" y="4437000"/>
            <a:ext cx="1584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8 Marcador de contenido"/>
          <p:cNvSpPr/>
          <p:nvPr/>
        </p:nvSpPr>
        <p:spPr>
          <a:xfrm>
            <a:off x="108000" y="105264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scala de profundidad va disminuyendo a medida que se acerca a horiz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y tantos punto de fuga como grupos de líneas paralelas fura del plano fr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116000" y="3789360"/>
            <a:ext cx="4321080" cy="277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305240" y="3681360"/>
            <a:ext cx="4875120" cy="2843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08000" y="4560840"/>
            <a:ext cx="280836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ormato estándar en ingenie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junto de vistas 2D de un 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2708280"/>
            <a:ext cx="5111640" cy="3813120"/>
          </a:xfrm>
          <a:prstGeom prst="rect">
            <a:avLst/>
          </a:prstGeom>
          <a:ln w="0">
            <a:noFill/>
          </a:ln>
        </p:spPr>
      </p:pic>
      <p:sp>
        <p:nvSpPr>
          <p:cNvPr id="90" name="8 Marcador de contenido"/>
          <p:cNvSpPr/>
          <p:nvPr/>
        </p:nvSpPr>
        <p:spPr>
          <a:xfrm>
            <a:off x="-36360" y="2708280"/>
            <a:ext cx="50400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ntas como sea necesario para definirlo completamente y sin ambigüedades (2, 3 o 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ubicar las v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6898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9080" y="0"/>
            <a:ext cx="86756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los estilos de lí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68360" y="2349360"/>
            <a:ext cx="4681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bujos son a escala, pero deben tener dimensiones que los definen (no satur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024000" cy="2706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24360" y="2492280"/>
            <a:ext cx="52196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lerancia puede ser explicita o implícita (en función de cifras significativ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términos constructivos a menor tolerancia mayos co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03640" y="4041720"/>
            <a:ext cx="33130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uadro de Rot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8 Marcador de contenido"/>
          <p:cNvSpPr/>
          <p:nvPr/>
        </p:nvSpPr>
        <p:spPr>
          <a:xfrm>
            <a:off x="34920" y="1197000"/>
            <a:ext cx="431784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in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pi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olerancia que será utilizada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erial que será utilizado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tamiento Térmico u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Marcador de contenido"/>
          <p:cNvSpPr/>
          <p:nvPr/>
        </p:nvSpPr>
        <p:spPr>
          <a:xfrm>
            <a:off x="4286160" y="1197000"/>
            <a:ext cx="460692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dades de med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dibuj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revis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número único            (ej.: EI110-S2-G3-P2-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3822840"/>
            <a:ext cx="4788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 Marcador de contenido"/>
          <p:cNvSpPr/>
          <p:nvPr/>
        </p:nvSpPr>
        <p:spPr>
          <a:xfrm>
            <a:off x="-36360" y="134136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lación entre medidas en plano y medidas r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Marcador de contenido"/>
          <p:cNvSpPr/>
          <p:nvPr/>
        </p:nvSpPr>
        <p:spPr>
          <a:xfrm>
            <a:off x="3851280" y="2492280"/>
            <a:ext cx="12603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es-C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9242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292428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Marcador de contenido"/>
          <p:cNvSpPr/>
          <p:nvPr/>
        </p:nvSpPr>
        <p:spPr>
          <a:xfrm>
            <a:off x="250920" y="386064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entero y en lo posible múltiplo de 10 o 5 (salvo 1:1,  1:2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ño Asistido por Computador (en inglé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 facilitar re-impresión y cor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un principio permitían “unir” líneas del dibujo (2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uego entienden figuras 3D y generan vistas (“modelos de alambre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algunos comprenden los materiales sólidos (análisis y simulació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8 Marcador de contenido"/>
          <p:cNvSpPr/>
          <p:nvPr/>
        </p:nvSpPr>
        <p:spPr>
          <a:xfrm>
            <a:off x="250920" y="1052640"/>
            <a:ext cx="8893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n sobre base de datos de entidades geométricas (puntos, líneas, arc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utoCA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 Autodesk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icros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Bentley Sistems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lliCAD (versión 2001 disponible en PC’s Zoca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work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ProEngine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y Autodesk, In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SketchUp (software gra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trabajar en directamente en unidades de ingenie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 imprimir se eligen vistas y se aplic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dibujos se organizan en capas, se pueden ver o imprimir según la necesidad el p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manejar distintas vistas, escalas y/o visualizar dimen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12304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contenido"/>
          <p:cNvSpPr/>
          <p:nvPr/>
        </p:nvSpPr>
        <p:spPr>
          <a:xfrm>
            <a:off x="287280" y="1052640"/>
            <a:ext cx="8856720" cy="35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ando el espacio de trabajo de papel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aper workspace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 se pueden crear ventanas flotantes (comando 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mview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ellas se pueden ubicar distintas vist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4360" y="290520"/>
            <a:ext cx="83152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76360" y="92160"/>
            <a:ext cx="76327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62040" y="819000"/>
            <a:ext cx="60199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71560" y="942840"/>
            <a:ext cx="56008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318960"/>
            <a:ext cx="6048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6343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Técn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179280" y="1268280"/>
            <a:ext cx="856944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comunicar diseño (parte del proceso de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existen sofisticados software de dibujo: CAD (etapas avanzadas del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mportante poder expresar una idea en un dibujo simple a mano alzada (etapas inici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Pictór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539640" y="1484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ción en 2D de cuerpos 3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lic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spe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432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2T18:11:41Z</dcterms:modified>
  <cp:revision>51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5341295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