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9.png" ContentType="image/png"/>
  <Override PartName="/ppt/media/image17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5.jpeg" ContentType="image/jpeg"/>
  <Override PartName="/ppt/media/image26.wmf" ContentType="image/x-wmf"/>
  <Override PartName="/ppt/media/image14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C50A-E7A7-41C7-8B6E-59079E454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EA2D-385B-4F44-8ABA-A5C9FA18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8841-50C2-4E87-B1B6-3AF27B372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BB34-232C-482F-9D7D-DE09734EB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5261-8120-47B2-A412-24A7AAF7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F161-88E5-481C-B7B9-EDC51024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E933-5B13-4594-B5E4-642060A4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33F9-1724-4E6B-B06E-95964962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A16C-2927-44C8-98C3-FE009E20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CDAD-A188-4425-A3CC-2198D1C2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6498-487C-49B8-BF40-CE29A19A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D008-7058-4053-B18D-0026F16D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8F3D-FEAC-4C67-8D00-A075903ED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sométr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Marcador de contenido"/>
          <p:cNvSpPr/>
          <p:nvPr/>
        </p:nvSpPr>
        <p:spPr>
          <a:xfrm>
            <a:off x="179280" y="1268280"/>
            <a:ext cx="856944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os tres ejes se representa simétricamente a 120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a escala en cada una es la misma (ventaj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e ven las tres vistas estándar desde arri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556000" y="4065480"/>
            <a:ext cx="3671640" cy="26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sométr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xiste papel isométrico, para trazado a m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268360" y="2276640"/>
            <a:ext cx="6659640" cy="42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sométr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ircunferencias se ven como elip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258920" y="2276640"/>
            <a:ext cx="3035160" cy="3288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651640" y="2637000"/>
            <a:ext cx="2577960" cy="24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s oblicu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ás simples de hacer pero menos reali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2 ejes perpendicular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3er eje a normalmente a 45º (30º o 60º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427640" y="3500280"/>
            <a:ext cx="3390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s oblicu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Vista frontal a esc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rofundidad se modifica para dar realis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5280" y="2997360"/>
            <a:ext cx="3187800" cy="2100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500720" y="2751120"/>
            <a:ext cx="464328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s oblicu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ircunferencia se ven en vista frontal, en el resto aparecen como elip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284720" y="3013200"/>
            <a:ext cx="459108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8 Marcador de contenido"/>
          <p:cNvSpPr/>
          <p:nvPr/>
        </p:nvSpPr>
        <p:spPr>
          <a:xfrm>
            <a:off x="179280" y="1197000"/>
            <a:ext cx="8964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Representa la forma en que vemos el mundo 3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ás realistas pero más difíciles de h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íneas paralelas convergen (puntos de fug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987640" y="3708360"/>
            <a:ext cx="6156360" cy="31496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erspectiv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132000" y="4436640"/>
            <a:ext cx="4319640" cy="2421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7451280" y="4436640"/>
            <a:ext cx="1692360" cy="129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5940360" y="4436640"/>
            <a:ext cx="1224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5940000" y="4437000"/>
            <a:ext cx="158436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8 Marcador de contenido"/>
          <p:cNvSpPr/>
          <p:nvPr/>
        </p:nvSpPr>
        <p:spPr>
          <a:xfrm>
            <a:off x="108000" y="1052640"/>
            <a:ext cx="8964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scala de profundidad va disminuyendo a medida que se acerca a horizo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Hay tantos punto de fuga como grupos de líneas paralelas fura del plano fro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erspectiv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1116000" y="3789360"/>
            <a:ext cx="4321080" cy="2778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305240" y="3681360"/>
            <a:ext cx="4875120" cy="2843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908000" y="4560840"/>
            <a:ext cx="2808360" cy="229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Formato estándar en ingenier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onjunto de vistas 2D de un cuer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284720" y="2708280"/>
            <a:ext cx="5111640" cy="3813120"/>
          </a:xfrm>
          <a:prstGeom prst="rect">
            <a:avLst/>
          </a:prstGeom>
          <a:ln w="0">
            <a:noFill/>
          </a:ln>
        </p:spPr>
      </p:pic>
      <p:sp>
        <p:nvSpPr>
          <p:cNvPr id="90" name="8 Marcador de contenido"/>
          <p:cNvSpPr/>
          <p:nvPr/>
        </p:nvSpPr>
        <p:spPr>
          <a:xfrm>
            <a:off x="-36360" y="2708280"/>
            <a:ext cx="504000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antas como sea necesario para definirlo completamente y sin ambigüedades (2, 3 o </a:t>
            </a:r>
            <a:r>
              <a:rPr b="1" lang="es-CL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xiste convención para ubicar las vi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124000" y="2276640"/>
            <a:ext cx="5689800" cy="40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89080" y="0"/>
            <a:ext cx="867564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xiste convención para los estilos de lín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268360" y="2349360"/>
            <a:ext cx="468180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Dibujos son a escala, pero deben tener dimensiones que los definen (no satura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3024000" cy="2706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924360" y="2492280"/>
            <a:ext cx="521964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olerancia puede ser explicita o implícita (en función de cifras significativ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n términos constructivos a menor tolerancia mayos cos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203640" y="4041720"/>
            <a:ext cx="331308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uadro de Rotulac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8 Marcador de contenido"/>
          <p:cNvSpPr/>
          <p:nvPr/>
        </p:nvSpPr>
        <p:spPr>
          <a:xfrm>
            <a:off x="34920" y="1197000"/>
            <a:ext cx="431784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mbre de la instit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mbre de la pi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c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olerancia que será utilizada para fabri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terial que será utilizado para fabri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ratamiento Térmico u 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Marcador de contenido"/>
          <p:cNvSpPr/>
          <p:nvPr/>
        </p:nvSpPr>
        <p:spPr>
          <a:xfrm>
            <a:off x="4286160" y="1197000"/>
            <a:ext cx="4606920" cy="27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idades de medi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iciales del que dibuj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iciales del que revis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 número único            (ej.: EI110-S2-G3-P2-0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356000" y="3822840"/>
            <a:ext cx="4788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Escal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8 Marcador de contenido"/>
          <p:cNvSpPr/>
          <p:nvPr/>
        </p:nvSpPr>
        <p:spPr>
          <a:xfrm>
            <a:off x="-36360" y="1341360"/>
            <a:ext cx="856908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Relación entre medidas en plano y medidas re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8 Marcador de contenido"/>
          <p:cNvSpPr/>
          <p:nvPr/>
        </p:nvSpPr>
        <p:spPr>
          <a:xfrm>
            <a:off x="3851280" y="2492280"/>
            <a:ext cx="126036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imes New Roman"/>
              </a:rPr>
              <a:t>1 : </a:t>
            </a:r>
            <a:r>
              <a:rPr b="1" i="1" lang="es-CL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292428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dades en pa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03640" y="2924280"/>
            <a:ext cx="20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dades en la re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8 Marcador de contenido"/>
          <p:cNvSpPr/>
          <p:nvPr/>
        </p:nvSpPr>
        <p:spPr>
          <a:xfrm>
            <a:off x="250920" y="3860640"/>
            <a:ext cx="856908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entero y en lo posible múltiplo de 10 o 5 (salvo 1:1,  1:2, etc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8 Marcador de contenido"/>
          <p:cNvSpPr/>
          <p:nvPr/>
        </p:nvSpPr>
        <p:spPr>
          <a:xfrm>
            <a:off x="287280" y="1052640"/>
            <a:ext cx="885672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Diseño Asistido por Computador (en inglé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Objetivo facilitar re-impresión y corre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n un principio permitían “unir” líneas del dibujo (2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uego entienden figuras 3D y generan vistas (“modelos de alambre”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ctualmente algunos comprenden los materiales sólidos (análisis y simulación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8 Marcador de contenido"/>
          <p:cNvSpPr/>
          <p:nvPr/>
        </p:nvSpPr>
        <p:spPr>
          <a:xfrm>
            <a:off x="250920" y="1052640"/>
            <a:ext cx="889308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rabajan sobre base de datos de entidades geométricas (puntos, líneas, arcos, etc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utoCAD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  Autodesk, In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icrost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 Bentley Sistems, In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IntelliCAD (versión 2001 disponible en PC’s Zocal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olidwork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ProEngine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y Autodesk, Inc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Goog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SketchUp (software grati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Intelli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8 Marcador de contenido"/>
          <p:cNvSpPr/>
          <p:nvPr/>
        </p:nvSpPr>
        <p:spPr>
          <a:xfrm>
            <a:off x="287280" y="1052640"/>
            <a:ext cx="885672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mite trabajar en directamente en unidades de ingenierí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l imprimir se eligen vistas y se aplica esc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os dibujos se organizan en capas, se pueden ver o imprimir según la necesidad el pl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mite manejar distintas vistas, escalas y/o visualizar dimens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812304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Intelli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8 Marcador de contenido"/>
          <p:cNvSpPr/>
          <p:nvPr/>
        </p:nvSpPr>
        <p:spPr>
          <a:xfrm>
            <a:off x="287280" y="1052640"/>
            <a:ext cx="8856720" cy="35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Usando el espacio de trabajo de papel (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paper workspace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) se pueden crear ventanas flotantes (comando 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mview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n ellas se pueden ubicar distintas vista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14360" y="290520"/>
            <a:ext cx="831528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476360" y="92160"/>
            <a:ext cx="763272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562040" y="819000"/>
            <a:ext cx="601992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71560" y="942840"/>
            <a:ext cx="560088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47640" y="318960"/>
            <a:ext cx="6048720" cy="622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403280" y="836640"/>
            <a:ext cx="634356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 Técni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8 Marcador de contenido"/>
          <p:cNvSpPr/>
          <p:nvPr/>
        </p:nvSpPr>
        <p:spPr>
          <a:xfrm>
            <a:off x="179280" y="1268280"/>
            <a:ext cx="8569440" cy="456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mite comunicar diseño (parte del proceso de diseñ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ctualmente existen sofisticados software de dibujo: CAD (etapas avanzadas del diseñ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Importante poder expresar una idea en un dibujo simple a mano alzada (etapas inicial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 Pictóri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8 Marcador de contenido"/>
          <p:cNvSpPr/>
          <p:nvPr/>
        </p:nvSpPr>
        <p:spPr>
          <a:xfrm>
            <a:off x="539640" y="1484280"/>
            <a:ext cx="856944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Representación en 2D de cuerpos 3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Isométr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Oblicu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spec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572000" y="2637000"/>
            <a:ext cx="44323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5-12T18:11:41Z</dcterms:modified>
  <cp:revision>51</cp:revision>
  <dc:subject/>
  <dc:title>EL63A-Taller de Proyecto en Control I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25341295</vt:r8>
  </property>
  <property fmtid="{D5CDD505-2E9C-101B-9397-08002B2CF9AE}" pid="3" name="_AuthorEmail">
    <vt:lpwstr>hagusto@ing.uchile.cl</vt:lpwstr>
  </property>
  <property fmtid="{D5CDD505-2E9C-101B-9397-08002B2CF9AE}" pid="4" name="_AuthorEmailDisplayName">
    <vt:lpwstr>Héctor Agusto</vt:lpwstr>
  </property>
  <property fmtid="{D5CDD505-2E9C-101B-9397-08002B2CF9AE}" pid="5" name="_EmailSubject">
    <vt:lpwstr>EI110 - Clases pendientes</vt:lpwstr>
  </property>
</Properties>
</file>