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429A-5E10-4082-AD34-8488E646E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4564-2619-477F-AEDD-F453CD2F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9EC7-0B72-4BBC-A499-2EA01F61B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BD00-8990-404C-9BBC-7CB132658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93CD-8A39-4FBA-B4D7-FAECAA32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65C2-3686-4AAC-AF31-2C8C1B63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6B7C-C52C-4EBE-A056-6375A5CF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3604-5D66-417B-BF13-A9ECAEF8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DCC0-39C1-4AC9-B767-846E78C3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D10D-1C04-443F-99C3-1CC94B89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4A7A-B7FC-403D-B963-3E091EAA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9CB2-00A9-4BFE-801B-FEE64EF6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A742-167C-4D2E-A9CC-76221F0F2D4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I-110 Introducción a la Ingeniería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nálisis Proyecto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551628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.: Héctor Agu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332000" y="1127160"/>
          <a:ext cx="7489800" cy="5035680"/>
        </p:xfrm>
        <a:graphic>
          <a:graphicData uri="http://schemas.openxmlformats.org/drawingml/2006/table">
            <a:tbl>
              <a:tblPr/>
              <a:tblGrid>
                <a:gridCol w="7489800"/>
              </a:tblGrid>
              <a:tr h="65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 Nota Individual: puntualidad, participación, cumplimiento de ro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Prototipo: cumplimiento de especificaciones, evaluar prototipo, estimación de tiempo de construcció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Dise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Construcció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Presen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Infor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cc"/>
                </a:solidFill>
                <a:latin typeface="Trebuchet MS"/>
              </a:rPr>
              <a:t>Proyecto de Ingeniería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8 Marcador de contenido"/>
          <p:cNvSpPr/>
          <p:nvPr/>
        </p:nvSpPr>
        <p:spPr>
          <a:xfrm>
            <a:off x="457200" y="1557360"/>
            <a:ext cx="73548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fue lo más releva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les gust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0000cc"/>
                </a:solidFill>
                <a:latin typeface="Trebuchet MS"/>
              </a:rPr>
              <a:t>Proyecto de Ingeniería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95280" y="1197000"/>
          <a:ext cx="8569440" cy="464508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S ESPECÍF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0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der los fundamentos del proceso de diseño y sus formas de aplicación en diferentes áreas de la ingenierí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r la estrategia de trabajo colaborativo en la resolución de los problemas que se le presenten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r técnicas de redacción de informes y efectuar presentaciones orales de acuerdo a estándares de calidad establecido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ocer  los aspectos éticos de un proyecto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0" y="642960"/>
            <a:ext cx="8929800" cy="2698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3143160" y="3429000"/>
            <a:ext cx="41688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Aclarar los requerimi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57000"/>
            <a:ext cx="7354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Fueron claros los requerimient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faltó por preguntar o aclar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balde vibraba: ¿De quién es la responsabilid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Prototi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prender a sol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tender uso del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dquirir elementos para diseño (resistencia de materiales, dificultades práctic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mitió planificación: ¿Se puede diseñar sin experienc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Diseño y Constr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trices de Interacción y Dec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mbios en el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justarse a los plaz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so de elementos de segur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ingenieria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                                            EL69F- Trabajo de Títu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Estructu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35280" y="1628640"/>
            <a:ext cx="1224000" cy="216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71640" y="1628640"/>
            <a:ext cx="863640" cy="432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35280" y="1700280"/>
            <a:ext cx="1657080" cy="2089080"/>
          </a:xfrm>
          <a:prstGeom prst="parallelogram">
            <a:avLst>
              <a:gd name="adj" fmla="val 25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6360" y="1628640"/>
            <a:ext cx="1224000" cy="208764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96000" y="1484280"/>
            <a:ext cx="863640" cy="432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156000" y="1773360"/>
            <a:ext cx="576360" cy="1942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04000" y="1773360"/>
            <a:ext cx="216000" cy="7189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7164360" y="2924280"/>
            <a:ext cx="216000" cy="7920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16360" y="3645000"/>
            <a:ext cx="215640" cy="215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92360" y="3645000"/>
            <a:ext cx="215640" cy="215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1628640"/>
            <a:ext cx="216000" cy="21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1628640"/>
            <a:ext cx="215640" cy="21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48000" y="4149720"/>
            <a:ext cx="938160" cy="469800"/>
          </a:xfrm>
          <a:custGeom>
            <a:avLst/>
            <a:gdLst>
              <a:gd name="textAreaLeft" fmla="*/ 151560 w 938160"/>
              <a:gd name="textAreaRight" fmla="*/ 786600 w 938160"/>
              <a:gd name="textAreaTop" fmla="*/ 75960 h 469800"/>
              <a:gd name="textAreaBottom" fmla="*/ 39384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60" y="21600"/>
                </a:lnTo>
                <a:lnTo>
                  <a:pt x="314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960200">
            <a:off x="4140000" y="4365360"/>
            <a:ext cx="938160" cy="469800"/>
          </a:xfrm>
          <a:custGeom>
            <a:avLst/>
            <a:gdLst>
              <a:gd name="textAreaLeft" fmla="*/ 151560 w 938160"/>
              <a:gd name="textAreaRight" fmla="*/ 786600 w 938160"/>
              <a:gd name="textAreaTop" fmla="*/ 75960 h 469800"/>
              <a:gd name="textAreaBottom" fmla="*/ 39384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60" y="21600"/>
                </a:lnTo>
                <a:lnTo>
                  <a:pt x="314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rot="19639800">
            <a:off x="2556000" y="4365360"/>
            <a:ext cx="938160" cy="469800"/>
          </a:xfrm>
          <a:custGeom>
            <a:avLst/>
            <a:gdLst>
              <a:gd name="textAreaLeft" fmla="*/ 151560 w 938160"/>
              <a:gd name="textAreaRight" fmla="*/ 786600 w 938160"/>
              <a:gd name="textAreaTop" fmla="*/ 75960 h 469800"/>
              <a:gd name="textAreaBottom" fmla="*/ 39384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60" y="21600"/>
                </a:lnTo>
                <a:lnTo>
                  <a:pt x="314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4165800">
            <a:off x="4662000" y="4998960"/>
            <a:ext cx="938160" cy="468360"/>
          </a:xfrm>
          <a:custGeom>
            <a:avLst/>
            <a:gdLst>
              <a:gd name="textAreaLeft" fmla="*/ 151560 w 938160"/>
              <a:gd name="textAreaRight" fmla="*/ 786600 w 938160"/>
              <a:gd name="textAreaTop" fmla="*/ 75600 h 468360"/>
              <a:gd name="textAreaBottom" fmla="*/ 39276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60" y="21600"/>
                </a:lnTo>
                <a:lnTo>
                  <a:pt x="314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rot="17434200">
            <a:off x="2070000" y="5007240"/>
            <a:ext cx="938160" cy="468360"/>
          </a:xfrm>
          <a:custGeom>
            <a:avLst/>
            <a:gdLst>
              <a:gd name="textAreaLeft" fmla="*/ 151560 w 938160"/>
              <a:gd name="textAreaRight" fmla="*/ 786600 w 938160"/>
              <a:gd name="textAreaTop" fmla="*/ 75600 h 468360"/>
              <a:gd name="textAreaBottom" fmla="*/ 39276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460" y="21600"/>
                </a:lnTo>
                <a:lnTo>
                  <a:pt x="314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17440" y="5614920"/>
            <a:ext cx="4965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8 Marcador de contenido"/>
          <p:cNvSpPr/>
          <p:nvPr/>
        </p:nvSpPr>
        <p:spPr>
          <a:xfrm>
            <a:off x="6443640" y="4365720"/>
            <a:ext cx="2700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ibr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3526920" y="4545000"/>
            <a:ext cx="576360" cy="360360"/>
          </a:xfrm>
          <a:prstGeom prst="rightArrow">
            <a:avLst>
              <a:gd name="adj1" fmla="val 41852"/>
              <a:gd name="adj2" fmla="val 6476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760800">
            <a:off x="4210920" y="4365360"/>
            <a:ext cx="576360" cy="360360"/>
          </a:xfrm>
          <a:prstGeom prst="rightArrow">
            <a:avLst>
              <a:gd name="adj1" fmla="val 41852"/>
              <a:gd name="adj2" fmla="val 6476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rot="8839200">
            <a:off x="2841840" y="4365000"/>
            <a:ext cx="576360" cy="360720"/>
          </a:xfrm>
          <a:prstGeom prst="rightArrow">
            <a:avLst>
              <a:gd name="adj1" fmla="val 41852"/>
              <a:gd name="adj2" fmla="val 6470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Presentacion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79280" y="14241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acer 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spectos formales: texto, imágenes, fond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esentador (preparar a la audiencia y mantener la atención, vocabulario técnico y f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sayar presentaciones: tiempo, coordinación entre presentadores, probar diapositiv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3:11:50Z</dcterms:created>
  <dc:creator>Jvargas</dc:creator>
  <dc:description/>
  <dc:language>en-US</dc:language>
  <cp:lastModifiedBy>Uchile</cp:lastModifiedBy>
  <dcterms:modified xsi:type="dcterms:W3CDTF">2008-05-09T18:12:56Z</dcterms:modified>
  <cp:revision>2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75446294</vt:r8>
  </property>
  <property fmtid="{D5CDD505-2E9C-101B-9397-08002B2CF9AE}" pid="3" name="_AuthorEmail">
    <vt:lpwstr>hagusto@ing.uchile.cl</vt:lpwstr>
  </property>
  <property fmtid="{D5CDD505-2E9C-101B-9397-08002B2CF9AE}" pid="4" name="_AuthorEmailDisplayName">
    <vt:lpwstr>Héctor Agusto</vt:lpwstr>
  </property>
  <property fmtid="{D5CDD505-2E9C-101B-9397-08002B2CF9AE}" pid="5" name="_EmailSubject">
    <vt:lpwstr>EI110 - Clases pendientes</vt:lpwstr>
  </property>
</Properties>
</file>