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5E4-FE01-4DBB-A9E3-A355D5E7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412F-C5B9-4CFC-A909-2387507B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0F7-BF82-49BD-A87E-DC4E826A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948-F539-4C6A-965E-AF629F24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9300-F358-48CA-8FF9-3AFBFB1C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123-857C-4BB6-861B-65EE1121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6B7-8990-4BD7-8649-CC952296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FFC-12F6-40EB-8BBB-56409285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B65-71DE-4F53-9667-6C2D09EF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424-FD24-465E-9490-69135EC5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CC5-01E4-4208-B9D9-070BCEAC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206-7189-4576-B91A-C397CD8B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0D6C-C9CF-486C-B69F-9227B9C4BA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álisis Proyecto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332000" y="1127160"/>
          <a:ext cx="7489800" cy="503568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457200" y="1557360"/>
            <a:ext cx="7354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ue lo más relev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les gust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197000"/>
          <a:ext cx="8569440" cy="464508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Aclarar los reque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57000"/>
            <a:ext cx="7354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Fueron claros los requerimi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altó por preguntar o aclar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balde vibraba: ¿De quién es la responsabil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oto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prender a sol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ender uso d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quirir elementos para diseño (resistencia de materiales, dificultades práctic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mitió planificación: ¿Se puede diseñar sin experie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Diseño y Constr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rices de Interacción y 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os en el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justarse a los plaz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o de elementos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ingenieria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                      EL69F- Trabajo de Tít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Estruc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1628640"/>
            <a:ext cx="1224000" cy="216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62864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1700280"/>
            <a:ext cx="1657080" cy="2089080"/>
          </a:xfrm>
          <a:prstGeom prst="parallelogram">
            <a:avLst>
              <a:gd name="adj" fmla="val 25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1628640"/>
            <a:ext cx="1224000" cy="2087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148428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6000" y="1773360"/>
            <a:ext cx="576360" cy="1942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1773360"/>
            <a:ext cx="216000" cy="71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7164360" y="2924280"/>
            <a:ext cx="21600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628640"/>
            <a:ext cx="21600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628640"/>
            <a:ext cx="21564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414972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60200">
            <a:off x="4140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rot="19639800">
            <a:off x="2556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4165800">
            <a:off x="4662000" y="499896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17434200">
            <a:off x="2070000" y="500724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7440" y="5614920"/>
            <a:ext cx="496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8 Marcador de contenido"/>
          <p:cNvSpPr/>
          <p:nvPr/>
        </p:nvSpPr>
        <p:spPr>
          <a:xfrm>
            <a:off x="6443640" y="4365720"/>
            <a:ext cx="270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b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3526920" y="454500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760800">
            <a:off x="4210920" y="436536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8839200">
            <a:off x="2841840" y="4365000"/>
            <a:ext cx="576360" cy="360720"/>
          </a:xfrm>
          <a:prstGeom prst="rightArrow">
            <a:avLst>
              <a:gd name="adj1" fmla="val 41852"/>
              <a:gd name="adj2" fmla="val 647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esentacion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1424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cer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pectos formales: texto, imágenes, fon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tador (preparar a la audiencia y mantener la atención, vocabulario técnico y f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sayar presentaciones: tiempo, coordinación entre presentadores, probar diaposi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8-05-09T18:12:56Z</dcterms:modified>
  <cp:revision>2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7544629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