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B401-65ED-431B-84AA-C592D532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E261-01F9-4D5A-A938-130DE65B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48C5-A84A-40BA-A6DC-D2CD87B3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7C8B-DE14-4C9E-9457-876E7295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E3E8-91B3-4A62-886C-A5C60686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3E64-4066-4757-AA42-D2B6E082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C31-BD89-48AF-A2F3-112DBC70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E4B2-9CFC-44EA-98F3-0BEF38BF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4A7-EED0-456C-9891-487CCC3E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D87F-CB13-4BB6-A04D-66700C18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26D-52DA-41BD-B6EF-8AFFB1B9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FD4-96EF-40E0-A749-FBBC88AC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0FEC-DF75-413D-B3AC-34745D2041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99736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l Proceso de Diseñ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52360" y="404640"/>
            <a:ext cx="8424720" cy="10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urva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187280" y="1989000"/>
            <a:ext cx="684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ctividades se representan en HH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muestra HH programas acumuladas y HH reales (avance) acumuladas, usualmente en % respecto de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4.- Obtener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ás información = me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porta ideas nue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Ojo con Normas legales, Pa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5.- Generar Conceptos altern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i="1" lang="es-ES" sz="3200" spc="-1" strike="noStrike">
                <a:solidFill>
                  <a:srgbClr val="0033cc"/>
                </a:solidFill>
                <a:latin typeface="Times New Roman"/>
              </a:rPr>
              <a:t>BrainStorm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ificaciones, Analogías (inspi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stituir, combinar, modificar, adaptar, nuevos usos, eliminar, reorde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635280" y="1125360"/>
            <a:ext cx="5257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Tomar nota de todas la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Criticas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Se buscan mejoras y combinaciones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Más ideas me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Estimulas ideas nuevas y “loc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6.- Evaluar Altern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atisfacer 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parámetros de evaluación: constructivos, funcionales, de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7.- Seleccionar Mejor Altern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stado d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signar valores a los distintos criterios (matriz de Inter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nalizar y comparar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50920" y="1639800"/>
            <a:ext cx="849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omparar alternativas con varios crite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definen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ponen nota (importancia) relativa entr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totaliza y normaliza, dando un ponderador por crite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1630440"/>
            <a:ext cx="9144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8.- Comunic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escrita (manuales, repor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oral (present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9.- Implement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elos (Físicos, Conceptuales, CAD , Diagramas de cuerpo libre, Matemático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oj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bricación  de Maqueta y/o Prot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eocuparse de Aspectos es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50920" y="1628640"/>
            <a:ext cx="3673440" cy="1079640"/>
          </a:xfrm>
          <a:prstGeom prst="cloudCallout">
            <a:avLst>
              <a:gd name="adj1" fmla="val 45333"/>
              <a:gd name="adj2" fmla="val 80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imp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572000" y="4292640"/>
            <a:ext cx="4105440" cy="1369800"/>
          </a:xfrm>
          <a:prstGeom prst="cloudCallout">
            <a:avLst>
              <a:gd name="adj1" fmla="val -33254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alir del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859280" y="1413000"/>
            <a:ext cx="3673440" cy="1368360"/>
          </a:xfrm>
          <a:prstGeom prst="cloudCallout">
            <a:avLst>
              <a:gd name="adj1" fmla="val -57000"/>
              <a:gd name="adj2" fmla="val 69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Mente Abi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24000" y="4365720"/>
            <a:ext cx="3673440" cy="1368360"/>
          </a:xfrm>
          <a:prstGeom prst="cloudCallout">
            <a:avLst>
              <a:gd name="adj1" fmla="val 34356"/>
              <a:gd name="adj2" fmla="val -84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Experimento-Pru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619280" y="2781360"/>
            <a:ext cx="5832360" cy="136836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0" y="642960"/>
            <a:ext cx="8929800" cy="2698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143160" y="3429000"/>
            <a:ext cx="4168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Forth y Clyde fue construido en 177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Union entre Falkirk y Edinburgh fue finalizado en 182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sta 1963 estuvieron unidos por 11 exclu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2002 entró en servicio un transportador rotacional de b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falkirk"/>
          <p:cNvPicPr/>
          <p:nvPr/>
        </p:nvPicPr>
        <p:blipFill>
          <a:blip r:embed="rId2"/>
          <a:stretch/>
        </p:blipFill>
        <p:spPr>
          <a:xfrm>
            <a:off x="4643280" y="642960"/>
            <a:ext cx="4260960" cy="558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Graphic1"/>
          <p:cNvPicPr/>
          <p:nvPr/>
        </p:nvPicPr>
        <p:blipFill>
          <a:blip r:embed="rId3"/>
          <a:stretch/>
        </p:blipFill>
        <p:spPr>
          <a:xfrm>
            <a:off x="4643280" y="2500200"/>
            <a:ext cx="421488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entrar un bote en el compartimiento, el sistema gira permitiendo que el bote baje al nivel del canal inf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Imgp16022"/>
          <p:cNvPicPr/>
          <p:nvPr/>
        </p:nvPicPr>
        <p:blipFill>
          <a:blip r:embed="rId2"/>
          <a:stretch/>
        </p:blipFill>
        <p:spPr>
          <a:xfrm>
            <a:off x="1571760" y="3541680"/>
            <a:ext cx="2698560" cy="3030480"/>
          </a:xfrm>
          <a:prstGeom prst="rect">
            <a:avLst/>
          </a:prstGeom>
          <a:ln w="0">
            <a:noFill/>
          </a:ln>
        </p:spPr>
      </p:pic>
      <p:sp>
        <p:nvSpPr>
          <p:cNvPr id="98" name="Line 9"/>
          <p:cNvSpPr/>
          <p:nvPr/>
        </p:nvSpPr>
        <p:spPr>
          <a:xfrm>
            <a:off x="3597120" y="3643200"/>
            <a:ext cx="46080" cy="26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500280" y="4714920"/>
            <a:ext cx="785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66"/>
                </a:solidFill>
                <a:latin typeface="Comic Sans MS"/>
              </a:rPr>
              <a:t>3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falkirkwheel1"/>
          <p:cNvPicPr/>
          <p:nvPr/>
        </p:nvPicPr>
        <p:blipFill>
          <a:blip r:embed="rId3"/>
          <a:stretch/>
        </p:blipFill>
        <p:spPr>
          <a:xfrm>
            <a:off x="4357800" y="714240"/>
            <a:ext cx="4616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roceso completo toma sólo 15 min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“tubo” pesa cerca de 300 toneladas, considerando estructura, agua y b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Imgp16024"/>
          <p:cNvPicPr/>
          <p:nvPr/>
        </p:nvPicPr>
        <p:blipFill>
          <a:blip r:embed="rId2"/>
          <a:srcRect l="3667" t="0" r="4022" b="1932"/>
          <a:stretch/>
        </p:blipFill>
        <p:spPr>
          <a:xfrm>
            <a:off x="3186000" y="1571760"/>
            <a:ext cx="5886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sistema está balanc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 una máquina de 22 K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ume sólo 1,5 KW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gp16038"/>
          <p:cNvPicPr/>
          <p:nvPr/>
        </p:nvPicPr>
        <p:blipFill>
          <a:blip r:embed="rId2"/>
          <a:srcRect l="0" t="0" r="6961" b="0"/>
          <a:stretch/>
        </p:blipFill>
        <p:spPr>
          <a:xfrm>
            <a:off x="3257640" y="1285920"/>
            <a:ext cx="5815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5280" y="1557360"/>
            <a:ext cx="8532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1.- Reconocer Necesidad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2.- Definir el Problema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3.- Planificar y Administra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4.- Obtener Información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5.- Generar Conceptos Alternativo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6.- Evaluar Alternativas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7.- Seleccionar Concepto más Prometedo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8.- Comunicar Diseño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9.- Implementar Diseñ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1.- Reconocer Nece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“Consumidores”-”Clientes” (no solo usu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Identificar que necesi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2.- Definir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67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claración d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867280" y="155736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Gener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No a ideas preconce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96000" y="407664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er Prec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Validar con “clientes” (en lo po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3.- Planificar y Administ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Uso de cartas Gantt, Curvas de A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59280" y="2924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No perder el control de plazos ni recursos inve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132000" y="3789360"/>
            <a:ext cx="34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Depend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ut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24000" y="907920"/>
            <a:ext cx="88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Identifica actividades al nivel de agregación  desead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mensiona actividades en términos de unidades de tiemp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Señala los recursos necesari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Controla el avance del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60360" y="3213000"/>
            <a:ext cx="8820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Manejo de un número limitado de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No permite trabajar fácilmente las interrelaciones de secuencia entre diferentes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 trayectoria crítica no se muestra claramente, ni presenta ventajas para su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gantt"/>
          <p:cNvPicPr/>
          <p:nvPr/>
        </p:nvPicPr>
        <p:blipFill>
          <a:blip r:embed="rId2"/>
          <a:stretch/>
        </p:blipFill>
        <p:spPr>
          <a:xfrm>
            <a:off x="642960" y="428760"/>
            <a:ext cx="82501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25T16:59:02Z</dcterms:modified>
  <cp:revision>53</cp:revision>
  <dc:subject/>
  <dc:title>EL63A-Taller de Proyecto en Control II</dc:title>
</cp:coreProperties>
</file>