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57D-80C8-4A17-A90A-09CE3F11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C11-AA77-4D44-97BE-40BD057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611-8CCB-4DEA-8A55-1EC39D68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8E5-9640-401B-8A34-74EE2963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D7E-6B97-44AB-88AB-EA4C44D0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205-0928-43D9-B164-502E528F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F20-AFD3-408C-97F3-23713B2C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587-32B3-46D0-9729-C221937A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4E9-CCBF-48BF-9461-C7BE0BDC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85D-1BE1-4CE8-B5AF-DE510C7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8CC-9845-41CC-AFEB-5553B4C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FDA-2ED5-404D-B7B3-BCCAE3FA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25BB-FB26-4E20-9F91-F1B3552679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1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3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17T02:56:19Z</dcterms:modified>
  <cp:revision>37</cp:revision>
  <dc:subject/>
  <dc:title>EL63A-Taller de Proyecto en Control II</dc:title>
</cp:coreProperties>
</file>