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9309100" cy="7023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4DEA-3C8A-473B-AD9B-CE57976BA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522B-BB69-4D45-9EF7-1FC22A07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EE81-ADC6-442D-BAD8-3B2C1BB61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41E0-C772-4B23-AB41-DB4F8E233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F34F-C68B-4182-A211-0196D25F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C20F-F71E-4723-96B2-00ED855D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5C25-0F47-4EB6-9901-6612980B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7A67-2997-43BC-9484-953A5126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0F0A-389D-4137-941E-065EBC12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D92D-AA0F-476A-8515-A6593EF5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3DEA-0CE3-443C-A140-6353766B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91D5-93F0-4742-9040-2806EE90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123F-52C0-4F58-B5BB-387145CEB71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511280"/>
          <a:ext cx="8713800" cy="3670200"/>
        </p:xfrm>
        <a:graphic>
          <a:graphicData uri="http://schemas.openxmlformats.org/drawingml/2006/table">
            <a:tbl>
              <a:tblPr/>
              <a:tblGrid>
                <a:gridCol w="1001520"/>
                <a:gridCol w="771228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átedr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ruir y analizar proto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eño I: Generar alternativ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eño II: Evaluar alternativ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rucción 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rucción II y Prueb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ació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332000" y="1127160"/>
          <a:ext cx="7489800" cy="5038560"/>
        </p:xfrm>
        <a:graphic>
          <a:graphicData uri="http://schemas.openxmlformats.org/drawingml/2006/table">
            <a:tbl>
              <a:tblPr/>
              <a:tblGrid>
                <a:gridCol w="7489800"/>
              </a:tblGrid>
              <a:tr h="66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 Nota Individual: puntualidad, participación, cumplimiento de rol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Prototipo: cumplimiento de especificaciones, evaluar prototipo, estimación de tiempo de construcció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Dise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Construcció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Presen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Infor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50920" y="1341360"/>
          <a:ext cx="8642160" cy="431964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68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CIONES DEL PROTO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6373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Prototipo debe ser capaz de soportar una balde con 500gr a una altura de 30 cm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6373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estructura se construirá con alambre de Cu y soldadura de estañ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508720" y="3859200"/>
            <a:ext cx="3311280" cy="1656720"/>
            <a:chOff x="5508720" y="3859200"/>
            <a:chExt cx="3311280" cy="1656720"/>
          </a:xfrm>
        </p:grpSpPr>
        <p:sp>
          <p:nvSpPr>
            <p:cNvPr id="71" name=""/>
            <p:cNvSpPr/>
            <p:nvPr/>
          </p:nvSpPr>
          <p:spPr>
            <a:xfrm>
              <a:off x="7236000" y="4292640"/>
              <a:ext cx="15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0,5 Kg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5508720" y="3859200"/>
              <a:ext cx="2016000" cy="1656720"/>
              <a:chOff x="5508720" y="3859200"/>
              <a:chExt cx="2016000" cy="1656720"/>
            </a:xfrm>
          </p:grpSpPr>
          <p:sp>
            <p:nvSpPr>
              <p:cNvPr id="73" name=""/>
              <p:cNvSpPr/>
              <p:nvPr/>
            </p:nvSpPr>
            <p:spPr>
              <a:xfrm>
                <a:off x="6516720" y="3859200"/>
                <a:ext cx="577800" cy="574560"/>
              </a:xfrm>
              <a:custGeom>
                <a:avLst/>
                <a:gdLst>
                  <a:gd name="textAreaLeft" fmla="*/ 116280 w 577800"/>
                  <a:gd name="textAreaRight" fmla="*/ 461520 w 577800"/>
                  <a:gd name="textAreaTop" fmla="*/ 115560 h 574560"/>
                  <a:gd name="textAreaBottom" fmla="*/ 459000 h 57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925" y="21600"/>
                    </a:lnTo>
                    <a:lnTo>
                      <a:pt x="4675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" name=""/>
              <p:cNvGrpSpPr/>
              <p:nvPr/>
            </p:nvGrpSpPr>
            <p:grpSpPr>
              <a:xfrm>
                <a:off x="6516720" y="4435200"/>
                <a:ext cx="577440" cy="936360"/>
                <a:chOff x="6516720" y="4435200"/>
                <a:chExt cx="577440" cy="93636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6516720" y="4545360"/>
                  <a:ext cx="246960" cy="826200"/>
                </a:xfrm>
                <a:custGeom>
                  <a:avLst/>
                  <a:gdLst>
                    <a:gd name="textAreaLeft" fmla="*/ 84600 w 246960"/>
                    <a:gd name="textAreaRight" fmla="*/ 162360 w 246960"/>
                    <a:gd name="textAreaTop" fmla="*/ 283320 h 826200"/>
                    <a:gd name="textAreaBottom" fmla="*/ 542880 h 826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1419" y="21600"/>
                      </a:lnTo>
                      <a:lnTo>
                        <a:pt x="10181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6847200" y="4545360"/>
                  <a:ext cx="246960" cy="826200"/>
                </a:xfrm>
                <a:custGeom>
                  <a:avLst/>
                  <a:gdLst>
                    <a:gd name="textAreaLeft" fmla="*/ 84600 w 246960"/>
                    <a:gd name="textAreaRight" fmla="*/ 162360 w 246960"/>
                    <a:gd name="textAreaTop" fmla="*/ 283320 h 826200"/>
                    <a:gd name="textAreaBottom" fmla="*/ 542880 h 826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1419" y="21600"/>
                      </a:lnTo>
                      <a:lnTo>
                        <a:pt x="10181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6516720" y="4435200"/>
                  <a:ext cx="577440" cy="110160"/>
                </a:xfrm>
                <a:prstGeom prst="rect">
                  <a:avLst/>
                </a:prstGeom>
                <a:noFill/>
                <a:ln w="93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6805800" y="4290840"/>
                <a:ext cx="0" cy="50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300720" y="4435200"/>
                <a:ext cx="0" cy="9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508720" y="4724280"/>
                <a:ext cx="1584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30 c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300720" y="5371920"/>
                <a:ext cx="12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6300720" y="537156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6516720" y="537156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6732720" y="537156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6948720" y="5371560"/>
                <a:ext cx="72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7164360" y="537156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7380360" y="537156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250920" y="1341360"/>
          <a:ext cx="8642160" cy="427032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65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LISIS DEL PROTO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1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Resiste la solicitación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Cuál fue el margen de seguridad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Fueron claros los requerimientos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Se puede optimizar el diseño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Cuál es el peso de la estructura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mpo promedio por soldadu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Cómo influye la organización del equipo en el trabajo?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ut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826920" y="1052640"/>
          <a:ext cx="7344000" cy="400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1052640"/>
                    <a:ext cx="73440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1979640" y="5084640"/>
            <a:ext cx="68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vitar sobrecalentamiento: usar disipador de calor y desenchuf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76360" y="1916280"/>
            <a:ext cx="2879640" cy="86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dadura con caut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1077840"/>
            <a:ext cx="8496000" cy="46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usar alambre desnudo completo o desnudo hasta un par de centímetros de la soldadura porque el forro se quema al sold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calentar con el cautín por un costado de la un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esperar que alcance temperatura de fus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aplicar soldadura por el lado contrario al del cautí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soldadura debe penetrar en el espacio interior y producir aleación Cu-P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alambre debe estar totalmente limp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dadura con caut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1052640"/>
            <a:ext cx="849636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evitar absolutamente la grasa de las manos en el punto de soldad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si el alambre se ensucia, se debe lijar antes de soldar (grasa, aire de varios días, et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cautín debe reposar en disipador cuando no se está solda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desenchufar cautín si va a pasar un rato largo sin us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para determinar si cautín alcanzó la temperatura, tocar la punta del cautín con la soldad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dadura con caut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1092240"/>
            <a:ext cx="849600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al cortar le alambre, usar antiparr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si se corta un trozo pequeño de alambre, dirigirlo hacia el suelo o la mesa porque va a salt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al soldar usar gua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para afirmar la estructura al soldar, usar alicate o prensa porque alambre se calien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al afirmar con alicate o prensa, hacerlo alejado varios centímetros del punto de soldadura porque el alicate o prensa disipará el calor y enfriará el punto de contac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dadura con caut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588000" y="1700280"/>
          <a:ext cx="2089440" cy="174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88000" y="1700280"/>
                    <a:ext cx="2089440" cy="17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2484360" y="3645000"/>
          <a:ext cx="3311640" cy="2638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84360" y="3645000"/>
                    <a:ext cx="331164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250920" y="1773360"/>
            <a:ext cx="62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tener unidos hasta que la soldadura solidif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08000" y="765000"/>
            <a:ext cx="9001080" cy="52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ormación de Grup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nálisis de cas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seño y Construcción de una Estructur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84464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les en los Grup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50920" y="2638440"/>
            <a:ext cx="6801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ordin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3357720"/>
            <a:ext cx="68011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ret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0920" y="4078440"/>
            <a:ext cx="68011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ncargado de Mater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50920" y="4797360"/>
            <a:ext cx="6801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al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50920" y="5518080"/>
            <a:ext cx="6801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rol de Proy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95280" y="1495440"/>
          <a:ext cx="8569440" cy="150192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 GEN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4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ar la carrera de ingeniería a los procesos diseñar y implementar proyecto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95280" y="1197000"/>
          <a:ext cx="8569440" cy="464652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S ESPECÍF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0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der los fundamentos del proceso de diseño y sus formas de aplicación en diferentes áreas de la ingenierí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zar la estrategia de trabajo colaborativo en la resolución de los problemas que se le presenten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r técnicas de redacción de informes y efectuar presentaciones orales de acuerdo a estándares de calidad establecido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nocer  los aspectos éticos de un proyecto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979640" y="2060640"/>
          <a:ext cx="5904000" cy="2808360"/>
        </p:xfrm>
        <a:graphic>
          <a:graphicData uri="http://schemas.openxmlformats.org/drawingml/2006/table">
            <a:tbl>
              <a:tblPr/>
              <a:tblGrid>
                <a:gridCol w="5904000"/>
              </a:tblGrid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028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Proto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Construcción y prueb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3-17T02:56:19Z</dcterms:modified>
  <cp:revision>37</cp:revision>
  <dc:subject/>
  <dc:title>EL63A-Taller de Proyecto en Control II</dc:title>
</cp:coreProperties>
</file>