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84E-080E-4829-B3EA-8F310A1B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DB25-2AEB-4CD0-AF05-295357C8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960-FDD7-40BF-8271-1C21BCB8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ED3C-BCAD-4442-BDF7-DC4309E4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E371-F49D-47D3-9A67-4658A725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703-3221-4B2B-960B-6723FC57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262-B7A6-4F07-820D-504936B5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4F6-83FB-4664-A9A4-E75F6E02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DC0-1D5C-4A81-98EE-30A8745C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185C-269C-447F-BB90-CBF9B0E9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E2A-536D-4AD2-BBE1-9CD74940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6BD-044F-46EB-8E1F-9858510B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1A5D-E942-458B-A0A1-ABF21BEE0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637000"/>
          <a:ext cx="8135280" cy="2617560"/>
        </p:xfrm>
        <a:graphic>
          <a:graphicData uri="http://schemas.openxmlformats.org/drawingml/2006/table">
            <a:tbl>
              <a:tblPr/>
              <a:tblGrid>
                <a:gridCol w="813528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Raúl Sáez"/>
          <p:cNvPicPr/>
          <p:nvPr/>
        </p:nvPicPr>
        <p:blipFill>
          <a:blip r:embed="rId2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00000" y="1773360"/>
          <a:ext cx="7416720" cy="31701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052640"/>
          <a:ext cx="8424360" cy="452376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39640" y="333360"/>
          <a:ext cx="8569080" cy="5703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907920"/>
          <a:ext cx="83534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5084640"/>
            <a:ext cx="8064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28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832200"/>
            <a:ext cx="52563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29000" y="4336920"/>
            <a:ext cx="427500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270828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j. 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 en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76440" y="18842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06T14:29:19Z</dcterms:modified>
  <cp:revision>27</cp:revision>
  <dc:subject/>
  <dc:title>EL63A-Taller de Proyecto en Control II</dc:title>
</cp:coreProperties>
</file>