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0CEB-6AE5-4BDF-BA4E-AF1EF5EB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BC38-A87E-4793-85F7-9DFCF089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0CF-0598-47ED-9E8B-608E97A3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8870-F7E6-48B0-8F07-53A3AE1E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C9A-03F6-4681-9090-5E314358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437-DC89-4ABF-95BF-0130602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FE0A-036E-494D-A318-91A2E460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90E-8B99-41AB-93B3-955012C7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611-DB13-4695-9857-C7E3866B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348A-438C-48FC-B8A7-4305296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F92-40D5-4D7B-AA26-D3B97C3A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82E-4FBB-497F-88A1-25FA2E91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09F3-8A86-4529-A364-74C29008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285840" y="1357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aluación 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5% Planos y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% Funcionalidad del B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mple con las dimensiones del diseño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stema de agarre de argolla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peratividad del Brazo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ética 1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5%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 trabajo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5840" y="1357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ódulo cátedra: Grupos 10 a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ódulo taller: Grupos 1 a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asistir al módulo en que su grupo presenta (asistir al otro módulo es volunt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nutos máximo por presentación, incluid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auta de Evaluación Presentación</a:t>
            </a:r>
            <a:br>
              <a:rPr sz="40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7 min, subir a Ucursos, Presentan los 2 integrantes que no han presen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14400" y="152388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48" name="Text Box 24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5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197000"/>
          <a:ext cx="8064360" cy="521640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7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27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23T15:02:19Z</dcterms:modified>
  <cp:revision>40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52113621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valuación del Proyecto 2, actividades finales</vt:lpwstr>
  </property>
</Properties>
</file>