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39F-D195-4ECC-9236-59AD7422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18A-197F-4C28-8CE2-893E8C68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02A-E41C-4921-8DF2-2E392E1E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48D-47D8-41D1-8FF8-60A77C0C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0329-3DC6-460A-831B-C2747695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1A9-24E4-4102-9D7D-5E610327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43D-44D0-4482-829E-00844656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310-4023-4211-A47D-C61766BC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D8F-9404-4D7C-8376-8F872C6D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25A-AD45-44D9-987A-62C530E1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586-0628-45E3-A92B-07F3D6E3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84F6-6252-4B6D-BCC1-619C09AC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BE5E-465C-416F-A5FB-4B23C5763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285840" y="1357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aluación 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5% Planos y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% Funcionalidad del Br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mple con las dimensiones del diseño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stema de agarre de argolla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peratividad del Brazo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ética 1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5%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 trabajo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85840" y="1357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ódulo cátedra: Grupos 10 a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ódulo taller: Grupos 1 a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asistir al módulo en que su grupo presenta (asistir al otro módulo es volunt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 minutos máximo por presentación, incluid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auta de Evaluación Presentación</a:t>
            </a:r>
            <a:br>
              <a:rPr sz="40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(7 min, subir a Ucursos, Presentan los 2 integrantes que no han present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14400" y="152388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48" name="Text Box 24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5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1197000"/>
          <a:ext cx="8064360" cy="521640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7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27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23T15:02:19Z</dcterms:modified>
  <cp:revision>40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52113621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valuación del Proyecto 2, actividades finales</vt:lpwstr>
  </property>
</Properties>
</file>