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10B8-CC2C-49AB-AE07-6867E12BB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881E-CE62-4285-8777-D4F15F617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D5AD-5D54-4795-8BF5-86D357F05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6E9-CF92-477D-A675-AA5305E8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8EEA-D169-4189-9A2A-00E0996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36E-4C5E-4331-82BD-74CA34003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B4D-CF66-4F06-9BCA-CA4579015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181B-4DCF-4514-B7E1-9A4F19B2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4654-6943-44B9-94D2-8257088C0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804A-2601-43F6-BFEF-AF27E4F6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2F24-99E9-4D00-8720-0CD11BAE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C4CE-E1A6-437F-BEAA-83504A55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8106-056C-46A2-8FBA-321ECCE7B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11"/>
          <p:cNvSpPr/>
          <p:nvPr/>
        </p:nvSpPr>
        <p:spPr>
          <a:xfrm>
            <a:off x="285840" y="1357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aluación proyecto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5% Planos y diseñ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% Funcionalidad del Br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umple con las dimensiones del diseño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istema de agarre de argollas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peratividad del Brazo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ética 10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5% Pres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 trabajo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oyecto de Ingenierí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1"/>
          <p:cNvSpPr/>
          <p:nvPr/>
        </p:nvSpPr>
        <p:spPr>
          <a:xfrm>
            <a:off x="285840" y="1357200"/>
            <a:ext cx="8358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sent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ódulo cátedra: Grupos 10 a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ódulo taller: Grupos 1 a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debe asistir al módulo en que su grupo presenta (asistir al otro módulo es volunta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 minutos máximo por presentación, incluidas pregu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Pauta de Evaluación Presentación</a:t>
            </a:r>
            <a:br>
              <a:rPr sz="4000"/>
            </a:b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(7 min, subir a Ucursos, Presentan los 2 integrantes que no han presentad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914400" y="1523880"/>
          <a:ext cx="7777080" cy="457344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1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9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48" name="Text Box 24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5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611280" y="1197000"/>
          <a:ext cx="8064360" cy="521640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76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2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53" name="Text Box 27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LI2</cp:lastModifiedBy>
  <dcterms:modified xsi:type="dcterms:W3CDTF">2008-06-23T15:02:19Z</dcterms:modified>
  <cp:revision>40</cp:revision>
  <dc:subject/>
  <dc:title>EL63A-Taller de Proyecto en Control I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52113621</vt:r8>
  </property>
  <property fmtid="{D5CDD505-2E9C-101B-9397-08002B2CF9AE}" pid="3" name="_AuthorEmail">
    <vt:lpwstr>hagusto@ing.uchile.cl</vt:lpwstr>
  </property>
  <property fmtid="{D5CDD505-2E9C-101B-9397-08002B2CF9AE}" pid="4" name="_AuthorEmailDisplayName">
    <vt:lpwstr>Héctor Agusto</vt:lpwstr>
  </property>
  <property fmtid="{D5CDD505-2E9C-101B-9397-08002B2CF9AE}" pid="5" name="_EmailSubject">
    <vt:lpwstr>Evaluación del Proyecto 2, actividades finales</vt:lpwstr>
  </property>
</Properties>
</file>