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530-0A5A-4FE1-9578-206C7CAA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CDA-0BE0-461F-BE06-557ABD4B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9A8-027F-4ADC-A3D9-129F07BD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BDB-6C57-4F11-8F2D-5BB88B29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2EE4-1462-4E5A-A69E-6A6D9C22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F278-483B-4EC4-B5E5-0E58502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AE8A-574B-483C-A841-D18B554C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CDC8-1ED4-4B2B-B408-B483CCFC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09F9-6D90-4C49-99BA-E0E45877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D65B-1C26-43A4-94EE-3872A7A8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D265-548E-4AC9-A6FD-27B17F43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AC9-4612-4CB8-B142-80270D0B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4252-1279-4A81-B4EE-ADF4E93E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9F8D-C364-4242-AC64-17F8630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E8C9-3643-4ACA-B05A-83666890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088C-FBBC-4517-8E2E-490B19F6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E73B-D160-4403-A733-5766C6C0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981-6C2C-4388-A1C7-125686AA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BB8-F2B5-4356-BCFD-334BC56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95D-12CE-461A-B635-48E6B53C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333-BCAC-472D-927B-B78D9B96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802-DF56-459C-B615-9003880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750-1237-477E-8913-41C7C41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2E2-B579-40D1-8A07-F77D2575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6FEC-B873-4BA2-9BC9-7141086E199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1B11-7610-48EA-8114-15CAD7DFFB0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1268280"/>
            <a:ext cx="8174160" cy="48942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en una sierra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previ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838080"/>
            <a:ext cx="8153640" cy="5069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de lesión o enfermedad grave que puede resultar en incapacidad temporal o daño a la propiedad , pero menos serio que en la clase “A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En el pasillo principal se observa una condición resbalo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roto al final de la escalera de la ofici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6360" y="907920"/>
            <a:ext cx="6983280" cy="378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potencial  de lesiones o enfermedades leves (no incapacitantes), o daño a la propi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Un carpintero sin guantes, manipula madera rús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d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ERDIDAS QUE PUED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87680" y="1483200"/>
            <a:ext cx="676440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9960" y="608760"/>
            <a:ext cx="4245120" cy="70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CONTROL DE PE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Arial"/>
              </a:rPr>
              <a:t>UN NUEVO ENFOQUE DE LA SEGUR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828800"/>
            <a:ext cx="533160" cy="533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9840" y="1904400"/>
            <a:ext cx="606492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COMPROMETIDO CON LOS OBJETIVOS GE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438280"/>
            <a:ext cx="533160" cy="533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124080"/>
            <a:ext cx="533160" cy="5335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733920"/>
            <a:ext cx="533160" cy="5331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343400"/>
            <a:ext cx="533160" cy="5335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5029200"/>
            <a:ext cx="533160" cy="5335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2590200"/>
            <a:ext cx="4371840" cy="368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DE AMPLIA COBETURA 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9040" y="3276000"/>
            <a:ext cx="3760560" cy="368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CTUA EN BASE A UN SIST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8320" y="3885480"/>
            <a:ext cx="5133600" cy="368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INTEGRADO AL PROCESO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7240" y="4419000"/>
            <a:ext cx="6570720" cy="368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ORIENTADO A MEJORAR EL CONTROL ADMINISTR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7600" y="5180760"/>
            <a:ext cx="5261760" cy="368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BASA LOS RESULTADOS EN EL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23" name="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32" name="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43" name="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50" name="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57" name="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64" name="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71" name="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78" name="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82" name="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/>
              <a:ahLst/>
              <a:rect l="l" t="t" r="r" b="b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87" name="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302" name="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311" name="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26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30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34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38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50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79" name="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96560" y="2437200"/>
            <a:ext cx="1101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Ñ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0160" y="2437200"/>
            <a:ext cx="1495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E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63760" y="379800"/>
            <a:ext cx="41065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ISPOSICIONES LEG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480" y="1676520"/>
            <a:ext cx="533520" cy="533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6120" y="1775880"/>
            <a:ext cx="80244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7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89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0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1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19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02800"/>
            <a:ext cx="2097000" cy="3780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INGLATERR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U.S.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960" y="1631160"/>
            <a:ext cx="5254200" cy="4115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a ley sobr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Comisión Gobierno de Ont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 de Wiscons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Primer Congreso de Seguridad N.S.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Departamento del trabaj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ey de Compens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Se organiza la A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La Apai reconocida por le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OSHA Occupational Safety and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A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02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06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10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14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26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55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78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82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86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90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02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03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31" name="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3071520"/>
            <a:ext cx="6157800" cy="302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ajo los niveles que se han establecido com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rrectos o que se aceptan como t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200040" y="7610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INSEGU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761040"/>
            <a:ext cx="23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/>
            <a:ahLst/>
            <a:rect l="l" t="t" r="r" b="b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49" name="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/>
              <a:ahLst/>
              <a:rect l="l" t="t" r="r" b="b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59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63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67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71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83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12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2496960"/>
            <a:ext cx="570384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PERS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DE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23" name="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27" name="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31" name="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35" name="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47" name="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48" name="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76" name="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689" name="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693" name="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697" name="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01" name="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05" name="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/>
              <a:ahLst/>
              <a:rect l="l" t="t" r="r" b="b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/>
              <a:ahLst/>
              <a:rect l="l" t="t" r="r" b="b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925920" y="533520"/>
            <a:ext cx="71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NCIPIO DE LAS CARACTERÍST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32000" y="243684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l desempeño pasado de una organización tiende a delinear s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ísticas fu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2855520" y="2390760"/>
            <a:ext cx="323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Si quiere crea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nemigos trate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cambiar al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643000" y="601992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WOODROW WIL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85440" y="1065600"/>
            <a:ext cx="19393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y  en 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0840" y="278352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2444760"/>
            <a:ext cx="58341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3.170 Sobre Responsabilidad Patr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4.055 Aumenta 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Nº 16.744 de Segur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1486440" y="2179800"/>
            <a:ext cx="590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 posible tomar una dec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ógica y acertada, sólo cua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e ha identificado primera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l problema básico o r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64240" y="60948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RINCIPIO DE LA DEFIN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335240" y="2181240"/>
            <a:ext cx="7340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uanto más se aparte un cambio planificado, de las formas aceptadas en el pasado, mayor será la resistencia probablemente de la gente involucrada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42440" y="620640"/>
            <a:ext cx="74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RINCIPIO DE LA RESISTENCIA A LOS 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500200" y="2179800"/>
            <a:ext cx="389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blemas y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ccidentes casi nun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n el resultad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una sola cau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924840" y="609480"/>
            <a:ext cx="71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PRINCIPIO DE LAS CAUSAS MULT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06600" y="2133720"/>
            <a:ext cx="4082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n cualquier grup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ocurrencias,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equeño número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causas influirá en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mayor proporción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os resul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89000" y="4762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NCIPIO DE  LOS POCOS CRI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754" name="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5996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Times New Roman"/>
                </a:rPr>
                <a:t>LAS TRES ETAPAS DEL CONTR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757" name="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758" name="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762" name="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766" name="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770" name="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774" name="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/>
                <a:ahLst/>
                <a:rect l="l" t="t" r="r" b="b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/>
                <a:ahLst/>
                <a:rect l="l" t="t" r="r" b="b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RE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Arial Black"/>
              </a:rPr>
              <a:t>POST - CONTA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811" name="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822" name="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44" name="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845" name="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846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859" name="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69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78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ECT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467840" y="4267080"/>
            <a:ext cx="1446120" cy="2023920"/>
            <a:chOff x="7467840" y="4267080"/>
            <a:chExt cx="1446120" cy="2023920"/>
          </a:xfrm>
        </p:grpSpPr>
        <p:sp>
          <p:nvSpPr>
            <p:cNvPr id="887" name=""/>
            <p:cNvSpPr/>
            <p:nvPr/>
          </p:nvSpPr>
          <p:spPr>
            <a:xfrm flipH="1">
              <a:off x="7925400" y="4601160"/>
              <a:ext cx="72756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7485480" y="4267080"/>
              <a:ext cx="64584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30040" y="4993920"/>
              <a:ext cx="58392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890480" y="4972320"/>
              <a:ext cx="547920" cy="58428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8184960" y="5446080"/>
              <a:ext cx="41688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467840" y="5446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463680" y="1535040"/>
            <a:ext cx="704160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ACTITUD DEL INSP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CUBRIR TODO EL SECTOR O I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USAR LISTAS DE VER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BUSCAR “LO QUE NO SALTA A LA VIS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GISTRAR TODAS LAS DEFICIENCIAS DETECT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ACTUAR INMEDIATAMENTE ANTE PELIGROS SE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7 BUSCAR SIEMPRE LAS CAUSAS BASICAS PARA C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ELIGRO DETEC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5268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72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899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457200" y="28195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7200" y="22096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34290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7200" y="40384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7200" y="46483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52578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56480" y="1992600"/>
            <a:ext cx="7560000" cy="344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16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NFORME RESUMEN AL NIVEL SUP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33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1116000" y="22050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1210320" y="1522800"/>
            <a:ext cx="690300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44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657600" y="2781360"/>
            <a:ext cx="1143000" cy="57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635280" y="4076640"/>
            <a:ext cx="1143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956" name="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/>
              <a:ahLst/>
              <a:rect l="l" t="t" r="r" b="b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/>
              <a:ahLst/>
              <a:rect l="l" t="t" r="r" b="b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/>
              <a:ahLst/>
              <a:rect l="l" t="t" r="r" b="b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/>
              <a:ahLst/>
              <a:rect l="l" t="t" r="r" b="b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/>
              <a:ahLst/>
              <a:rect l="l" t="t" r="r" b="b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/>
              <a:ahLst/>
              <a:rect l="l" t="t" r="r" b="b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970" name="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292720" y="289548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292720" y="4191120"/>
            <a:ext cx="422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076720" y="5734080"/>
            <a:ext cx="473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992" name="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1007" name="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and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892160" y="1241280"/>
            <a:ext cx="6448680" cy="5578200"/>
            <a:chOff x="1892160" y="1241280"/>
            <a:chExt cx="6448680" cy="5578200"/>
          </a:xfrm>
        </p:grpSpPr>
        <p:sp>
          <p:nvSpPr>
            <p:cNvPr id="1034" name=""/>
            <p:cNvSpPr/>
            <p:nvPr/>
          </p:nvSpPr>
          <p:spPr>
            <a:xfrm>
              <a:off x="1892160" y="1241280"/>
              <a:ext cx="6448680" cy="5578200"/>
            </a:xfrm>
            <a:custGeom>
              <a:avLst/>
              <a:gdLst>
                <a:gd name="textAreaLeft" fmla="*/ 329760 w 6448680"/>
                <a:gd name="textAreaRight" fmla="*/ 6118920 w 6448680"/>
                <a:gd name="textAreaTop" fmla="*/ 329760 h 5578200"/>
                <a:gd name="textAreaBottom" fmla="*/ 5248440 h 5578200"/>
              </a:gdLst>
              <a:ahLst/>
              <a:rect l="textAreaLeft" t="textAreaTop" r="textAreaRight" b="textAreaBottom"/>
              <a:pathLst>
                <a:path w="24970" h="21600">
                  <a:moveTo>
                    <a:pt x="0" y="0"/>
                  </a:moveTo>
                  <a:lnTo>
                    <a:pt x="24970" y="0"/>
                  </a:lnTo>
                  <a:lnTo>
                    <a:pt x="24970" y="21600"/>
                  </a:lnTo>
                  <a:lnTo>
                    <a:pt x="0" y="21600"/>
                  </a:lnTo>
                  <a:close/>
                </a:path>
                <a:path fill="lightenLess" w="24970" h="21600">
                  <a:moveTo>
                    <a:pt x="0" y="0"/>
                  </a:moveTo>
                  <a:lnTo>
                    <a:pt x="24970" y="0"/>
                  </a:lnTo>
                  <a:lnTo>
                    <a:pt x="23694" y="1277"/>
                  </a:lnTo>
                  <a:lnTo>
                    <a:pt x="1277" y="1277"/>
                  </a:lnTo>
                  <a:close/>
                </a:path>
                <a:path fill="darken" w="24970" h="21600">
                  <a:moveTo>
                    <a:pt x="24970" y="0"/>
                  </a:moveTo>
                  <a:lnTo>
                    <a:pt x="24970" y="21600"/>
                  </a:lnTo>
                  <a:lnTo>
                    <a:pt x="23694" y="20323"/>
                  </a:lnTo>
                  <a:lnTo>
                    <a:pt x="23694" y="1277"/>
                  </a:lnTo>
                  <a:close/>
                </a:path>
                <a:path fill="darkenLess" w="24970" h="21600">
                  <a:moveTo>
                    <a:pt x="24970" y="21600"/>
                  </a:moveTo>
                  <a:lnTo>
                    <a:pt x="0" y="21600"/>
                  </a:lnTo>
                  <a:lnTo>
                    <a:pt x="1277" y="20323"/>
                  </a:lnTo>
                  <a:lnTo>
                    <a:pt x="23694" y="20323"/>
                  </a:lnTo>
                  <a:close/>
                </a:path>
                <a:path fill="lighten" w="24970" h="21600">
                  <a:moveTo>
                    <a:pt x="0" y="21600"/>
                  </a:moveTo>
                  <a:lnTo>
                    <a:pt x="0" y="0"/>
                  </a:lnTo>
                  <a:lnTo>
                    <a:pt x="1277" y="1277"/>
                  </a:lnTo>
                  <a:lnTo>
                    <a:pt x="1277" y="20323"/>
                  </a:lnTo>
                  <a:close/>
                </a:path>
              </a:pathLst>
            </a:custGeom>
            <a:solidFill>
              <a:srgbClr val="f8f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84320" y="1521720"/>
              <a:ext cx="446436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631320" y="1462320"/>
              <a:ext cx="3024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Tipos de Accidente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174760" y="2014560"/>
              <a:ext cx="593100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l mism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aídas de distinto ni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Golpeado por/con/contra objetos o estructu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apamiento en máquinas, materiales o instalaci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cort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objetos punz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fuego/objetos/líquidos calientes/productos químic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Sobreesfuerzo por peso excesivo/movimiento brusco/movimiento repetitivo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Atropellamiento o cho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  <a:ea typeface="Times New Roman"/>
                </a:rPr>
                <a:t>Contacto con electricid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16000" y="1298520"/>
            <a:ext cx="8680320" cy="5083200"/>
          </a:xfrm>
          <a:custGeom>
            <a:avLst/>
            <a:gdLst>
              <a:gd name="textAreaLeft" fmla="*/ 300240 w 8680320"/>
              <a:gd name="textAreaRight" fmla="*/ 8380080 w 868032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884" h="21600">
                <a:moveTo>
                  <a:pt x="0" y="0"/>
                </a:moveTo>
                <a:lnTo>
                  <a:pt x="36884" y="0"/>
                </a:lnTo>
                <a:lnTo>
                  <a:pt x="36884" y="21600"/>
                </a:lnTo>
                <a:lnTo>
                  <a:pt x="0" y="21600"/>
                </a:lnTo>
                <a:close/>
              </a:path>
              <a:path fill="lightenLess" w="36884" h="21600">
                <a:moveTo>
                  <a:pt x="0" y="0"/>
                </a:moveTo>
                <a:lnTo>
                  <a:pt x="36884" y="0"/>
                </a:lnTo>
                <a:lnTo>
                  <a:pt x="35607" y="1277"/>
                </a:lnTo>
                <a:lnTo>
                  <a:pt x="1277" y="1277"/>
                </a:lnTo>
                <a:close/>
              </a:path>
              <a:path fill="darken" w="36884" h="21600">
                <a:moveTo>
                  <a:pt x="36884" y="0"/>
                </a:moveTo>
                <a:lnTo>
                  <a:pt x="36884" y="21600"/>
                </a:lnTo>
                <a:lnTo>
                  <a:pt x="35607" y="20323"/>
                </a:lnTo>
                <a:lnTo>
                  <a:pt x="35607" y="1277"/>
                </a:lnTo>
                <a:close/>
              </a:path>
              <a:path fill="darkenLess" w="36884" h="21600">
                <a:moveTo>
                  <a:pt x="36884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607" y="20323"/>
                </a:lnTo>
                <a:close/>
              </a:path>
              <a:path fill="lighten" w="36884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880" y="1690560"/>
            <a:ext cx="2504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5320" y="2079720"/>
            <a:ext cx="465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l mism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aídas de distinto ni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Golpeado por/con/contra objetos o estru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apamiento en máquinas, materiales o instal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cort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objetos punz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fuego/objetos/líquidos cal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breesfuerzo por peso excesivo/movimiento brusco/movimiento repetitiv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tropellamiento o cho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acto con electri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64120" y="2174760"/>
            <a:ext cx="383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Her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Fractu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Ampu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nfermedades infectocontagio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Lesiones a la espal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sgui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Tendin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hock eléc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35080" y="1488960"/>
            <a:ext cx="8623080" cy="5083200"/>
          </a:xfrm>
          <a:custGeom>
            <a:avLst/>
            <a:gdLst>
              <a:gd name="textAreaLeft" fmla="*/ 300240 w 8623080"/>
              <a:gd name="textAreaRight" fmla="*/ 8322840 w 8623080"/>
              <a:gd name="textAreaTop" fmla="*/ 300240 h 5083200"/>
              <a:gd name="textAreaBottom" fmla="*/ 4782960 h 5083200"/>
            </a:gdLst>
            <a:ahLst/>
            <a:rect l="textAreaLeft" t="textAreaTop" r="textAreaRight" b="textAreaBottom"/>
            <a:pathLst>
              <a:path w="36641" h="21600">
                <a:moveTo>
                  <a:pt x="0" y="0"/>
                </a:moveTo>
                <a:lnTo>
                  <a:pt x="36641" y="0"/>
                </a:lnTo>
                <a:lnTo>
                  <a:pt x="36641" y="21600"/>
                </a:lnTo>
                <a:lnTo>
                  <a:pt x="0" y="21600"/>
                </a:lnTo>
                <a:close/>
              </a:path>
              <a:path fill="lightenLess" w="36641" h="21600">
                <a:moveTo>
                  <a:pt x="0" y="0"/>
                </a:moveTo>
                <a:lnTo>
                  <a:pt x="36641" y="0"/>
                </a:lnTo>
                <a:lnTo>
                  <a:pt x="35364" y="1277"/>
                </a:lnTo>
                <a:lnTo>
                  <a:pt x="1277" y="1277"/>
                </a:lnTo>
                <a:close/>
              </a:path>
              <a:path fill="darken" w="36641" h="21600">
                <a:moveTo>
                  <a:pt x="36641" y="0"/>
                </a:moveTo>
                <a:lnTo>
                  <a:pt x="36641" y="21600"/>
                </a:lnTo>
                <a:lnTo>
                  <a:pt x="35364" y="20323"/>
                </a:lnTo>
                <a:lnTo>
                  <a:pt x="35364" y="1277"/>
                </a:lnTo>
                <a:close/>
              </a:path>
              <a:path fill="darkenLess" w="36641" h="21600">
                <a:moveTo>
                  <a:pt x="36641" y="21600"/>
                </a:moveTo>
                <a:lnTo>
                  <a:pt x="0" y="21600"/>
                </a:lnTo>
                <a:lnTo>
                  <a:pt x="1277" y="20323"/>
                </a:lnTo>
                <a:lnTo>
                  <a:pt x="35364" y="20323"/>
                </a:lnTo>
                <a:close/>
              </a:path>
              <a:path fill="lighten" w="36641" h="21600">
                <a:moveTo>
                  <a:pt x="0" y="21600"/>
                </a:moveTo>
                <a:lnTo>
                  <a:pt x="0" y="0"/>
                </a:lnTo>
                <a:lnTo>
                  <a:pt x="1277" y="1277"/>
                </a:lnTo>
                <a:lnTo>
                  <a:pt x="1277" y="20323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3120" y="174456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354680" y="167148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Riesgo Asociad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25320" y="2308320"/>
            <a:ext cx="446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ru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solv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emora en la evacuación en caso de una emerge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cend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lapso estructural en caso de sismo o terremo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humo de ciga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Exposición a altos niveles de 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sumo de alimentos en mal es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57920" y="1763640"/>
            <a:ext cx="352080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723280" y="1709640"/>
            <a:ext cx="2165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064120" y="2289240"/>
            <a:ext cx="335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Sord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Daño Orgánico Cereb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ontusiones, heridas, fracturas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Quemaduras de distinto grado, mue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Cán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Intoxicación, mu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2468520" y="2470320"/>
            <a:ext cx="5475240" cy="2205000"/>
          </a:xfrm>
          <a:prstGeom prst="rect">
            <a:avLst/>
          </a:prstGeom>
          <a:solidFill>
            <a:srgbClr val="fbf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565280" y="1176480"/>
            <a:ext cx="7121520" cy="5331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ff"/>
                </a:solidFill>
                <a:latin typeface="Arial Black"/>
              </a:rPr>
              <a:t>EVALUACIO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782800" y="2778120"/>
            <a:ext cx="500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Consecuencia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33ff"/>
                </a:solidFill>
                <a:latin typeface="Arial"/>
                <a:ea typeface="Times New Roman"/>
              </a:rPr>
              <a:t>Probabilidad de ocurrenc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58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65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070" name="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Verdana"/>
              </a:rPr>
              <a:t>PROB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077" name="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2322360" y="1573200"/>
            <a:ext cx="5720040" cy="4848120"/>
            <a:chOff x="2322360" y="1573200"/>
            <a:chExt cx="5720040" cy="4848120"/>
          </a:xfrm>
        </p:grpSpPr>
        <p:grpSp>
          <p:nvGrpSpPr>
            <p:cNvPr id="1082" name=""/>
            <p:cNvGrpSpPr/>
            <p:nvPr/>
          </p:nvGrpSpPr>
          <p:grpSpPr>
            <a:xfrm>
              <a:off x="2322360" y="1573200"/>
              <a:ext cx="5719680" cy="1162080"/>
              <a:chOff x="2322360" y="1573200"/>
              <a:chExt cx="5719680" cy="1162080"/>
            </a:xfrm>
          </p:grpSpPr>
          <p:sp>
            <p:nvSpPr>
              <p:cNvPr id="1083" name=""/>
              <p:cNvSpPr/>
              <p:nvPr/>
            </p:nvSpPr>
            <p:spPr>
              <a:xfrm>
                <a:off x="2322360" y="1573200"/>
                <a:ext cx="137448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6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769920" y="1573200"/>
                <a:ext cx="137484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217840" y="157320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667560" y="157320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2322360" y="2800440"/>
              <a:ext cx="5719680" cy="1162080"/>
              <a:chOff x="2322360" y="2800440"/>
              <a:chExt cx="5719680" cy="1162080"/>
            </a:xfrm>
          </p:grpSpPr>
          <p:sp>
            <p:nvSpPr>
              <p:cNvPr id="1088" name=""/>
              <p:cNvSpPr/>
              <p:nvPr/>
            </p:nvSpPr>
            <p:spPr>
              <a:xfrm>
                <a:off x="2322360" y="2800440"/>
                <a:ext cx="1374480" cy="11620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769920" y="280044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217840" y="280044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667560" y="2800440"/>
                <a:ext cx="137448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2322360" y="4032360"/>
              <a:ext cx="5719680" cy="1162080"/>
              <a:chOff x="2322360" y="4032360"/>
              <a:chExt cx="5719680" cy="1162080"/>
            </a:xfrm>
          </p:grpSpPr>
          <p:sp>
            <p:nvSpPr>
              <p:cNvPr id="1093" name=""/>
              <p:cNvSpPr/>
              <p:nvPr/>
            </p:nvSpPr>
            <p:spPr>
              <a:xfrm>
                <a:off x="2322360" y="4032360"/>
                <a:ext cx="137448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69920" y="403236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17840" y="403236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667560" y="4032360"/>
                <a:ext cx="137448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2322360" y="5259240"/>
              <a:ext cx="5719680" cy="1162080"/>
              <a:chOff x="2322360" y="5259240"/>
              <a:chExt cx="5719680" cy="1162080"/>
            </a:xfrm>
          </p:grpSpPr>
          <p:sp>
            <p:nvSpPr>
              <p:cNvPr id="1098" name=""/>
              <p:cNvSpPr/>
              <p:nvPr/>
            </p:nvSpPr>
            <p:spPr>
              <a:xfrm>
                <a:off x="2322360" y="525924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69920" y="525924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1784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66720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500" spc="-1" strike="noStrike">
                    <a:solidFill>
                      <a:srgbClr val="3333ff"/>
                    </a:solidFill>
                    <a:latin typeface="Verdana"/>
                  </a:rPr>
                  <a:t>1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2" name=""/>
            <p:cNvSpPr/>
            <p:nvPr/>
          </p:nvSpPr>
          <p:spPr>
            <a:xfrm>
              <a:off x="2322360" y="1573200"/>
              <a:ext cx="1374840" cy="116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6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IN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70280" y="157320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218200" y="157320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67560" y="15732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770280" y="280044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21820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66756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322360" y="403236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7028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1820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67560" y="403236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2236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7028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21820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66756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322360" y="279252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322360" y="403848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18200" y="158112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22360" y="52578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7028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665760" y="158112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72080" y="5257800"/>
              <a:ext cx="137448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1964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66756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1964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ff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0" y="1352520"/>
            <a:ext cx="91440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332000" y="260280"/>
            <a:ext cx="7121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 Black"/>
              </a:rPr>
              <a:t>TRABAJO EN GRUP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54080" y="1442880"/>
            <a:ext cx="8837640" cy="2562480"/>
            <a:chOff x="154080" y="1442880"/>
            <a:chExt cx="8837640" cy="2562480"/>
          </a:xfrm>
        </p:grpSpPr>
        <p:grpSp>
          <p:nvGrpSpPr>
            <p:cNvPr id="1130" name=""/>
            <p:cNvGrpSpPr/>
            <p:nvPr/>
          </p:nvGrpSpPr>
          <p:grpSpPr>
            <a:xfrm>
              <a:off x="158760" y="1446840"/>
              <a:ext cx="8827920" cy="2553480"/>
              <a:chOff x="158760" y="1446840"/>
              <a:chExt cx="8827920" cy="255348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158760" y="1446840"/>
                <a:ext cx="1003320" cy="806400"/>
                <a:chOff x="158760" y="1446840"/>
                <a:chExt cx="1003320" cy="8064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15876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3" name=""/>
                <p:cNvGrpSpPr/>
                <p:nvPr/>
              </p:nvGrpSpPr>
              <p:grpSpPr>
                <a:xfrm>
                  <a:off x="158760" y="1446840"/>
                  <a:ext cx="1003320" cy="806400"/>
                  <a:chOff x="158760" y="1446840"/>
                  <a:chExt cx="1003320" cy="80640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20304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Lugar 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15876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6" name=""/>
              <p:cNvGrpSpPr/>
              <p:nvPr/>
            </p:nvGrpSpPr>
            <p:grpSpPr>
              <a:xfrm>
                <a:off x="1162080" y="1446840"/>
                <a:ext cx="1003320" cy="806400"/>
                <a:chOff x="1162080" y="1446840"/>
                <a:chExt cx="1003320" cy="8064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162080" y="1446840"/>
                  <a:ext cx="100332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8" name=""/>
                <p:cNvGrpSpPr/>
                <p:nvPr/>
              </p:nvGrpSpPr>
              <p:grpSpPr>
                <a:xfrm>
                  <a:off x="1162080" y="1446840"/>
                  <a:ext cx="1003320" cy="806400"/>
                  <a:chOff x="1162080" y="1446840"/>
                  <a:chExt cx="1003320" cy="80640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1206360" y="1446840"/>
                    <a:ext cx="9144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dición de Riesgo detectad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162080" y="1446840"/>
                    <a:ext cx="100332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1" name=""/>
              <p:cNvGrpSpPr/>
              <p:nvPr/>
            </p:nvGrpSpPr>
            <p:grpSpPr>
              <a:xfrm>
                <a:off x="2165400" y="1446840"/>
                <a:ext cx="995400" cy="806400"/>
                <a:chOff x="2165400" y="1446840"/>
                <a:chExt cx="995400" cy="80640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2165400" y="1446840"/>
                  <a:ext cx="9954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2165400" y="1446840"/>
                  <a:ext cx="995400" cy="806400"/>
                  <a:chOff x="2165400" y="1446840"/>
                  <a:chExt cx="995400" cy="80640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>
                    <a:off x="2209680" y="1446840"/>
                    <a:ext cx="90648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iesgo Asociad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165400" y="1446840"/>
                    <a:ext cx="9954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6" name=""/>
              <p:cNvGrpSpPr/>
              <p:nvPr/>
            </p:nvGrpSpPr>
            <p:grpSpPr>
              <a:xfrm>
                <a:off x="3160800" y="1446840"/>
                <a:ext cx="1187280" cy="806400"/>
                <a:chOff x="3160800" y="1446840"/>
                <a:chExt cx="1187280" cy="8064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3160800" y="1446840"/>
                  <a:ext cx="118728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8" name=""/>
                <p:cNvGrpSpPr/>
                <p:nvPr/>
              </p:nvGrpSpPr>
              <p:grpSpPr>
                <a:xfrm>
                  <a:off x="3160800" y="1446840"/>
                  <a:ext cx="1187280" cy="806400"/>
                  <a:chOff x="3160800" y="1446840"/>
                  <a:chExt cx="1187280" cy="8064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3205080" y="1446840"/>
                    <a:ext cx="10987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onsecuenci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3160800" y="1446840"/>
                    <a:ext cx="118728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1" name=""/>
              <p:cNvGrpSpPr/>
              <p:nvPr/>
            </p:nvGrpSpPr>
            <p:grpSpPr>
              <a:xfrm>
                <a:off x="4348080" y="1446840"/>
                <a:ext cx="1187640" cy="806400"/>
                <a:chOff x="4348080" y="1446840"/>
                <a:chExt cx="1187640" cy="8064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348080" y="1446840"/>
                  <a:ext cx="118764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3" name=""/>
                <p:cNvGrpSpPr/>
                <p:nvPr/>
              </p:nvGrpSpPr>
              <p:grpSpPr>
                <a:xfrm>
                  <a:off x="4348080" y="1446840"/>
                  <a:ext cx="1187640" cy="806400"/>
                  <a:chOff x="4348080" y="1446840"/>
                  <a:chExt cx="1187640" cy="80640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>
                    <a:off x="4392720" y="1446840"/>
                    <a:ext cx="109836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agnitud de Riesg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4348080" y="1446840"/>
                    <a:ext cx="118764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6" name=""/>
              <p:cNvGrpSpPr/>
              <p:nvPr/>
            </p:nvGrpSpPr>
            <p:grpSpPr>
              <a:xfrm>
                <a:off x="5535720" y="1446840"/>
                <a:ext cx="1101600" cy="806400"/>
                <a:chOff x="5535720" y="1446840"/>
                <a:chExt cx="1101600" cy="80640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5535720" y="1446840"/>
                  <a:ext cx="11016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8" name=""/>
                <p:cNvGrpSpPr/>
                <p:nvPr/>
              </p:nvGrpSpPr>
              <p:grpSpPr>
                <a:xfrm>
                  <a:off x="5535720" y="1446840"/>
                  <a:ext cx="1101600" cy="806400"/>
                  <a:chOff x="5535720" y="1446840"/>
                  <a:chExt cx="1101600" cy="80640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>
                    <a:off x="5580000" y="1446840"/>
                    <a:ext cx="101304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de Control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35720" y="1446840"/>
                    <a:ext cx="11016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1" name=""/>
              <p:cNvGrpSpPr/>
              <p:nvPr/>
            </p:nvGrpSpPr>
            <p:grpSpPr>
              <a:xfrm>
                <a:off x="6637320" y="1446840"/>
                <a:ext cx="1117800" cy="806400"/>
                <a:chOff x="6637320" y="1446840"/>
                <a:chExt cx="1117800" cy="8064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6637320" y="1446840"/>
                  <a:ext cx="111780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3" name=""/>
                <p:cNvGrpSpPr/>
                <p:nvPr/>
              </p:nvGrpSpPr>
              <p:grpSpPr>
                <a:xfrm>
                  <a:off x="6637320" y="1446840"/>
                  <a:ext cx="1117800" cy="806400"/>
                  <a:chOff x="6637320" y="1446840"/>
                  <a:chExt cx="1117800" cy="80640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6681960" y="1446840"/>
                    <a:ext cx="102852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Responsable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6637320" y="1446840"/>
                    <a:ext cx="111780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6" name=""/>
              <p:cNvGrpSpPr/>
              <p:nvPr/>
            </p:nvGrpSpPr>
            <p:grpSpPr>
              <a:xfrm>
                <a:off x="7755120" y="1446840"/>
                <a:ext cx="1231560" cy="806400"/>
                <a:chOff x="7755120" y="1446840"/>
                <a:chExt cx="1231560" cy="80640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7755120" y="1446840"/>
                  <a:ext cx="1231560" cy="80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8" name=""/>
                <p:cNvGrpSpPr/>
                <p:nvPr/>
              </p:nvGrpSpPr>
              <p:grpSpPr>
                <a:xfrm>
                  <a:off x="7755120" y="1446840"/>
                  <a:ext cx="1231560" cy="806400"/>
                  <a:chOff x="7755120" y="1446840"/>
                  <a:chExt cx="1231560" cy="80640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7799400" y="1446840"/>
                    <a:ext cx="1143000" cy="80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de Cumplimien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7755120" y="1446840"/>
                    <a:ext cx="1231560" cy="80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1" name=""/>
              <p:cNvGrpSpPr/>
              <p:nvPr/>
            </p:nvGrpSpPr>
            <p:grpSpPr>
              <a:xfrm>
                <a:off x="158760" y="2253240"/>
                <a:ext cx="1003320" cy="1747080"/>
                <a:chOff x="158760" y="2253240"/>
                <a:chExt cx="1003320" cy="174708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15876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3" name=""/>
                <p:cNvGrpSpPr/>
                <p:nvPr/>
              </p:nvGrpSpPr>
              <p:grpSpPr>
                <a:xfrm>
                  <a:off x="158760" y="2253240"/>
                  <a:ext cx="1003320" cy="1747080"/>
                  <a:chOff x="158760" y="2253240"/>
                  <a:chExt cx="1003320" cy="174708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20304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Plant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Sección o Depto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-Máquina, lugar específico ó puesto de trabaj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200" spc="-1" strike="noStrike">
                        <a:solidFill>
                          <a:srgbClr val="3333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15876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6" name=""/>
              <p:cNvGrpSpPr/>
              <p:nvPr/>
            </p:nvGrpSpPr>
            <p:grpSpPr>
              <a:xfrm>
                <a:off x="1162080" y="2253240"/>
                <a:ext cx="1003320" cy="1747080"/>
                <a:chOff x="1162080" y="2253240"/>
                <a:chExt cx="1003320" cy="174708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1162080" y="2253240"/>
                  <a:ext cx="100332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8" name=""/>
                <p:cNvGrpSpPr/>
                <p:nvPr/>
              </p:nvGrpSpPr>
              <p:grpSpPr>
                <a:xfrm>
                  <a:off x="1162080" y="2253240"/>
                  <a:ext cx="1003320" cy="1747080"/>
                  <a:chOff x="1162080" y="2253240"/>
                  <a:chExt cx="1003320" cy="174708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1206360" y="2253240"/>
                    <a:ext cx="9144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Acción o Condición Insegura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1162080" y="2253240"/>
                    <a:ext cx="100332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1" name=""/>
              <p:cNvGrpSpPr/>
              <p:nvPr/>
            </p:nvGrpSpPr>
            <p:grpSpPr>
              <a:xfrm>
                <a:off x="2165400" y="2253240"/>
                <a:ext cx="995400" cy="1747080"/>
                <a:chOff x="2165400" y="2253240"/>
                <a:chExt cx="995400" cy="174708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2165400" y="2253240"/>
                  <a:ext cx="9954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3" name=""/>
                <p:cNvGrpSpPr/>
                <p:nvPr/>
              </p:nvGrpSpPr>
              <p:grpSpPr>
                <a:xfrm>
                  <a:off x="2165400" y="2253240"/>
                  <a:ext cx="995400" cy="1747080"/>
                  <a:chOff x="2165400" y="2253240"/>
                  <a:chExt cx="995400" cy="174708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2209680" y="2253240"/>
                    <a:ext cx="90648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accidente o riesgo generado por la condición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165400" y="2253240"/>
                    <a:ext cx="9954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6" name=""/>
              <p:cNvGrpSpPr/>
              <p:nvPr/>
            </p:nvGrpSpPr>
            <p:grpSpPr>
              <a:xfrm>
                <a:off x="3160800" y="2253240"/>
                <a:ext cx="1187280" cy="1747080"/>
                <a:chOff x="3160800" y="2253240"/>
                <a:chExt cx="1187280" cy="174708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3160800" y="2253240"/>
                  <a:ext cx="118728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8" name=""/>
                <p:cNvGrpSpPr/>
                <p:nvPr/>
              </p:nvGrpSpPr>
              <p:grpSpPr>
                <a:xfrm>
                  <a:off x="3160800" y="2253240"/>
                  <a:ext cx="1187280" cy="1747080"/>
                  <a:chOff x="3160800" y="2253240"/>
                  <a:chExt cx="1187280" cy="1747080"/>
                </a:xfrm>
              </p:grpSpPr>
              <p:sp>
                <p:nvSpPr>
                  <p:cNvPr id="1189" name=""/>
                  <p:cNvSpPr/>
                  <p:nvPr/>
                </p:nvSpPr>
                <p:spPr>
                  <a:xfrm>
                    <a:off x="3205080" y="2253240"/>
                    <a:ext cx="10987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Tipo de lesiones o enfermedades que la condición puede provocar, pérdidas o daños a la propiedad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3160800" y="2253240"/>
                    <a:ext cx="118728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1" name=""/>
              <p:cNvGrpSpPr/>
              <p:nvPr/>
            </p:nvGrpSpPr>
            <p:grpSpPr>
              <a:xfrm>
                <a:off x="4348080" y="2253240"/>
                <a:ext cx="1187640" cy="1747080"/>
                <a:chOff x="4348080" y="2253240"/>
                <a:chExt cx="1187640" cy="174708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4348080" y="2253240"/>
                  <a:ext cx="118764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3" name=""/>
                <p:cNvGrpSpPr/>
                <p:nvPr/>
              </p:nvGrpSpPr>
              <p:grpSpPr>
                <a:xfrm>
                  <a:off x="4348080" y="2253240"/>
                  <a:ext cx="1187640" cy="1747080"/>
                  <a:chOff x="4348080" y="2253240"/>
                  <a:chExt cx="1187640" cy="174708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4392720" y="2253240"/>
                    <a:ext cx="109836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Calcular de acuerdo a Criterio de Magnitud de Riesgo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4348080" y="2253240"/>
                    <a:ext cx="118764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6" name=""/>
              <p:cNvGrpSpPr/>
              <p:nvPr/>
            </p:nvGrpSpPr>
            <p:grpSpPr>
              <a:xfrm>
                <a:off x="5535720" y="2253240"/>
                <a:ext cx="1101600" cy="1747080"/>
                <a:chOff x="5535720" y="2253240"/>
                <a:chExt cx="1101600" cy="174708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5535720" y="2253240"/>
                  <a:ext cx="11016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8" name=""/>
                <p:cNvGrpSpPr/>
                <p:nvPr/>
              </p:nvGrpSpPr>
              <p:grpSpPr>
                <a:xfrm>
                  <a:off x="5535720" y="2253240"/>
                  <a:ext cx="1101600" cy="1747080"/>
                  <a:chOff x="5535720" y="2253240"/>
                  <a:chExt cx="1101600" cy="1747080"/>
                </a:xfrm>
              </p:grpSpPr>
              <p:sp>
                <p:nvSpPr>
                  <p:cNvPr id="1199" name=""/>
                  <p:cNvSpPr/>
                  <p:nvPr/>
                </p:nvSpPr>
                <p:spPr>
                  <a:xfrm>
                    <a:off x="5580000" y="2253240"/>
                    <a:ext cx="101304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Medidas que evitarán que la condición de riesgo se manteng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5535720" y="2253240"/>
                    <a:ext cx="11016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1" name=""/>
              <p:cNvGrpSpPr/>
              <p:nvPr/>
            </p:nvGrpSpPr>
            <p:grpSpPr>
              <a:xfrm>
                <a:off x="6637320" y="2253240"/>
                <a:ext cx="1117800" cy="1747080"/>
                <a:chOff x="6637320" y="2253240"/>
                <a:chExt cx="1117800" cy="174708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6637320" y="2253240"/>
                  <a:ext cx="111780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3" name=""/>
                <p:cNvGrpSpPr/>
                <p:nvPr/>
              </p:nvGrpSpPr>
              <p:grpSpPr>
                <a:xfrm>
                  <a:off x="6637320" y="2253240"/>
                  <a:ext cx="1117800" cy="1747080"/>
                  <a:chOff x="6637320" y="2253240"/>
                  <a:chExt cx="1117800" cy="174708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6681960" y="2253240"/>
                    <a:ext cx="102852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ersona que se hará responsable de llevar a cabo la Medida de Control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6637320" y="2253240"/>
                    <a:ext cx="111780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6" name=""/>
              <p:cNvGrpSpPr/>
              <p:nvPr/>
            </p:nvGrpSpPr>
            <p:grpSpPr>
              <a:xfrm>
                <a:off x="7755120" y="2253240"/>
                <a:ext cx="1231560" cy="1747080"/>
                <a:chOff x="7755120" y="2253240"/>
                <a:chExt cx="1231560" cy="174708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7755120" y="2253240"/>
                  <a:ext cx="1231560" cy="174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8" name=""/>
                <p:cNvGrpSpPr/>
                <p:nvPr/>
              </p:nvGrpSpPr>
              <p:grpSpPr>
                <a:xfrm>
                  <a:off x="7755120" y="2253240"/>
                  <a:ext cx="1231560" cy="1747080"/>
                  <a:chOff x="7755120" y="2253240"/>
                  <a:chExt cx="1231560" cy="174708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>
                    <a:off x="7799400" y="2253240"/>
                    <a:ext cx="1143000" cy="174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000" spc="-1" strike="noStrike">
                        <a:solidFill>
                          <a:srgbClr val="3333ff"/>
                        </a:solidFill>
                        <a:latin typeface="Tahoma"/>
                      </a:rPr>
                      <a:t>Plazo en el que la medida de control deberá estar implementada.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7755120" y="2253240"/>
                    <a:ext cx="1231560" cy="1747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11" name=""/>
            <p:cNvSpPr/>
            <p:nvPr/>
          </p:nvSpPr>
          <p:spPr>
            <a:xfrm>
              <a:off x="154080" y="1442880"/>
              <a:ext cx="8837640" cy="256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179280" y="4149720"/>
            <a:ext cx="8835840" cy="2295360"/>
            <a:chOff x="179280" y="4149720"/>
            <a:chExt cx="8835840" cy="2295360"/>
          </a:xfrm>
        </p:grpSpPr>
        <p:grpSp>
          <p:nvGrpSpPr>
            <p:cNvPr id="1213" name=""/>
            <p:cNvGrpSpPr/>
            <p:nvPr/>
          </p:nvGrpSpPr>
          <p:grpSpPr>
            <a:xfrm>
              <a:off x="183960" y="4154400"/>
              <a:ext cx="8826480" cy="2286000"/>
              <a:chOff x="183960" y="4154400"/>
              <a:chExt cx="8826480" cy="2286000"/>
            </a:xfrm>
          </p:grpSpPr>
          <p:grpSp>
            <p:nvGrpSpPr>
              <p:cNvPr id="1214" name=""/>
              <p:cNvGrpSpPr/>
              <p:nvPr/>
            </p:nvGrpSpPr>
            <p:grpSpPr>
              <a:xfrm>
                <a:off x="183960" y="4154400"/>
                <a:ext cx="1003320" cy="1066680"/>
                <a:chOff x="183960" y="4154400"/>
                <a:chExt cx="1003320" cy="106668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228240" y="4154400"/>
                  <a:ext cx="9144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Bodega de..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183960" y="4154400"/>
                  <a:ext cx="10033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1187280" y="4154400"/>
                <a:ext cx="1052640" cy="1066680"/>
                <a:chOff x="1187280" y="4154400"/>
                <a:chExt cx="1052640" cy="106668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1231560" y="4154400"/>
                  <a:ext cx="963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Trabajador no utiliza Calzado de Seguridad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187280" y="4154400"/>
                  <a:ext cx="10526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2239920" y="4154400"/>
                <a:ext cx="1296720" cy="1066680"/>
                <a:chOff x="2239920" y="4154400"/>
                <a:chExt cx="1296720" cy="106668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284200" y="4154400"/>
                  <a:ext cx="12081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aída de objetos, atropellamiento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239920" y="4154400"/>
                  <a:ext cx="12967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3536640" y="4154400"/>
                <a:ext cx="1117800" cy="1066680"/>
                <a:chOff x="3536640" y="4154400"/>
                <a:chExt cx="1117800" cy="106668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358128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53664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4654440" y="4154400"/>
                <a:ext cx="888840" cy="1066680"/>
                <a:chOff x="4654440" y="4154400"/>
                <a:chExt cx="888840" cy="106668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4698720" y="4154400"/>
                  <a:ext cx="8002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4654440" y="4154400"/>
                  <a:ext cx="8888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5543280" y="4154400"/>
                <a:ext cx="1117800" cy="1066680"/>
                <a:chOff x="5543280" y="4154400"/>
                <a:chExt cx="1117800" cy="106668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5587920" y="4154400"/>
                  <a:ext cx="10285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543280" y="4154400"/>
                  <a:ext cx="111780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6661080" y="4154400"/>
                <a:ext cx="1117440" cy="1066680"/>
                <a:chOff x="6661080" y="4154400"/>
                <a:chExt cx="1117440" cy="106668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6705360" y="4154400"/>
                  <a:ext cx="102888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661080" y="4154400"/>
                  <a:ext cx="111744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7778520" y="4154400"/>
                <a:ext cx="1231920" cy="1066680"/>
                <a:chOff x="7778520" y="4154400"/>
                <a:chExt cx="1231920" cy="10666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7823160" y="4154400"/>
                  <a:ext cx="114300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778520" y="4154400"/>
                  <a:ext cx="1231920" cy="106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183960" y="5221080"/>
                <a:ext cx="1003320" cy="1219320"/>
                <a:chOff x="183960" y="5221080"/>
                <a:chExt cx="1003320" cy="121932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228240" y="5221080"/>
                  <a:ext cx="9144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Pasillo sector...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83960" y="5221080"/>
                  <a:ext cx="10033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1187280" y="5221080"/>
                <a:ext cx="1052640" cy="1219320"/>
                <a:chOff x="1187280" y="5221080"/>
                <a:chExt cx="1052640" cy="12193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1231560" y="5221080"/>
                  <a:ext cx="9637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Alfombra se encuentra suelta y deshilachada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187280" y="5221080"/>
                  <a:ext cx="10526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2239920" y="5221080"/>
                <a:ext cx="1296720" cy="1219320"/>
                <a:chOff x="2239920" y="5221080"/>
                <a:chExt cx="1296720" cy="12193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2284200" y="5221080"/>
                  <a:ext cx="12081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Sobreesfuerzos por movimiento brusco (torceduras), caíd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239920" y="5221080"/>
                  <a:ext cx="12967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3536640" y="5221080"/>
                <a:ext cx="1117800" cy="1219320"/>
                <a:chOff x="3536640" y="5221080"/>
                <a:chExt cx="1117800" cy="1219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358128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3333ff"/>
                      </a:solidFill>
                      <a:latin typeface="Tahoma"/>
                    </a:rPr>
                    <a:t>Esguinces, contusiones, fracturas.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53664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4654440" y="5221080"/>
                <a:ext cx="888840" cy="1219320"/>
                <a:chOff x="4654440" y="5221080"/>
                <a:chExt cx="888840" cy="121932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98720" y="5221080"/>
                  <a:ext cx="8002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54440" y="5221080"/>
                  <a:ext cx="8888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5543280" y="5221080"/>
                <a:ext cx="1117800" cy="1219320"/>
                <a:chOff x="5543280" y="5221080"/>
                <a:chExt cx="1117800" cy="12193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5587920" y="5221080"/>
                  <a:ext cx="10285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543280" y="5221080"/>
                  <a:ext cx="11178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6661080" y="5221080"/>
                <a:ext cx="1117440" cy="1219320"/>
                <a:chOff x="6661080" y="5221080"/>
                <a:chExt cx="1117440" cy="12193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6705360" y="5221080"/>
                  <a:ext cx="10288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6661080" y="5221080"/>
                  <a:ext cx="11174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7778520" y="5221080"/>
                <a:ext cx="1231920" cy="1219320"/>
                <a:chOff x="7778520" y="5221080"/>
                <a:chExt cx="1231920" cy="121932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7823160" y="5221080"/>
                  <a:ext cx="11430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7778520" y="5221080"/>
                  <a:ext cx="12319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2" name=""/>
            <p:cNvSpPr/>
            <p:nvPr/>
          </p:nvSpPr>
          <p:spPr>
            <a:xfrm>
              <a:off x="179280" y="4149720"/>
              <a:ext cx="8835840" cy="2295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ff"/>
                </a:solidFill>
                <a:latin typeface="Arial Black"/>
              </a:rPr>
              <a:t>AREAS DE AT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565280" y="2006640"/>
            <a:ext cx="29671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rden y Limpieza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ción de Máquin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nstalaciones Eléctric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Herramientas Manu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perficies de Trabaj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Inflamab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ustancias Peligrosa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Gases a Pres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Pasillos de Tránsi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045040" y="2006640"/>
            <a:ext cx="36417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Areas de Apilamiento de Materiale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ñalizaciones y Vías de Escap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Areas de Almacenamient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Motorizad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ios Higiénicos y Bañ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y Prevención de Incendio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luminació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s de Ventil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Equipos de Protección Personal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11720" y="2070360"/>
            <a:ext cx="3268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60160" y="2802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60160" y="3945240"/>
            <a:ext cx="5281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98960" y="5164200"/>
            <a:ext cx="7020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720" y="380340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alumno</cp:lastModifiedBy>
  <dcterms:modified xsi:type="dcterms:W3CDTF">2008-06-10T20:20:06Z</dcterms:modified>
  <cp:revision>20</cp:revision>
  <dc:subject/>
  <dc:title>Presentación de PowerPoint</dc:title>
</cp:coreProperties>
</file>