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01C-567E-4890-A1B7-13CBD48E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BE8-DBA8-4ECB-BFBD-345F8282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A2C6-FA55-41D5-BD08-C4A24849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013-AA3C-47E0-8FE5-1A920324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3976-0A77-47AA-A262-6B17AFD7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D45E-6980-49C8-A113-7CB542AD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774B-96B1-4017-AF65-123C186C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E8A8-A7A3-43A8-B515-04A97A30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44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B15-609D-435A-B25F-DF6E99C1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8FA2-6998-48CE-AA09-0F27E532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562B-9E72-4C0B-B452-8AFA68D6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A89-0DAF-4EAD-B034-FC6D0AC3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D534-4C46-4E68-9449-1E0F5A703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066680" y="6019920"/>
          <a:ext cx="60984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01992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1774800" y="617220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atricio Pinoch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GERENCIA DE PREVENC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1066680"/>
            <a:ext cx="9143640" cy="533520"/>
            <a:chOff x="0" y="1066680"/>
            <a:chExt cx="9143640" cy="533520"/>
          </a:xfrm>
        </p:grpSpPr>
        <p:sp>
          <p:nvSpPr>
            <p:cNvPr id="10" name=""/>
            <p:cNvSpPr/>
            <p:nvPr/>
          </p:nvSpPr>
          <p:spPr>
            <a:xfrm>
              <a:off x="0" y="160020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023840" y="106668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>
              <a:off x="1023840" y="10666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16200000">
            <a:off x="-1098360" y="393516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28880" y="2895480"/>
            <a:ext cx="7924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Ley N° 20.123 - Subcontra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ero  de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6324480"/>
            <a:ext cx="9143640" cy="533520"/>
            <a:chOff x="0" y="6324480"/>
            <a:chExt cx="9143640" cy="533520"/>
          </a:xfrm>
        </p:grpSpPr>
        <p:sp>
          <p:nvSpPr>
            <p:cNvPr id="52" name=""/>
            <p:cNvSpPr/>
            <p:nvPr/>
          </p:nvSpPr>
          <p:spPr>
            <a:xfrm>
              <a:off x="0" y="685800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23840" y="632448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1023840" y="63244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7524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6668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Informar de los Riesgo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, y de las medidas de Preven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a sus trabajadores y a las Empresas Contratistas o Subcontratistas, </a:t>
            </a:r>
            <a:r>
              <a:rPr b="0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ant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l inicio de las faenas, o </a:t>
            </a:r>
            <a:r>
              <a:rPr b="0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cuando se produzcan cambi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en las condiciones del 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4197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Dar cumplimiento a el Decreto Supremo Nº 594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respecto a todos los trabajadores que se desempeñen en la Obra, Faena o Servicio (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spectos sanitarios, disposición de residuos, agua potable, riesgos de higiene industrial. )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7524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5909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Vigilar el cumpli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por parte de los Contratistas y Subcontratistas, de la obligación de informar  los Riesgos,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indicar los procedimientos seguros de trabajo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y las medidas de Prevención de Riesgo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y de la entrega de los EPP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1148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Controlar la constitución y el funciona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los Comités Paritarios y de los Departamentos  de Prevención, cuando correspondan, de acuerdo a D.S.  N°s 40 y 54, Ley Nº 16.74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0574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2767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Facilitar el acces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de los Organismos Administradores de la Ley Nº 16.744, a la Obra, Faena o Servicios, con el objetivo de que cumplan sus funciones (evaluaciones, inspecciones, charlas, HO, INE, Reconocimientos, Investigaciones. ). Coordinar las acciones de estos Organismos Administradores, en la Obra, Faena o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13716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286000"/>
            <a:ext cx="8305560" cy="32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Implementar y aplicar un Sistema de Gestión de la Seguridad y Salud, el que incluirá entre otros los sigui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1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nfeccionar y mantene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al día el Reglamento Especial, para Empresas Contratistas y Subcontratist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nstituir y mantener en funciona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el Comité Paritario y el Departamento de Prevención de Riesgos de Faena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3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ordinar las acciones de Preven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entre las distintas Empresas, desde el día que se inician los trabaj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112536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773360"/>
            <a:ext cx="830592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Implementar y aplicar un Sistema de Gestión de la Seguridad y Salud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cuando en Obra ,Faena o Servicio, laboren mas de 50 trabajadores; el que incluirá entre otros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ontrolar que cada Contratista o Subcontratist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cuente con un procedimiento, frente a los accidentes; a objeto de ofrecer una adecuada y oportuna atención médica, a sus trabaja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5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Velar por el cumplimiento de los indicad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en el artículo Nº 76, informando inmediatamente de un accidente laboral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Arial"/>
              </a:rPr>
              <a:t>fatal o grav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a la Dirección del Trabajo, y al Seremi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6.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Suspender inmediatamente la faen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desalojando el lugar. La reanudación del trabajo se hará previa autorización del fiscalizador, y cuando se hayan solucionado los riesgos que originaron el accid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ctuaciones del Empleador ante Accidente grave o fat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4560" y="175248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rtículo Nº 76, inciso 4° de la Ley Nº 16.74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286000"/>
            <a:ext cx="8642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n caso de accidentes del trabajo fatales o graves,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l Empleador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deberá informar inmediatamente a la Inspección del Trabajo y a la Secretaría Regional Ministerial de Salud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que corresponda,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cerca de la ocurrencia de estos  h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9200" y="3718080"/>
            <a:ext cx="864252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nómina de direcciones, teléfonos y Fax que deben ser utilizados para la notificación, se encuentra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Superintendencia de Seguridad Social: www.suseso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Dirección del Trabajo                           : www.direcciondeltrabajo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Ministerio de Salud                              : www.minsal.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Definición de Accidente grave y fatal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(Circular Nº 2.345, SUSESO)</a:t>
            </a: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915920"/>
            <a:ext cx="791856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Accidente fatal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a causa o con ocasión del trabajo, y que provoca la muerte del trabajador, en forma inmediata o durante su traslado a un centro asisten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Accidente grav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 a causa o con ocasión del trabajo y 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Obligue a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realizar maniobras de resucitación, o a realizar maniobras de resc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Ocurra por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caídas de altura de mas de dos me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rovoqu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en forma inmediata, la amputación o pérdida de cualquier parte del cuer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Que obligu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vacuar el lu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l Empleador autosuspensión de Fa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Inciso 5° del artículo 76 de la Ley Nº 16.74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360" y="2438280"/>
            <a:ext cx="86407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l Empleador deberá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uspender de forma inmediata las Faenas afectadas, y de ser necesario, permitir a los trabajadores la evacuación del lugar de trabajo”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La reanudación de Faena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ólo podrá efectuarse cuando, previa fiscalización del Organismo Fiscalizador, se verifique que se han subsanado las deficiencias constatadas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6000" y="487692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l incumpli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estas obligaciones, son consideradas “faltas gravísimas”, y son sancionadas con multas entre 50 a 150 UT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Faena afectada por un </a:t>
            </a: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ccidente fatal o gra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quella área o puesto de trabajo en que ocurrió el accidente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pudiendo incluso abarcar la Faena en su conjunto, dependiendo de las características y origen del siniestro, y en la cual, de no adoptar la Empresa medidas correctivas inmediatas, se pone en riesgo la seguridad de otros trabajador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1295280"/>
            <a:ext cx="78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antener en la Obra, Faena o Servicio, un Registro actualizado de antecedentes, sea en papel o digital,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2880" y="2057400"/>
            <a:ext cx="86425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ronogram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de la actividades planifi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opia de los Contrat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que mantiene con las Empresas que laboran en Fae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Datos de Contratistas, Subcontratistas y Servicios Transitori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; RUT, Nombre Empresa Organismo Administrador, Nombre del Encargado de Faena, N° de trabajadores, Fecha de Inicio y Término de Fae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Historial de Accidentes y  Enfermedade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Profesionales de la Faen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Informe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Evaluaciones de Ries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Visit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y medidas prescritas por los Organismos Administradores de la Ley N° 16.74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Inspeccione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entidades fiscalizadoras y sus respal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04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quema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22760" y="1295280"/>
            <a:ext cx="1752480" cy="60984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ey N° 20.1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52520" y="2135160"/>
            <a:ext cx="1622520" cy="622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y N°16.7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79920" y="2070000"/>
            <a:ext cx="1406520" cy="6098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ódigo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8840" y="3687840"/>
            <a:ext cx="2392200" cy="11127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. 76 (Modif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ig. 16.01.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Circ. 2.345 SUSES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irc. 2.346 SUS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11560" y="3733920"/>
            <a:ext cx="2373120" cy="10792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. 66 B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6" idx="2"/>
            <a:endCxn id="57" idx="0"/>
          </p:cNvCxnSpPr>
          <p:nvPr/>
        </p:nvCxnSpPr>
        <p:spPr>
          <a:xfrm rot="5400000">
            <a:off x="3715920" y="1252440"/>
            <a:ext cx="230760" cy="1535760"/>
          </a:xfrm>
          <a:prstGeom prst="bentConnector3">
            <a:avLst>
              <a:gd name="adj1" fmla="val 49531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62" name=""/>
          <p:cNvCxnSpPr>
            <a:stCxn id="56" idx="2"/>
            <a:endCxn id="58" idx="0"/>
          </p:cNvCxnSpPr>
          <p:nvPr/>
        </p:nvCxnSpPr>
        <p:spPr>
          <a:xfrm flipH="1" rot="16200000">
            <a:off x="5307840" y="1195200"/>
            <a:ext cx="165600" cy="1585080"/>
          </a:xfrm>
          <a:prstGeom prst="bentConnector3">
            <a:avLst>
              <a:gd name="adj1" fmla="val 49891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63" name=""/>
          <p:cNvCxnSpPr>
            <a:stCxn id="57" idx="2"/>
            <a:endCxn id="59" idx="0"/>
          </p:cNvCxnSpPr>
          <p:nvPr/>
        </p:nvCxnSpPr>
        <p:spPr>
          <a:xfrm rot="5400000">
            <a:off x="1793880" y="2418480"/>
            <a:ext cx="930960" cy="1608840"/>
          </a:xfrm>
          <a:prstGeom prst="bentConnector3">
            <a:avLst>
              <a:gd name="adj1" fmla="val 49980"/>
            </a:avLst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5867280" y="3581280"/>
            <a:ext cx="3124440" cy="13716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ga Título VI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 Trabajo 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égimen de Subcontratació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/>
          <p:nvPr/>
        </p:nvCxnSpPr>
        <p:spPr>
          <a:xfrm>
            <a:off x="3047760" y="3048120"/>
            <a:ext cx="1275480" cy="5976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66" name=""/>
          <p:cNvCxnSpPr/>
          <p:nvPr/>
        </p:nvCxnSpPr>
        <p:spPr>
          <a:xfrm>
            <a:off x="6324120" y="2971800"/>
            <a:ext cx="1335960" cy="356400"/>
          </a:xfrm>
          <a:prstGeom prst="bentConnector3">
            <a:avLst>
              <a:gd name="adj1" fmla="val 49919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sp>
        <p:nvSpPr>
          <p:cNvPr id="67" name=""/>
          <p:cNvSpPr/>
          <p:nvPr/>
        </p:nvSpPr>
        <p:spPr>
          <a:xfrm flipV="1">
            <a:off x="6324480" y="26665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34290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Componentes mínimos del Sistema de Gestión en Salud y Seguridad </a:t>
            </a:r>
            <a:br>
              <a:rPr sz="3200"/>
            </a:b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en el Traba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2057400"/>
            <a:ext cx="79819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Política de Seguridad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y salud en el trabajo ( Gerencia General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Organiz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 estructura de la Prevención, actores y responsabilidades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Planific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 sobre un diagnóstico inicial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valu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 periódica e inclusive a todos los niveles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Acción Pr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mejoras o correctivas ( como resultado de la evalua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1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1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6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Sistema de gest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6765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El Sistema de Gestión de la SST, deberá considerar, entre otros lo siguientes elementos básic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514600"/>
            <a:ext cx="83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ada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 Contratista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y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Subcontratista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deberá formular un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 Programa de Trabaj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aprobado por la respectiva Empresa, y en base a las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directric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la Empresa Princip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733920"/>
            <a:ext cx="8534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La Empresa Principal evaluará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periódicamente el desempeño del Sistema de Gestión, en los distintos niveles de la Organización. Ella determinará cuando evaluar por Obra, Faena, y Servici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9528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n Base a los resultad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obtenidos de la evaluación,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se generarán mecanism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para adoptar las medidas preventivas y correctiv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glamento Especial de Contratis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666880"/>
            <a:ext cx="830556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 ejemplar de este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Reglamento Especial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ser entregado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al Contratista o Subcontratista,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previo al inici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sus labores en la Obra, Faena, o Serv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a copia de este Reglamento Especial, se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incorporar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 al registr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que debe llevar la Empresa Principal ( artículo Nº 5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304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glamento Espe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344600"/>
            <a:ext cx="84247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efinición de los encarg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Programa de Gestión de la S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cciones de coordin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tre las actividades de prevención, entre los distintos Empleadores, como reuniones conjuntas de los Comités y de los Deptos. de Prevención, mecanismo de intercambio de información, y procedimientos de acceso de los respectivos Organismos Administr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Oblig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informar a la Empresa Principal, de cualquier condición, que implique riesgos para la vida y salud de los trabaj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Prohibi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para evitar accidentes o enfermedades, en la Obra, Faena o Servi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ecanismos de la Empresa Principal, para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controlar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San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para Contratistas y Subcontratistas por el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no cumplimien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este Reglamento Espe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6, Decreto Supremo Nº 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295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bligaciones de Contratistas y Sub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98108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-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Cumpli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todas las medidas dadas en materias  de Seguridad y de Salud en el trabajo, que indiquen: La Empresa Principal, Comité Paritario, y el Departamento de Prevención de Riesgos de Fae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312408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795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Dar facilidad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ara que las disposiciones de este Reglamento le sean aplicabl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39625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-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Coordin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con la Empresa Principal, las actividades de Seguridad y de Salud, para cumplir con este Regl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480060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Inform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 la Empresa Principal, al Comité Paritario y al Departamento de Prevención de Riesgos de Faena, de las obligaciones, que impone este Reglam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ISPOSICIONES LEGALES DE PREVENCIÓN DE RIESGOS, PARA SUPERVIS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Haber capacitado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y entrenado a sus trabajadores en los métodos de trabajo, correctos y seguros ( Derecho a Saber ), tener por escrito esta activida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Poder demostrar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la entrega , uso y control de los elementos  de protección person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la capacitación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, sobre la Ley Nº 16.744, y sus Decretos  Suprem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haber hecho entrega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del Reglamento Interno de Orden, Higiene y Seguridad; haber hecho un seguimiento de éste, a objeto de poder constatar, si los trabajadores tomaron conocimiento de él, y que lo leyer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que el Reglamento Interno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, se ha aplicado, con las respectivas sanciones, frente a los incumplimientos de es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que se ha hecho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un seguimiento y control de las medidas de Prevención, indicadas por Comité Paritario, o por el Organismo Administrad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que los Accidentes Laborales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de su área de trabajo, él investiga, y se toman medidas de prevención de Riesgos, las cuales se cumpl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1447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mités Paritarios de Fa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2666880"/>
            <a:ext cx="78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Cuando en una Obra, Faena, o Servicio, el total de los trabajadores ( cualquiera sea su dependencia),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sea superior a 25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siempre que esta condición se mantenga por un período a treinta días,  corridos;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la Empresa Principal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constituir y mantener en funcionamiento un Comité Paritario de Fa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66680" y="1981080"/>
            <a:ext cx="76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aquellas Obras, Faenas, o Servicios, en que existan trabajadores bajo régimen de Subcontratación, y en donde concurran, además, 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trabajadores de Empresas de Servicios Transitori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, éstos deberán ser considerados para los efectos de calcular el número total de trabajadores pres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209680"/>
            <a:ext cx="822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constitución y funcionamiento del Comité Paritario de Faena, </a:t>
            </a:r>
            <a:r>
              <a:rPr b="1" lang="es-CL" sz="2800" spc="-1" strike="noStrike" u="sng">
                <a:solidFill>
                  <a:srgbClr val="ffff00"/>
                </a:solidFill>
                <a:uFillTx/>
                <a:latin typeface="Arial"/>
              </a:rPr>
              <a:t>se regirá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por lo dispuesto por el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.S. Nº 54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de 1969, del Ministerio del Trabajo y Previsión Social,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en todo aquello que no esté regulado por este Reglamento,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o que fuere incompatible con sus dis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2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unciones Comité Paritario de Fae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1981080"/>
            <a:ext cx="86644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Tomar conoci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todas las medidas de Seguridad y Salud, que se programen y realic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Observar y efectua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recomendaciones a las actividades de Prevención, programadas y en ejecución por parte de la Empresa Principal; las cuales deberán disponibles para los distintos Comites Paritarios existen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Participar en las investigacion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los accidentes del trabajo que ocurran; bajo la dirección del Departamento de Prevención de riesgos de Faenas, o del Departamento de Prevención de la Empresa a la cual pertenece el trabajad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1066680"/>
            <a:ext cx="457200" cy="914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-1098360" y="391176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312408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Reglamento para aplicación de Artículos Nº 66 bis y 76 de Ley </a:t>
            </a:r>
            <a:br>
              <a:rPr sz="4000"/>
            </a:b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Nº 16.74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10666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600200"/>
            <a:ext cx="457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844640"/>
            <a:ext cx="8359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os acuerdos adoptados por el Comité Paritario de Faena, en el ejercicio de sus atribuciones, 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deberán ser notificad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a la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mpresa Principal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, 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ontratistas y Subcontratis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, y serán obligatorios para todas las Empresas y sus trabajadores, de la respectiva Obra, Faena, o Servicio. Pudiendo apelar al respectivo Organismo Administrador (artículo Nº 66, Ley Nº 16.744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2133720"/>
            <a:ext cx="806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ando la Empresa Principal, tenga constituido el Comité Paritario de Higiene y Seguridad, en la respectiva Obra, Faena, o Servicio, de acuerdo al D.S. Nº 54, </a:t>
            </a:r>
            <a:r>
              <a:rPr b="1" lang="es-CL" sz="2800" spc="-1" strike="noStrike" u="sng">
                <a:solidFill>
                  <a:srgbClr val="ffff00"/>
                </a:solidFill>
                <a:uFillTx/>
                <a:latin typeface="Arial"/>
              </a:rPr>
              <a:t>este podrá asumir las funcione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del Comité Paritario de Fae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1905120"/>
            <a:ext cx="822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integra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en todos los casos el Comité Paritario de Faena con, al menos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un representante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que designe al efecto y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uno de sus trabaj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3505320"/>
            <a:ext cx="8447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Además, deberá integrar al Comité, al menos, un representante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l Empleado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y uno de los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trabajador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de una de las Empresas Contratistas o Subcontratistas, cuya permanencia en la Obra, Faena, o Servicio sea igual o superior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a 30 día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y que tenga mayor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númer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trabajado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220968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anto la Empresa Principal, como las Empresas Contratistas y Subcontratistas,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</a:rPr>
              <a:t>deberán otorgar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todas las facilidades necesarias a sus trabajadores, para que participen en las actividades del Comité Paritario de Fae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Departamentos de Prevención de Riesgos </a:t>
            </a: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de Fae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 Nº 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905120"/>
            <a:ext cx="79246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Empresa Principal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deberá constituir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y mantener en funcionamiento un Departamento de Riesgos de Faena, cuando el total de trabajadores, que prestan servicios en la Obra, Faena, o Servicio, sea superior a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100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; siempre que está condición se mantenga por un período igual o superior a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30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</a:rPr>
              <a:t> días corridos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220968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Departamento de Prevención de Riesgos de Faena, 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</a:rPr>
              <a:t>se regirá por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 el Título III del D.S. Nº 40 de 1969,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del Ministerio del Trabajo y Previsión Social, en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todo aquello que no esté regulado por este Reglam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1828800"/>
            <a:ext cx="77724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Si la 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</a:rPr>
              <a:t>Empresa Principal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, contare con su propio Departamento de Prevención de Riesgos Profesionales, de acuerdo a lo establecido en el D.S. Nº 40;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éste deberá asumir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las funciones indicadas en este Reglamento, para el Departamento de Prevención de Riesgos de Faena, además de sus propias fun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2286000"/>
            <a:ext cx="73915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El Departamento de Prevención de Riesgos de Faena,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deberá estar a cargo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, de un Experto en Prevención de Riesgos, de la categoría Profesional, y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contratado a tiempo comple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 del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8288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-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Particip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la implementación y aplicación del Sistema de Gestión de la S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5909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Otorgar asistencia técnic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 las Empresas Contratistas y Subcontratistas, cuando no cuenten con Departamento de Prevención de Ries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3809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Coordinar y control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la Gestión Preventiva de los Departamentos de Prevención de Riesgos, existentes en la Obra, Faena, o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8006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Asesor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Comité Paritario de Faena, cuando este lo requ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D.S. Nº 76</a:t>
            </a:r>
            <a:br>
              <a:rPr sz="3600"/>
            </a:b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Estructura del Reglamen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4560" y="1989000"/>
            <a:ext cx="7994880" cy="36244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  : Disposiciones Gen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I : Sistema de Gestión de la Seguridad y Salud e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II: Reglamento especial para Empresas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ratistas y Subcontrat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V: Los Comités Paritarios de Fa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V : Los Departamentos de Prevención de Fa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VI: Disposiciones Fi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 del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752480"/>
            <a:ext cx="838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5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Investigar coordinadam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con los Departamentos y Comités de Faena, los accidentes del trabajo, que ocurran en la Obra, Faena, o Servicio; manteniendo un registro de resultados y del control de las medi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312408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6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Mantener un registro actualizad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las estadísticas de accidentes y enfermedades, ocurridos en la Obra, Faena, o Servicio; debiendo determinar, tasas de accidentabilidad, frecuencia, gravedad y siniestralidad to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46483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7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Coordinar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las acciones que deban realizar los respectivos Organismos Administradores, o que hayan sido solicitadas por los Contratistas o Subcontratis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43000" y="2286000"/>
            <a:ext cx="73915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, así como los Contratistas o Subcontratistas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estarán obligadas a adopta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y poner en práctica las medidas de Prevención, que les indique el Departamento de Prevención de Riesgos en Fae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Podrán apelar, de acuerdo a lo señalado en el artículo Nº 66 de la Ley Nº 16.74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6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5490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66 b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916280"/>
            <a:ext cx="8370720" cy="2654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obre materias relativas a la Seguridad y Salud en el trabajo, para aquellas Empresas que contraten o subcontraten con otras la realización de una Obra, Faena, o Servicios propios de su giro, así como para sus contratistas y subcontratistas;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on la finalidad de proteger la vida y salud de todos los trabajadores, que laboran en dichos lug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14400" y="304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I. Régimen de Subcontra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268280"/>
            <a:ext cx="856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Habitualidad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o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 Permanencia: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quedan fuera los servicios discontinuos o esporád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Obra,  Faena, o Servici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las obras, faenas o servicios deben pertenecer y estar bajo la dirección de la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Empresa Principal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independiente del lugar físico en que se realicen, c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Empleador directo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si faltan requisitos de concepto legal o hay mera intermediación de trabajadores, Empresa Principal se considera como empleador directo, sin perjuicio de multas ( de 5 a 100 UT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52480" y="5335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 Unicode MS"/>
              </a:rPr>
              <a:t>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MPRESA PRINCIP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1752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MPRESA USUAR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971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3352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4038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UB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62920" y="2209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NTRATA TRABAJADORES DE  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44370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53760" y="522936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UB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1143000"/>
            <a:ext cx="9143640" cy="533520"/>
            <a:chOff x="0" y="1143000"/>
            <a:chExt cx="9143640" cy="533520"/>
          </a:xfrm>
        </p:grpSpPr>
        <p:sp>
          <p:nvSpPr>
            <p:cNvPr id="93" name=""/>
            <p:cNvSpPr/>
            <p:nvPr/>
          </p:nvSpPr>
          <p:spPr>
            <a:xfrm>
              <a:off x="0" y="167652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23840" y="114300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1023840" y="1143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EMPRESA PRINCIP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1371600"/>
            <a:ext cx="297180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Empres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352680"/>
            <a:ext cx="190476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Contrat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5867280"/>
            <a:ext cx="190512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Trabaj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285920" y="1676520"/>
            <a:ext cx="291456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059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05931"/>
              </a:path>
            </a:pathLst>
          </a:custGeom>
          <a:noFill/>
          <a:ln cap="sq"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1278000" y="1594080"/>
            <a:ext cx="5063040" cy="458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08" y="30"/>
                </a:moveTo>
                <a:arcTo wR="10800" hR="10800" stAng="-5142659" swAng="4741100"/>
                <a:lnTo>
                  <a:pt x="10800" y="10800"/>
                </a:lnTo>
                <a:close/>
              </a:path>
              <a:path fill="none" w="21600" h="21600">
                <a:moveTo>
                  <a:pt x="11608" y="30"/>
                </a:moveTo>
                <a:arcTo wR="10800" hR="10800" stAng="-5142659" swAng="4741100"/>
              </a:path>
            </a:pathLst>
          </a:custGeom>
          <a:noFill/>
          <a:ln cap="sq" w="38160">
            <a:solidFill>
              <a:srgbClr val="ff33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267080" y="1535040"/>
            <a:ext cx="3809880" cy="441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09" y="23"/>
                </a:moveTo>
                <a:arcTo wR="10800" hR="10800" stAng="-5174003" swAng="9742624"/>
                <a:lnTo>
                  <a:pt x="10800" y="10800"/>
                </a:lnTo>
                <a:close/>
              </a:path>
              <a:path fill="none" w="21600" h="21600">
                <a:moveTo>
                  <a:pt x="11509" y="23"/>
                </a:moveTo>
                <a:arcTo wR="10800" hR="10800" stAng="-5174003" swAng="9742624"/>
              </a:path>
            </a:pathLst>
          </a:custGeom>
          <a:noFill/>
          <a:ln w="38160">
            <a:solidFill>
              <a:srgbClr val="ff3300"/>
            </a:solidFill>
            <a:prstDash val="lgDashDotDot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514600"/>
            <a:ext cx="3124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Simulación o Subterfu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(se presume subordinación y depende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2286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Contrato  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572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Contrato   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1143000"/>
            <a:ext cx="9143640" cy="533520"/>
            <a:chOff x="0" y="1143000"/>
            <a:chExt cx="9143640" cy="533520"/>
          </a:xfrm>
        </p:grpSpPr>
        <p:sp>
          <p:nvSpPr>
            <p:cNvPr id="107" name=""/>
            <p:cNvSpPr/>
            <p:nvPr/>
          </p:nvSpPr>
          <p:spPr>
            <a:xfrm>
              <a:off x="0" y="167652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23840" y="114300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023840" y="1143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CRITERIO  PARA EVITAR DOBLE SUBORDIN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1447920"/>
            <a:ext cx="297180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Empres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5168880"/>
            <a:ext cx="190512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Trabaj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1740240" y="3713760"/>
            <a:ext cx="6725160" cy="186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42" y="235"/>
                </a:moveTo>
                <a:arcTo wR="10800" hR="10800" stAng="-4681117" swAng="3002891"/>
                <a:lnTo>
                  <a:pt x="10800" y="10800"/>
                </a:lnTo>
                <a:close/>
              </a:path>
              <a:path fill="none" w="21600" h="21600">
                <a:moveTo>
                  <a:pt x="13042" y="235"/>
                </a:moveTo>
                <a:arcTo wR="10800" hR="10800" stAng="-4681117" swAng="3002891"/>
              </a:path>
            </a:pathLst>
          </a:custGeom>
          <a:noFill/>
          <a:ln cap="sq" w="38160">
            <a:solidFill>
              <a:srgbClr val="ff33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14600"/>
            <a:ext cx="243828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Administrador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4191120"/>
            <a:ext cx="243828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Administrador Contrat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09680" y="3429000"/>
            <a:ext cx="76320" cy="68580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27432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imes New Roman"/>
                <a:ea typeface="MS Mincho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609280" y="1565640"/>
            <a:ext cx="2236320" cy="182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702" y="169"/>
                </a:moveTo>
                <a:arcTo wR="10800" hR="10800" stAng="-4791454" swAng="4651526"/>
                <a:lnTo>
                  <a:pt x="10800" y="10800"/>
                </a:lnTo>
                <a:close/>
              </a:path>
              <a:path fill="none" w="21600" h="21600">
                <a:moveTo>
                  <a:pt x="12702" y="169"/>
                </a:moveTo>
                <a:arcTo wR="10800" hR="10800" stAng="-4791454" swAng="4651526"/>
              </a:path>
            </a:pathLst>
          </a:custGeom>
          <a:noFill/>
          <a:ln cap="sq"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8000" y="1679400"/>
            <a:ext cx="3808440" cy="381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07893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078936"/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8:47:34Z</dcterms:created>
  <dc:creator>Achs</dc:creator>
  <dc:description/>
  <dc:language>en-US</dc:language>
  <cp:lastModifiedBy>.</cp:lastModifiedBy>
  <dcterms:modified xsi:type="dcterms:W3CDTF">2008-05-13T14:41:41Z</dcterms:modified>
  <cp:revision>206</cp:revision>
  <dc:subject/>
  <dc:title>Presentación de PowerPoint</dc:title>
</cp:coreProperties>
</file>