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EC00F-B267-4B98-8B6B-3C7EC46EF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8CB6F-6A99-450B-B11D-7E9045C6E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38D25-E6ED-417C-A1D5-999AB62A0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2983C-21EB-4A36-8C18-34BAFBF72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21725-01B0-4F2B-9B7E-E2C214C46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860CC-F077-4F38-9E8D-36071B678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F2F7E-CA59-4F1D-B548-C3D1264C9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E2944-750F-4C94-95D7-41156DB4B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C0FC1-4810-4362-A757-1F8C6D88D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2BFCB-1F38-4687-A35E-586C650E2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2476D-CDC9-4B3D-8BDF-05D34DE54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EB3AF-B76E-4233-AE59-5723A76F5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D7EA9-779F-4BC6-8DFB-85599FDB18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 CI 69 E “</a:t>
            </a:r>
            <a:endParaRPr b="0" lang="en-US" sz="4400" spc="-1" strike="noStrike">
              <a:solidFill>
                <a:srgbClr val="000000"/>
              </a:solidFill>
              <a:latin typeface="Arial"/>
            </a:endParaRPr>
          </a:p>
        </p:txBody>
      </p:sp>
      <p:sp>
        <p:nvSpPr>
          <p:cNvPr id="4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AUTORIZAR EL CURSO CI 69 H</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lazo para desarrollar la Memoria es de 1 año calend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 debe justificar que el Tema califica para 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otorgar la autorización el Director tiene en consideración los antecedentes académicos del estudiante y la naturaleza del Te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CI 69 F”</a:t>
            </a:r>
            <a:endParaRPr b="0" lang="en-US" sz="4400" spc="-1" strike="noStrike">
              <a:solidFill>
                <a:srgbClr val="000000"/>
              </a:solidFill>
              <a:latin typeface="Arial"/>
            </a:endParaRPr>
          </a:p>
        </p:txBody>
      </p:sp>
      <p:sp>
        <p:nvSpPr>
          <p:cNvPr id="67" name="PlaceHolder 2"/>
          <p:cNvSpPr>
            <a:spLocks noGrp="1"/>
          </p:cNvSpPr>
          <p:nvPr>
            <p:ph type="subTitle"/>
          </p:nvPr>
        </p:nvSpPr>
        <p:spPr>
          <a:xfrm>
            <a:off x="1258560" y="-19800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627840"/>
            <a:ext cx="8281800" cy="58626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IDADES CI 69F/CI 69H</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mestre Otoño 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arrollar Trabajo de Título de acuerdo a Temario, Programa y Metodología de trabajo aprobados en curso CI 69E.</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y presentar Informe Final de 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TIVIDAD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 Sesiones de Clas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ías jueves 16:15 – 17:45 hr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marios Aprobados y Compromiso Comisiones de Titulación: </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marios deben ser entregados en Secretaría Docente, con la firma del Profesor Guía junto a la carta Compromiso firmada por los integrantes de la Comisión de Titulación, </a:t>
            </a:r>
            <a:r>
              <a:rPr b="1" lang="es-ES" sz="1400" spc="-1" strike="noStrike">
                <a:solidFill>
                  <a:srgbClr val="000000"/>
                </a:solidFill>
                <a:latin typeface="Arial"/>
              </a:rPr>
              <a:t>hasta el 03/04/2006</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Presentaciones Orales Individuales</a:t>
            </a:r>
            <a:r>
              <a:rPr b="0" lang="es-ES" sz="1400" spc="-1" strike="noStrike">
                <a:solidFill>
                  <a:srgbClr val="000000"/>
                </a:solidFill>
                <a:latin typeface="Arial"/>
              </a:rPr>
              <a:t> de avance del trabajo en desarrol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1: Semanas  6, 7, 8</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 partir del 07/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2: Semanas 12, 13, 14</a:t>
            </a:r>
            <a:r>
              <a:rPr b="0" lang="es-ES" sz="1400" spc="-1" strike="noStrike">
                <a:solidFill>
                  <a:srgbClr val="000000"/>
                </a:solidFill>
                <a:latin typeface="Arial"/>
              </a:rPr>
              <a:t>	</a:t>
            </a:r>
            <a:r>
              <a:rPr b="0" lang="es-ES" sz="1400" spc="-1" strike="noStrike">
                <a:solidFill>
                  <a:srgbClr val="000000"/>
                </a:solidFill>
                <a:latin typeface="Arial"/>
              </a:rPr>
              <a:t>(a partir del 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Informes de Avance.</a:t>
            </a:r>
            <a:r>
              <a:rPr b="0" lang="es-ES" sz="1400" spc="-1" strike="noStrike">
                <a:solidFill>
                  <a:srgbClr val="000000"/>
                </a:solidFill>
                <a:latin typeface="Arial"/>
              </a:rPr>
              <a:t>  Estos informes pretenden obligar al alumno a asumir tanto el desarrollo del trabajo en sí, como la redacción y preparación del Informe Final en forma constante durante el semestre.  Cada informe deberá estar estructurado en la forma más cercana a lo que será el Informe Final, y el contenido debería corresponder a la presentación de capítulos definidos.  Estos informes serán calificados por el Prof. Guía y Co-Guía y corresponderán a las notas parciales del curs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1: Semana 7</a:t>
            </a:r>
            <a:r>
              <a:rPr b="0" lang="es-ES" sz="1400" spc="-1" strike="noStrike">
                <a:solidFill>
                  <a:srgbClr val="000000"/>
                </a:solidFill>
                <a:latin typeface="Arial"/>
              </a:rPr>
              <a:t>	</a:t>
            </a:r>
            <a:r>
              <a:rPr b="0" lang="es-ES" sz="1400" spc="-1" strike="noStrike">
                <a:solidFill>
                  <a:srgbClr val="000000"/>
                </a:solidFill>
                <a:latin typeface="Arial"/>
              </a:rPr>
              <a:t>(14/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2: Semana 12</a:t>
            </a:r>
            <a:r>
              <a:rPr b="0" lang="es-ES" sz="1400" spc="-1" strike="noStrike">
                <a:solidFill>
                  <a:srgbClr val="000000"/>
                </a:solidFill>
                <a:latin typeface="Arial"/>
              </a:rPr>
              <a:t>	</a:t>
            </a:r>
            <a:r>
              <a:rPr b="0" lang="es-ES" sz="1400" spc="-1" strike="noStrike">
                <a:solidFill>
                  <a:srgbClr val="000000"/>
                </a:solidFill>
                <a:latin typeface="Arial"/>
              </a:rPr>
              <a:t>(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forme Final.</a:t>
            </a:r>
            <a:r>
              <a:rPr b="0" lang="es-ES" sz="1400" spc="-1" strike="noStrike">
                <a:solidFill>
                  <a:srgbClr val="000000"/>
                </a:solidFill>
                <a:latin typeface="Arial"/>
              </a:rPr>
              <a:t>  Borrador se entrega en Secretaría Docente hasta el día </a:t>
            </a:r>
            <a:r>
              <a:rPr b="1" lang="es-ES" sz="1400" spc="-1" strike="noStrike">
                <a:solidFill>
                  <a:srgbClr val="000000"/>
                </a:solidFill>
                <a:latin typeface="Arial"/>
              </a:rPr>
              <a:t>12/07/2008.</a:t>
            </a:r>
            <a:r>
              <a:rPr b="0" lang="es-ES" sz="1400" spc="-1" strike="noStrike">
                <a:solidFill>
                  <a:srgbClr val="000000"/>
                </a:solidFill>
                <a:latin typeface="Arial"/>
              </a:rPr>
              <a:t>  Los alumnos inscritos en el curso CI 69H deberán entregar un Informe de Avance en la misma fech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ISTENCI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bligatoria a todas las ses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040" y="-530028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 69F  TRABAJO DE TITUL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MPROMISO COMISION DE TITULA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carta los Profesores que firman declaran estar de acuerdo en participar en la Comisión de Titulación del Trabajo de Título individualizado más adelante.  Se adjunta Temario de Título aprobado por la Comisión de Titulación del Departamento de Ingeniería Civil; si éste merece algunos comentarios de su parte, se ruega hacerlos llegar a la brevedad a la Secretaría Docente de D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UM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UT:................................................................</a:t>
            </a:r>
            <a:r>
              <a:rPr b="0" lang="es-ES_tradnl" sz="1200" spc="-1" strike="noStrike">
                <a:solidFill>
                  <a:srgbClr val="000000"/>
                </a:solidFill>
                <a:latin typeface="Arial"/>
              </a:rPr>
              <a:t>	</a:t>
            </a:r>
            <a:r>
              <a:rPr b="0" lang="es-ES_tradnl" sz="1200" spc="-1" strike="noStrike">
                <a:solidFill>
                  <a:srgbClr val="000000"/>
                </a:solidFill>
                <a:latin typeface="Arial"/>
              </a:rPr>
              <a:t>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SECCION CI 69F/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 MEMOR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GUIA:.........................................................   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ENTARIOS AL TEMARIO PRESENTA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FIRMA PROF. CO-GUIA</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FIRMA PROF. INTEGRAN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Nombre:</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Nomb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tia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ION COMISION EN EL SISTEMA DE TITULACIO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los miembros de la Comisión Examinad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si es necesario solicitar nombramiento de examinador adjunto a algun miembro de la Com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ON DEL TITULO DEL TEMA</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hay cambio de titulo se requiere carta del prof. Guía en que indique el nuevo título (porque representa mejor al tema trat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a carta se debe dejar expreso que solo se trata de un cambio de título pero que no ha habido cambios en el Temario aprobado originalmente por la Comisión de Tit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AMBIO DE PROFESOR DE LA COMISION EAMINADORA</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carta del profesor guía solicitando el cambio por existir otra persona que tiene mas afinidad con el tema u otra ca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nativamente carta del profesor a cambiar en que renuncia a dicha desig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cer carta Gantt para terminar en los plazos y evitar solicitar prórro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rometer anticipadamente al profesor guía para que asista a las presentaciones pers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457840" y="-198180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7772040" y="146052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
          <p:cNvSpPr/>
          <p:nvPr/>
        </p:nvSpPr>
        <p:spPr>
          <a:xfrm>
            <a:off x="669960" y="389520"/>
            <a:ext cx="7247160" cy="1386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CI 69E  INTRODUCCION AL TRABAJO DE TÍTULO</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estre Otoño 2008</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OBJETIV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Definir Temario Trabajo de Título (Objetivos Generales y Alcances del Tema).</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Establecer Programa de Trabajo y Actividades a realizar para alcanzar los objetivos propuest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Revisar y discutir bibliografía y antecedentes para establecer el estado actual del tema y metodología a emplear.</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ES</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6" name=""/>
          <p:cNvGraphicFramePr/>
          <p:nvPr/>
        </p:nvGraphicFramePr>
        <p:xfrm>
          <a:off x="684360" y="1989000"/>
          <a:ext cx="5626080" cy="3502080"/>
        </p:xfrm>
        <a:graphic>
          <a:graphicData uri="http://schemas.openxmlformats.org/drawingml/2006/table">
            <a:tbl>
              <a:tblPr/>
              <a:tblGrid>
                <a:gridCol w="765000"/>
                <a:gridCol w="809640"/>
                <a:gridCol w="4051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a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Fech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0" lang="es-ES_tradnl" sz="1100" spc="-1" strike="noStrike">
                          <a:solidFill>
                            <a:srgbClr val="000000"/>
                          </a:solidFill>
                          <a:latin typeface="Arial"/>
                          <a:ea typeface="Times New Roman"/>
                        </a:rPr>
                        <a:t>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0/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4/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3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7/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2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8/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05/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9/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6/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2/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9/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6/06/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 Inscripción alumnos seccio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rganización Curs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bjetivos, Alcanc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ferencias Bibliográf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paración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3300"/>
                          </a:solidFill>
                          <a:latin typeface="Arial"/>
                          <a:ea typeface="Times New Roman"/>
                        </a:rPr>
                        <a:t>Los alumnos que a esta fecha no tengan tema se sugiere eliminar CI</a:t>
                      </a:r>
                      <a:r>
                        <a:rPr b="1" lang="es-ES_tradnl" sz="800" spc="-1" strike="noStrike">
                          <a:solidFill>
                            <a:srgbClr val="000000"/>
                          </a:solidFill>
                          <a:latin typeface="Arial"/>
                          <a:ea typeface="Times New Roman"/>
                        </a:rPr>
                        <a:t> </a:t>
                      </a:r>
                      <a:r>
                        <a:rPr b="1" lang="es-ES_tradnl" sz="800" spc="-1" strike="noStrike">
                          <a:solidFill>
                            <a:srgbClr val="ff3300"/>
                          </a:solidFill>
                          <a:latin typeface="Arial"/>
                          <a:ea typeface="Times New Roman"/>
                        </a:rPr>
                        <a:t>69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Informe N°1: Temari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Entrega Carta Compromiso Profesores Guía</a:t>
                      </a:r>
                      <a:r>
                        <a:rPr b="0" lang="es-ES_tradnl"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Solicitud Inscripción CI 69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ea typeface="Times New Roman"/>
                        </a:rPr>
                        <a:t>Vacacione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  Informe Nº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ff3300"/>
                          </a:solidFill>
                          <a:uFillTx/>
                          <a:latin typeface="Arial"/>
                          <a:ea typeface="Times New Roman"/>
                        </a:rPr>
                        <a:t>Entrega Informe Final</a:t>
                      </a:r>
                      <a:r>
                        <a:rPr b="1" lang="es-ES_tradnl" sz="1100" spc="-1" strike="noStrike">
                          <a:solidFill>
                            <a:srgbClr val="ff3300"/>
                          </a:solidFill>
                          <a:latin typeface="Arial"/>
                          <a:ea typeface="Times New Roman"/>
                        </a:rPr>
                        <a:t> (Sec. Doc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250920" y="5650920"/>
            <a:ext cx="8586720" cy="7167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SISTENCIA</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asistencia es obligatoria.  Las clases se realizarán los días jueves de 16:15 a 17:45 hrs, excepto aquellas secciones que han convenido realizar las clases en otro horario.</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presencia del Profesor Guía es obligatoria en la última presentación individ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 69 E</a:t>
            </a:r>
            <a:br>
              <a:rPr sz="4000"/>
            </a:br>
            <a:r>
              <a:rPr b="0" lang="es-ES_tradnl" sz="4000" spc="-1" strike="noStrike">
                <a:solidFill>
                  <a:srgbClr val="000000"/>
                </a:solidFill>
                <a:latin typeface="Arial"/>
              </a:rPr>
              <a:t>SECCIONE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1 CONSTRUCCION Prof. C. Aguiler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ESTRUCTURAS    Prof. R. Boroschek</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F. Beltrá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3 TRANSPORTES</a:t>
            </a:r>
            <a:r>
              <a:rPr b="0" lang="es-ES_tradnl" sz="3200" spc="-1" strike="noStrike">
                <a:solidFill>
                  <a:srgbClr val="000000"/>
                </a:solidFill>
                <a:latin typeface="Arial"/>
              </a:rPr>
              <a:t>	</a:t>
            </a:r>
            <a:r>
              <a:rPr b="0" lang="es-ES_tradnl" sz="3200" spc="-1" strike="noStrike">
                <a:solidFill>
                  <a:srgbClr val="000000"/>
                </a:solidFill>
                <a:latin typeface="Arial"/>
              </a:rPr>
              <a:t>    Prof. A. Alde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4 HIDRAULICA/         Prof. X. varga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ANITARIA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5 GEOTECNIA           Prof. P. Acevedo</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L. Gonzalez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79280" y="1143000"/>
            <a:ext cx="882036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 AL TRABAJO DE TITUL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OMPROMISO PROFESORES GU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a carta, el Profesor firmante se compromete a participar como Profesor Guía del Trabajo de Título más adelante individualiz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UM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T:................................................................</a:t>
            </a:r>
            <a:r>
              <a:rPr b="0" lang="es-ES_tradnl" sz="1400" spc="-1" strike="noStrike">
                <a:solidFill>
                  <a:srgbClr val="000000"/>
                </a:solidFill>
                <a:latin typeface="Arial"/>
              </a:rPr>
              <a:t>	</a:t>
            </a:r>
            <a:r>
              <a:rPr b="0" lang="es-ES_tradnl" sz="1400" spc="-1" strike="noStrike">
                <a:solidFill>
                  <a:srgbClr val="000000"/>
                </a:solidFill>
                <a:latin typeface="Arial"/>
              </a:rPr>
              <a:t>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C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SECCION CI 69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A MEMO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GUIA:...........................................................  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ES COMISION: (El Prof. Guía debe indicar posibles Profesores para integrar Comisión de Titulación en este Te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Alum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Profesor Gu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tiag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79280" y="96120"/>
            <a:ext cx="8640720" cy="6075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ocente-DI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MARIO TRABAJO DE TITUL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MBRE ALUMN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UT/Nº MATRICUL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GU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CURSO CI 69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TULO DEL TEMA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ME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 breve resumen de la propuesta de Trabajo de Título, de no más de 250 palabras, en el que se indique objetivos, metodología a utilizar y 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MOTIVACIO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a breve introducción respecto del tema en que se enmarca el Trabajo de Título, explicando la motivación para desarrollar el trabajo que se propon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allar los objetivos generales y específicos propuest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TODOLOG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brevemente la metodología que se propone utilizar para completar los objetivos antes indic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ñalar los principales resultados que se espera obtener al completar 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BLIOGRAFIA Y REFERENCIA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cluir una lista con las referencias bibliográficas a ser usadas para el desarrollo d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OCUMENTOS COMPLEMENTARIO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Si el tema incluye ensayos d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aboratorios se debe adjuntar:</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000000"/>
                </a:solidFill>
                <a:latin typeface="Arial"/>
              </a:rPr>
              <a:t>a) Carta Gantt en que se indique el númer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 ensayos a efectua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Carta compromiso de quién proporcionará los </a:t>
            </a:r>
            <a:r>
              <a:rPr b="0" lang="es-ES_tradnl" sz="2000" spc="-1" strike="noStrike">
                <a:solidFill>
                  <a:srgbClr val="000000"/>
                </a:solidFill>
                <a:latin typeface="Arial"/>
              </a:rPr>
              <a:t>	</a:t>
            </a:r>
            <a:r>
              <a:rPr b="0" lang="es-ES_tradnl" sz="2000" spc="-1" strike="noStrike">
                <a:solidFill>
                  <a:srgbClr val="000000"/>
                </a:solidFill>
                <a:latin typeface="Arial"/>
              </a:rPr>
              <a:t>equipos y materiales necesarios.</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Si el Tema incluye la utilización de software especial o banco de datos privados se debe presentar Carta compromiso de quién lo proporcionará.</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ISION DE TIITULAC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misión está compuesta de 4 profesores del Depart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une para revisar los Temarios presentados y los aprueba u obj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el Temario es aprobado desina la Comisión Examinadora (1 P.G; 1 P.C.G.; 1 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00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rá ser académico de jornada completa o parcial de la Universidad de Chile. Excepcionalmente a propuesta de la Comisión de Titulación podrá ser Examinador Adju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Coguía y el Integrante podrán ser académicos o examinadores adjun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Prof. Guía no sea académico de la Facultad, el Coguía deberá ser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r un Tema acorde con sus intereses o ha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tes de decidir: a) leer sobre el Tema y b) entender claramente el trabajo a desarro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8:32:09Z</dcterms:created>
  <dc:creator>Carlos Aguilera</dc:creator>
  <dc:description/>
  <dc:language>en-US</dc:language>
  <cp:lastModifiedBy>Carlos Aguilera</cp:lastModifiedBy>
  <dcterms:modified xsi:type="dcterms:W3CDTF">2008-03-13T17:49:55Z</dcterms:modified>
  <cp:revision>4</cp:revision>
  <dc:subject/>
  <dc:title>Diapositiva 1</dc:title>
</cp:coreProperties>
</file>