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D9E64A-2146-4D6E-A283-D3D5A9E4A7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4CC23A-653E-4613-AD26-F77DFE2278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9B9BD3-EA9D-43F2-A0AD-22F184921D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DEAC24-0A2F-42D7-91FA-90C1C38CED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174F3D-CB6D-4EF7-85CF-E06E142420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6F92F9-959D-4BC0-B783-A1FECD2F61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69D48A-10A6-4191-8048-945FFC6C21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7E5074-83F5-4826-9FD0-7C347A387A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E924C2-F64A-4566-80CD-B487344D72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7806D-7D04-41B6-852C-A28FBDCE18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8B9C8-A5E8-4202-99D9-CD1A06D86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44368-85F7-4AAB-8050-1EF225092F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68B33-1B9D-467B-BE18-09D7C036CE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2636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urso “ CI 69 E “</a:t>
            </a:r>
            <a:endParaRPr b="0" lang="en-US" sz="4400" spc="-1" strike="noStrike">
              <a:solidFill>
                <a:srgbClr val="000000"/>
              </a:solidFill>
              <a:latin typeface="Arial"/>
            </a:endParaRPr>
          </a:p>
        </p:txBody>
      </p:sp>
      <p:sp>
        <p:nvSpPr>
          <p:cNvPr id="42" name="PlaceHolder 2"/>
          <p:cNvSpPr>
            <a:spLocks noGrp="1"/>
          </p:cNvSpPr>
          <p:nvPr>
            <p:ph/>
          </p:nvPr>
        </p:nvSpPr>
        <p:spPr>
          <a:xfrm>
            <a:off x="8686800" y="6021000"/>
            <a:ext cx="133200" cy="104760"/>
          </a:xfrm>
          <a:prstGeom prst="rect">
            <a:avLst/>
          </a:prstGeom>
          <a:noFill/>
          <a:ln w="0">
            <a:noFill/>
          </a:ln>
        </p:spPr>
        <p:txBody>
          <a:bodyPr lIns="90000" rIns="90000" tIns="46800" bIns="46800" anchor="t">
            <a:normAutofit fontScale="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RITERIOS PARA AUTORIZAR EL CURSO CI 69 H</a:t>
            </a:r>
            <a:endParaRPr b="0" lang="en-US" sz="2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lazo para desarrollar la Memoria es de 1 año calendar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rof. Guía debe debe justificar que el Tema califica para 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ara otorgar la autorización el Director tiene en consideración los antecedentes académicos del estudiante y la naturaleza del Tem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urso “CI 69 F”</a:t>
            </a:r>
            <a:endParaRPr b="0" lang="en-US" sz="4400" spc="-1" strike="noStrike">
              <a:solidFill>
                <a:srgbClr val="000000"/>
              </a:solidFill>
              <a:latin typeface="Arial"/>
            </a:endParaRPr>
          </a:p>
        </p:txBody>
      </p:sp>
      <p:sp>
        <p:nvSpPr>
          <p:cNvPr id="67" name="PlaceHolder 2"/>
          <p:cNvSpPr>
            <a:spLocks noGrp="1"/>
          </p:cNvSpPr>
          <p:nvPr>
            <p:ph type="subTitle"/>
          </p:nvPr>
        </p:nvSpPr>
        <p:spPr>
          <a:xfrm>
            <a:off x="1258560" y="-198000"/>
            <a:ext cx="112680" cy="12171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
          <p:cNvSpPr/>
          <p:nvPr/>
        </p:nvSpPr>
        <p:spPr>
          <a:xfrm>
            <a:off x="250920" y="627840"/>
            <a:ext cx="8281800" cy="5862600"/>
          </a:xfrm>
          <a:prstGeom prst="rect">
            <a:avLst/>
          </a:prstGeom>
          <a:noFill/>
          <a:ln w="0">
            <a:noFill/>
          </a:ln>
        </p:spPr>
        <p:style>
          <a:lnRef idx="0"/>
          <a:fillRef idx="0"/>
          <a:effectRef idx="0"/>
          <a:fontRef idx="minor"/>
        </p:style>
        <p:txBody>
          <a:bodyPr lIns="90000" rIns="90000" tIns="46800" bIns="0" anchor="ctr">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CTIVIDADES CI 69F/CI 69H</a:t>
            </a:r>
            <a:endParaRPr b="0" lang="en-US" sz="18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RABAJO DE TÍTULO/MEMORIA DE TÍTUL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emestre Otoño 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OBJETIVO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esarrollar Trabajo de Título de acuerdo a Temario, Programa y Metodología de trabajo aprobados en curso CI 69E.</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parar y presentar Informe Final de Trabajo de Título/Memoria de Títul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CTIVIDADE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15 Sesiones de Clase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Días jueves 16:15 – 17:45 hr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emarios Aprobados y Compromiso Comisiones de Titulación: </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emarios deben ser entregados en Secretaría Docente, con la firma del Profesor Guía junto a la carta Compromiso firmada por los integrantes de la Comisión de Titulación, </a:t>
            </a:r>
            <a:r>
              <a:rPr b="1" lang="es-ES" sz="1400" spc="-1" strike="noStrike">
                <a:solidFill>
                  <a:srgbClr val="000000"/>
                </a:solidFill>
                <a:latin typeface="Arial"/>
              </a:rPr>
              <a:t>hasta el 03/04/2006</a:t>
            </a:r>
            <a:r>
              <a:rPr b="0" lang="es-ES"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2 Presentaciones Orales Individuales</a:t>
            </a:r>
            <a:r>
              <a:rPr b="0" lang="es-ES" sz="1400" spc="-1" strike="noStrike">
                <a:solidFill>
                  <a:srgbClr val="000000"/>
                </a:solidFill>
                <a:latin typeface="Arial"/>
              </a:rPr>
              <a:t> de avance del trabajo en desarroll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Presentación 1: Semanas  6, 7, 8</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a partir del 07/04/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Presentación 2: Semanas 12, 13, 14</a:t>
            </a:r>
            <a:r>
              <a:rPr b="0" lang="es-ES" sz="1400" spc="-1" strike="noStrike">
                <a:solidFill>
                  <a:srgbClr val="000000"/>
                </a:solidFill>
                <a:latin typeface="Arial"/>
              </a:rPr>
              <a:t>	</a:t>
            </a:r>
            <a:r>
              <a:rPr b="0" lang="es-ES" sz="1400" spc="-1" strike="noStrike">
                <a:solidFill>
                  <a:srgbClr val="000000"/>
                </a:solidFill>
                <a:latin typeface="Arial"/>
              </a:rPr>
              <a:t>(a partir del 26/05/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2 Informes de Avance.</a:t>
            </a:r>
            <a:r>
              <a:rPr b="0" lang="es-ES" sz="1400" spc="-1" strike="noStrike">
                <a:solidFill>
                  <a:srgbClr val="000000"/>
                </a:solidFill>
                <a:latin typeface="Arial"/>
              </a:rPr>
              <a:t>  Estos informes pretenden obligar al alumno a asumir tanto el desarrollo del trabajo en sí, como la redacción y preparación del Informe Final en forma constante durante el semestre.  Cada informe deberá estar estructurado en la forma más cercana a lo que será el Informe Final, y el contenido debería corresponder a la presentación de capítulos definidos.  Estos informes serán calificados por el Prof. Guía y Co-Guía y corresponderán a las notas parciales del curs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Informe de Avance 1: Semana 7</a:t>
            </a:r>
            <a:r>
              <a:rPr b="0" lang="es-ES" sz="1400" spc="-1" strike="noStrike">
                <a:solidFill>
                  <a:srgbClr val="000000"/>
                </a:solidFill>
                <a:latin typeface="Arial"/>
              </a:rPr>
              <a:t>	</a:t>
            </a:r>
            <a:r>
              <a:rPr b="0" lang="es-ES" sz="1400" spc="-1" strike="noStrike">
                <a:solidFill>
                  <a:srgbClr val="000000"/>
                </a:solidFill>
                <a:latin typeface="Arial"/>
              </a:rPr>
              <a:t>(14/04/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Informe de avance 2: Semana 12</a:t>
            </a:r>
            <a:r>
              <a:rPr b="0" lang="es-ES" sz="1400" spc="-1" strike="noStrike">
                <a:solidFill>
                  <a:srgbClr val="000000"/>
                </a:solidFill>
                <a:latin typeface="Arial"/>
              </a:rPr>
              <a:t>	</a:t>
            </a:r>
            <a:r>
              <a:rPr b="0" lang="es-ES" sz="1400" spc="-1" strike="noStrike">
                <a:solidFill>
                  <a:srgbClr val="000000"/>
                </a:solidFill>
                <a:latin typeface="Arial"/>
              </a:rPr>
              <a:t>(26/05/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Informe Final.</a:t>
            </a:r>
            <a:r>
              <a:rPr b="0" lang="es-ES" sz="1400" spc="-1" strike="noStrike">
                <a:solidFill>
                  <a:srgbClr val="000000"/>
                </a:solidFill>
                <a:latin typeface="Arial"/>
              </a:rPr>
              <a:t>  Borrador se entrega en Secretaría Docente hasta el día </a:t>
            </a:r>
            <a:r>
              <a:rPr b="1" lang="es-ES" sz="1400" spc="-1" strike="noStrike">
                <a:solidFill>
                  <a:srgbClr val="000000"/>
                </a:solidFill>
                <a:latin typeface="Arial"/>
              </a:rPr>
              <a:t>12/07/2008.</a:t>
            </a:r>
            <a:r>
              <a:rPr b="0" lang="es-ES" sz="1400" spc="-1" strike="noStrike">
                <a:solidFill>
                  <a:srgbClr val="000000"/>
                </a:solidFill>
                <a:latin typeface="Arial"/>
              </a:rPr>
              <a:t>  Los alumnos inscritos en el curso CI 69H deberán entregar un Informe de Avance en la misma fecha.</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SISTENCIA</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Obligatoria a todas las sesion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65040" y="-5300280"/>
            <a:ext cx="921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I 69F  TRABAJO DE TITUL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MPROMISO COMISION DE TITULACIO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ediante esta carta los Profesores que firman declaran estar de acuerdo en participar en la Comisión de Titulación del Trabajo de Título individualizado más adelante.  Se adjunta Temario de Título aprobado por la Comisión de Titulación del Departamento de Ingeniería Civil; si éste merece algunos comentarios de su parte, se ruega hacerlos llegar a la brevedad a la Secretaría Docente de DIC.</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LUMN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UT:................................................................</a:t>
            </a:r>
            <a:r>
              <a:rPr b="0" lang="es-ES_tradnl" sz="1200" spc="-1" strike="noStrike">
                <a:solidFill>
                  <a:srgbClr val="000000"/>
                </a:solidFill>
                <a:latin typeface="Arial"/>
              </a:rPr>
              <a:t>	</a:t>
            </a:r>
            <a:r>
              <a:rPr b="0" lang="es-ES_tradnl" sz="1200" spc="-1" strike="noStrike">
                <a:solidFill>
                  <a:srgbClr val="000000"/>
                </a:solidFill>
                <a:latin typeface="Arial"/>
              </a:rPr>
              <a:t>FON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CCIO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FESOR SECCION CI 69F/H:......................................................</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EMA MEMORIA:...................................................................................................................</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FESOR GUIA:.........................................................   FON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MENTARIOS AL TEMARIO PRESENTAD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FIRMA PROF. CO-GUIA</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FIRMA PROF. INTEGRANT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Nombre:</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Nombr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antiag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REVISION COMISION EN EL SISTEMA DE TITULACION</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erificar los miembros de la Comisión Examinador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erificar si es necesario solicitar nombramiento de examinador adjunto a algun miembro de la Comis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REVISON DEL TITULO DEL TEMA</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 hay cambio de titulo se requiere carta del prof. Guía en que indique el nuevo título (porque representa mejor al tema tratad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n la carta se debe dejar expreso que solo se trata de un cambio de título pero que no ha habido cambios en el Temario aprobado originalmente por la Comisión de Titul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AMBIO DE PROFESOR DE LA COMISION EAMINADORA</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requiere carta del profesor guía solicitando el cambio por existir otra persona que tiene mas afinidad con el tema u otra caus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lternativamente carta del profesor a cambiar en que renuncia a dicha design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COMENDACIONE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Hacer carta Gantt para terminar en los plazos y evitar solicitar prórrog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mprometer anticipadamente al profesor guía para que asista a las presentaciones persona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8457840" y="-1981800"/>
            <a:ext cx="745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4" name="PlaceHolder 2"/>
          <p:cNvSpPr>
            <a:spLocks noGrp="1"/>
          </p:cNvSpPr>
          <p:nvPr>
            <p:ph type="subTitle"/>
          </p:nvPr>
        </p:nvSpPr>
        <p:spPr>
          <a:xfrm>
            <a:off x="7772040" y="1460520"/>
            <a:ext cx="112680" cy="12171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5" name=""/>
          <p:cNvSpPr/>
          <p:nvPr/>
        </p:nvSpPr>
        <p:spPr>
          <a:xfrm>
            <a:off x="669960" y="389520"/>
            <a:ext cx="7247160" cy="138636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CI 69E  INTRODUCCION AL TRABAJO DE TÍTULO</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Semestre Otoño 2008</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OBJETIVOS</a:t>
            </a:r>
            <a:endParaRPr b="0" lang="en-US" sz="11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Definir Temario Trabajo de Título (Objetivos Generales y Alcances del Tema).</a:t>
            </a:r>
            <a:endParaRPr b="0" lang="en-US" sz="11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Establecer Programa de Trabajo y Actividades a realizar para alcanzar los objetivos propuestos.</a:t>
            </a:r>
            <a:endParaRPr b="0" lang="en-US" sz="11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Revisar y discutir bibliografía y antecedentes para establecer el estado actual del tema y metodología a emplear.</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ACTIVIDADES</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aphicFrame>
        <p:nvGraphicFramePr>
          <p:cNvPr id="46" name=""/>
          <p:cNvGraphicFramePr/>
          <p:nvPr/>
        </p:nvGraphicFramePr>
        <p:xfrm>
          <a:off x="684360" y="1989000"/>
          <a:ext cx="5626080" cy="3502080"/>
        </p:xfrm>
        <a:graphic>
          <a:graphicData uri="http://schemas.openxmlformats.org/drawingml/2006/table">
            <a:tbl>
              <a:tblPr/>
              <a:tblGrid>
                <a:gridCol w="765000"/>
                <a:gridCol w="809640"/>
                <a:gridCol w="4051440"/>
              </a:tblGrid>
              <a:tr h="261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Seman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Fech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Actividad</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40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3</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4</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5</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6</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7</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9</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10</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 </a:t>
                      </a:r>
                      <a:r>
                        <a:rPr b="0" lang="es-ES_tradnl" sz="1100" spc="-1" strike="noStrike">
                          <a:solidFill>
                            <a:srgbClr val="000000"/>
                          </a:solidFill>
                          <a:latin typeface="Arial"/>
                          <a:ea typeface="Times New Roman"/>
                        </a:rPr>
                        <a:t>11</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2</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3</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4</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5</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0/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7/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4/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7/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31/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07/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4/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21/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8/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05/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2/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9/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6/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02/06/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09/06/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16/06/08</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Clase General. Inscripción alumnos seccione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Organización Curso</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Objetivos, Alcance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Referencias Bibliográfica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Preparación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3300"/>
                          </a:solidFill>
                          <a:latin typeface="Arial"/>
                          <a:ea typeface="Times New Roman"/>
                        </a:rPr>
                        <a:t>Los alumnos que a esta fecha no tengan tema se sugiere eliminar CI</a:t>
                      </a:r>
                      <a:r>
                        <a:rPr b="1" lang="es-ES_tradnl" sz="800" spc="-1" strike="noStrike">
                          <a:solidFill>
                            <a:srgbClr val="000000"/>
                          </a:solidFill>
                          <a:latin typeface="Arial"/>
                          <a:ea typeface="Times New Roman"/>
                        </a:rPr>
                        <a:t> </a:t>
                      </a:r>
                      <a:r>
                        <a:rPr b="1" lang="es-ES_tradnl" sz="800" spc="-1" strike="noStrike">
                          <a:solidFill>
                            <a:srgbClr val="ff3300"/>
                          </a:solidFill>
                          <a:latin typeface="Arial"/>
                          <a:ea typeface="Times New Roman"/>
                        </a:rPr>
                        <a:t>69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Informe N°1: Temarios.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Revisión y Entrega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u="sng">
                          <a:solidFill>
                            <a:srgbClr val="000000"/>
                          </a:solidFill>
                          <a:uFillTx/>
                          <a:latin typeface="Arial"/>
                          <a:ea typeface="Times New Roman"/>
                        </a:rPr>
                        <a:t>Entrega Carta Compromiso Profesores Guía</a:t>
                      </a:r>
                      <a:r>
                        <a:rPr b="0" lang="es-ES_tradnl" sz="1100" spc="-1" strike="noStrike" u="sng">
                          <a:solidFill>
                            <a:srgbClr val="000000"/>
                          </a:solidFill>
                          <a:uFillTx/>
                          <a:latin typeface="Arial"/>
                          <a:ea typeface="Times New Roman"/>
                        </a:rPr>
                        <a:t>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Revisión y Entrega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Entrega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u="sng">
                          <a:solidFill>
                            <a:srgbClr val="000000"/>
                          </a:solidFill>
                          <a:uFillTx/>
                          <a:latin typeface="Arial"/>
                          <a:ea typeface="Times New Roman"/>
                        </a:rPr>
                        <a:t>Solicitud Inscripción CI 69H</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Discusión Bibliográfica.</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100" spc="-1" strike="noStrike">
                          <a:solidFill>
                            <a:srgbClr val="000000"/>
                          </a:solidFill>
                          <a:latin typeface="Arial"/>
                          <a:ea typeface="Times New Roman"/>
                        </a:rPr>
                        <a:t>Vacaciones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Discusión Bibliográfica.  Informe Nº2.</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Presentación Oral Individual.</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Presentación Oral Individual.</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Clase General</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u="sng">
                          <a:solidFill>
                            <a:srgbClr val="ff3300"/>
                          </a:solidFill>
                          <a:uFillTx/>
                          <a:latin typeface="Arial"/>
                          <a:ea typeface="Times New Roman"/>
                        </a:rPr>
                        <a:t>Entrega Informe Final</a:t>
                      </a:r>
                      <a:r>
                        <a:rPr b="1" lang="es-ES_tradnl" sz="1100" spc="-1" strike="noStrike">
                          <a:solidFill>
                            <a:srgbClr val="ff3300"/>
                          </a:solidFill>
                          <a:latin typeface="Arial"/>
                          <a:ea typeface="Times New Roman"/>
                        </a:rPr>
                        <a:t> (Sec. Docent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7" name=""/>
          <p:cNvSpPr/>
          <p:nvPr/>
        </p:nvSpPr>
        <p:spPr>
          <a:xfrm>
            <a:off x="250920" y="5650920"/>
            <a:ext cx="8586720" cy="716760"/>
          </a:xfrm>
          <a:prstGeom prst="rect">
            <a:avLst/>
          </a:prstGeom>
          <a:noFill/>
          <a:ln w="0">
            <a:noFill/>
          </a:ln>
        </p:spPr>
        <p:style>
          <a:lnRef idx="0"/>
          <a:fillRef idx="0"/>
          <a:effectRef idx="0"/>
          <a:fontRef idx="minor"/>
        </p:style>
        <p:txBody>
          <a:bodyPr lIns="90000" rIns="90000" tIns="46800" bIns="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ASISTENCIA</a:t>
            </a:r>
            <a:endParaRPr b="0" lang="en-US" sz="1100" spc="-1" strike="noStrike">
              <a:solidFill>
                <a:srgbClr val="000000"/>
              </a:solidFill>
              <a:latin typeface="Arial"/>
            </a:endParaRPr>
          </a:p>
          <a:p>
            <a:pPr algn="just">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La asistencia es obligatoria.  Las clases se realizarán los días jueves de 16:15 a 17:45 hrs, excepto aquellas secciones que han convenido realizar las clases en otro horario.</a:t>
            </a:r>
            <a:endParaRPr b="0" lang="en-US" sz="1100" spc="-1" strike="noStrike">
              <a:solidFill>
                <a:srgbClr val="000000"/>
              </a:solidFill>
              <a:latin typeface="Arial"/>
            </a:endParaRPr>
          </a:p>
          <a:p>
            <a:pPr algn="just">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La presencia del Profesor Guía es obligatoria en la última presentación individual.</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I 69 E</a:t>
            </a:r>
            <a:br>
              <a:rPr sz="4000"/>
            </a:br>
            <a:r>
              <a:rPr b="0" lang="es-ES_tradnl" sz="4000" spc="-1" strike="noStrike">
                <a:solidFill>
                  <a:srgbClr val="000000"/>
                </a:solidFill>
                <a:latin typeface="Arial"/>
              </a:rPr>
              <a:t>SECCIONES</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1 CONSTRUCCION Prof. C. Aguilera</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2 ESTRUCTURAS    Prof. R. Boroschek</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Prof. F. Beltrán</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3 TRANSPORTES</a:t>
            </a:r>
            <a:r>
              <a:rPr b="0" lang="es-ES_tradnl" sz="3200" spc="-1" strike="noStrike">
                <a:solidFill>
                  <a:srgbClr val="000000"/>
                </a:solidFill>
                <a:latin typeface="Arial"/>
              </a:rPr>
              <a:t>	</a:t>
            </a:r>
            <a:r>
              <a:rPr b="0" lang="es-ES_tradnl" sz="3200" spc="-1" strike="noStrike">
                <a:solidFill>
                  <a:srgbClr val="000000"/>
                </a:solidFill>
                <a:latin typeface="Arial"/>
              </a:rPr>
              <a:t>    Prof. A. Aldea</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4 HIDRAULICA/         Prof. X. vargas</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SANITARIA  </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5 GEOTECNIA           Prof. P. Acevedo</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Prof. L. Gonzalez         </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522252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
          <p:cNvSpPr/>
          <p:nvPr/>
        </p:nvSpPr>
        <p:spPr>
          <a:xfrm>
            <a:off x="179280" y="1143000"/>
            <a:ext cx="8820360" cy="4356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NTRODUCCION AL TRABAJO DE TITUL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00"/>
                </a:solidFill>
                <a:uFillTx/>
                <a:latin typeface="Arial"/>
              </a:rPr>
              <a:t>COMPROMISO PROFESORES GUI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ediante esta carta, el Profesor firmante se compromete a participar como Profesor Guía del Trabajo de Título más adelante individualiza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LUMN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UT:................................................................</a:t>
            </a:r>
            <a:r>
              <a:rPr b="0" lang="es-ES_tradnl" sz="1400" spc="-1" strike="noStrike">
                <a:solidFill>
                  <a:srgbClr val="000000"/>
                </a:solidFill>
                <a:latin typeface="Arial"/>
              </a:rPr>
              <a:t>	</a:t>
            </a:r>
            <a:r>
              <a:rPr b="0" lang="es-ES_tradnl" sz="1400" spc="-1" strike="noStrike">
                <a:solidFill>
                  <a:srgbClr val="000000"/>
                </a:solidFill>
                <a:latin typeface="Arial"/>
              </a:rPr>
              <a:t>FON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ECC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FESOR SECCION CI 69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TEMA MEMOR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FESOR GUIA:...........................................................  FON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FESORES COMISION: (El Prof. Guía debe indicar posibles Profesores para integrar Comisión de Titulación en este Tem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Firma Alumno</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Firma Profesor Guí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antiago,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
          <p:cNvSpPr/>
          <p:nvPr/>
        </p:nvSpPr>
        <p:spPr>
          <a:xfrm>
            <a:off x="179280" y="96120"/>
            <a:ext cx="8640720" cy="6075720"/>
          </a:xfrm>
          <a:prstGeom prst="rect">
            <a:avLst/>
          </a:prstGeom>
          <a:noFill/>
          <a:ln w="0">
            <a:noFill/>
          </a:ln>
        </p:spPr>
        <p:style>
          <a:lnRef idx="0"/>
          <a:fillRef idx="0"/>
          <a:effectRef idx="0"/>
          <a:fontRef idx="minor"/>
        </p:style>
        <p:txBody>
          <a:bodyPr lIns="90000" rIns="90000" tIns="46800" bIns="0" anchor="ctr">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ecretaría Docente-DIC</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EMARIO TRABAJO DE TITUL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NOMBRE ALUMN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UT/Nº MATRICUL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ROFESOR GUI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ROFESOR CURSO CI 69E:</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FECH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ITULO DEL TEMA PROPUEST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ESUMEN</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sentar un breve resumen de la propuesta de Trabajo de Título, de no más de 250 palabras, en el que se indique objetivos, metodología a utilizar y resultados esperad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NTRODUCCION/MOTIVACION</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sentar una breve introducción respecto del tema en que se enmarca el Trabajo de Título, explicando la motivación para desarrollar el trabajo que se propone.</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OBJETIV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etallar los objetivos generales y específicos propuest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ETODOLOGI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sentar brevemente la metodología que se propone utilizar para completar los objetivos antes indicad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ESULTADOS ESPERAD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eñalar los principales resultados que se espera obtener al completar el trabajo propuest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BIBLIOGRAFIA Y REFERENCIA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Incluir una lista con las referencias bibliográficas a ser usadas para el desarrollo del trabajo propuest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DOCUMENTOS COMPLEMENTARIOS</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1.- Si el tema incluye ensayos de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Laboratorios se debe adjuntar:</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000" spc="-1" strike="noStrike">
                <a:solidFill>
                  <a:srgbClr val="000000"/>
                </a:solidFill>
                <a:latin typeface="Arial"/>
              </a:rPr>
              <a:t>a) Carta Gantt en que se indique el número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de ensayos a efectuar</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b) Carta compromiso de quién proporcionará los </a:t>
            </a:r>
            <a:r>
              <a:rPr b="0" lang="es-ES_tradnl" sz="2000" spc="-1" strike="noStrike">
                <a:solidFill>
                  <a:srgbClr val="000000"/>
                </a:solidFill>
                <a:latin typeface="Arial"/>
              </a:rPr>
              <a:t>	</a:t>
            </a:r>
            <a:r>
              <a:rPr b="0" lang="es-ES_tradnl" sz="2000" spc="-1" strike="noStrike">
                <a:solidFill>
                  <a:srgbClr val="000000"/>
                </a:solidFill>
                <a:latin typeface="Arial"/>
              </a:rPr>
              <a:t>equipos y materiales necesarios.</a:t>
            </a:r>
            <a:endParaRPr b="0" lang="en-US" sz="20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2.- Si el Tema incluye la utilización de software especial o banco de datos privados se debe presentar Carta compromiso de quién lo proporcionará.</a:t>
            </a:r>
            <a:endParaRPr b="0" lang="en-US" sz="28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MISION DE TIITULACION</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a Comisión está compuesta de 4 profesores del Departamen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reune para revisar los Temarios presentados y los aprueba u obje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 el Temario es aprobado desina la Comisión Examinadora (1 P.G; 1 P.C.G.; 1 P.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530028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rof. Guía deberá ser académico de jornada completa o parcial de la Universidad de Chile. Excepcionalmente a propuesta de la Comisión de Titulación podrá ser Examinador Adjunt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rof. Coguía y el Integrante podrán ser académicos o examinadores adjunto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uando el Prof. Guía no sea académico de la Facultad, el Coguía deberá serl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COMENDACIONE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egir un Tema acorde con sus intereses o habilidad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ntes de decidir: a) leer sobre el Tema y b) entender claramente el trabajo a desarroll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1T18:32:09Z</dcterms:created>
  <dc:creator>Carlos Aguilera</dc:creator>
  <dc:description/>
  <dc:language>en-US</dc:language>
  <cp:lastModifiedBy>Carlos Aguilera</cp:lastModifiedBy>
  <dcterms:modified xsi:type="dcterms:W3CDTF">2008-03-13T17:49:55Z</dcterms:modified>
  <cp:revision>4</cp:revision>
  <dc:subject/>
  <dc:title>Diapositiva 1</dc:title>
</cp:coreProperties>
</file>