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2ED17F-E4A2-4276-B421-EF4E64142A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405C04-134C-4901-8126-E123520BC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F4AA2E-4B5A-4917-B987-661C29A200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EA37D1-A135-4F60-9A88-1A1B552B25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85FE0-06D3-4D52-94CC-509905D37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BCDFF4-AAC0-4B0E-ABBB-29D04D992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4E809A-59BE-4BE7-9D76-227CF2A0E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6DF516-B844-47C2-A20D-08BF05A2B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C8F203-6A6D-48DB-81B6-62CBCBC692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CF0BD9-D321-4CE9-B1B1-49E37DAF8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E2188-287C-465E-B551-7CD1ABCD17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C4A6A0-59C8-43B8-AB6C-41A41FAD3D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4658B-E0EA-4A13-B2CC-DE869B410A3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2636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rso “ CI 69 E “</a:t>
            </a:r>
            <a:endParaRPr b="0" lang="en-US" sz="4400" spc="-1" strike="noStrike">
              <a:solidFill>
                <a:srgbClr val="000000"/>
              </a:solidFill>
              <a:latin typeface="Arial"/>
            </a:endParaRPr>
          </a:p>
        </p:txBody>
      </p:sp>
      <p:sp>
        <p:nvSpPr>
          <p:cNvPr id="42" name="PlaceHolder 2"/>
          <p:cNvSpPr>
            <a:spLocks noGrp="1"/>
          </p:cNvSpPr>
          <p:nvPr>
            <p:ph/>
          </p:nvPr>
        </p:nvSpPr>
        <p:spPr>
          <a:xfrm>
            <a:off x="8686800" y="6021000"/>
            <a:ext cx="133200" cy="104760"/>
          </a:xfrm>
          <a:prstGeom prst="rect">
            <a:avLst/>
          </a:prstGeom>
          <a:noFill/>
          <a:ln w="0">
            <a:noFill/>
          </a:ln>
        </p:spPr>
        <p:txBody>
          <a:bodyPr lIns="90000" rIns="90000" tIns="46800" bIns="46800" anchor="t">
            <a:normAutofit fontScale="5000"/>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RITERIOS PARA AUTORIZAR EL CURSO CI 69 H</a:t>
            </a:r>
            <a:endParaRPr b="0" lang="en-US" sz="2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lazo para desarrollar la Memoria es de 1 año calendar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Guía debe debe justificar que el Tema califica para 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ara otorgar la autorización el Director tiene en consideración los antecedentes académicos del estudiante y la naturaleza del Tema.</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urso “CI 69 F”</a:t>
            </a:r>
            <a:endParaRPr b="0" lang="en-US" sz="4400" spc="-1" strike="noStrike">
              <a:solidFill>
                <a:srgbClr val="000000"/>
              </a:solidFill>
              <a:latin typeface="Arial"/>
            </a:endParaRPr>
          </a:p>
        </p:txBody>
      </p:sp>
      <p:sp>
        <p:nvSpPr>
          <p:cNvPr id="67" name="PlaceHolder 2"/>
          <p:cNvSpPr>
            <a:spLocks noGrp="1"/>
          </p:cNvSpPr>
          <p:nvPr>
            <p:ph type="subTitle"/>
          </p:nvPr>
        </p:nvSpPr>
        <p:spPr>
          <a:xfrm>
            <a:off x="1258560" y="-198000"/>
            <a:ext cx="11268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
          <p:cNvSpPr/>
          <p:nvPr/>
        </p:nvSpPr>
        <p:spPr>
          <a:xfrm>
            <a:off x="250920" y="627840"/>
            <a:ext cx="8281800" cy="586260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CTIVIDADES CI 69F/CI 69H</a:t>
            </a:r>
            <a:endParaRPr b="0" lang="en-US" sz="18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RABAJO DE TÍTULO/MEMORIA DE TÍTU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Semestre Otoño 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BJETIVO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sarrollar Trabajo de Título de acuerdo a Temario, Programa y Metodología de trabajo aprobados en curso CI 69E.</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parar y presentar Informe Final de Trabajo de Título/Memoria de Títu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ACTIVIDADE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15 Sesiones de Clase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Días jueves 16:15 – 17:45 hrs.</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Temarios Aprobados y Compromiso Comisiones de Titulación: </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emarios deben ser entregados en Secretaría Docente, con la firma del Profesor Guía junto a la carta Compromiso firmada por los integrantes de la Comisión de Titulación, </a:t>
            </a:r>
            <a:r>
              <a:rPr b="1" lang="es-ES" sz="1400" spc="-1" strike="noStrike">
                <a:solidFill>
                  <a:srgbClr val="000000"/>
                </a:solidFill>
                <a:latin typeface="Arial"/>
              </a:rPr>
              <a:t>hasta el 03/04/2006</a:t>
            </a:r>
            <a:r>
              <a:rPr b="0" lang="es-ES"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 Presentaciones Orales Individuales</a:t>
            </a:r>
            <a:r>
              <a:rPr b="0" lang="es-ES" sz="1400" spc="-1" strike="noStrike">
                <a:solidFill>
                  <a:srgbClr val="000000"/>
                </a:solidFill>
                <a:latin typeface="Arial"/>
              </a:rPr>
              <a:t> de avance del trabajo en desarroll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esentación 1: Semanas  6, 7, 8</a:t>
            </a:r>
            <a:r>
              <a:rPr b="0" lang="es-ES" sz="1400" spc="-1" strike="noStrike">
                <a:solidFill>
                  <a:srgbClr val="000000"/>
                </a:solidFill>
                <a:latin typeface="Arial"/>
              </a:rPr>
              <a:t>	</a:t>
            </a:r>
            <a:r>
              <a:rPr b="0" lang="es-ES" sz="1400" spc="-1" strike="noStrike">
                <a:solidFill>
                  <a:srgbClr val="000000"/>
                </a:solidFill>
                <a:latin typeface="Arial"/>
              </a:rPr>
              <a:t>	</a:t>
            </a:r>
            <a:r>
              <a:rPr b="0" lang="es-ES" sz="1400" spc="-1" strike="noStrike">
                <a:solidFill>
                  <a:srgbClr val="000000"/>
                </a:solidFill>
                <a:latin typeface="Arial"/>
              </a:rPr>
              <a:t>(a partir del 07/04/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Presentación 2: Semanas 12, 13, 14</a:t>
            </a:r>
            <a:r>
              <a:rPr b="0" lang="es-ES" sz="1400" spc="-1" strike="noStrike">
                <a:solidFill>
                  <a:srgbClr val="000000"/>
                </a:solidFill>
                <a:latin typeface="Arial"/>
              </a:rPr>
              <a:t>	</a:t>
            </a:r>
            <a:r>
              <a:rPr b="0" lang="es-ES" sz="1400" spc="-1" strike="noStrike">
                <a:solidFill>
                  <a:srgbClr val="000000"/>
                </a:solidFill>
                <a:latin typeface="Arial"/>
              </a:rPr>
              <a:t>(a partir del 26/05/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2 Informes de Avance.</a:t>
            </a:r>
            <a:r>
              <a:rPr b="0" lang="es-ES" sz="1400" spc="-1" strike="noStrike">
                <a:solidFill>
                  <a:srgbClr val="000000"/>
                </a:solidFill>
                <a:latin typeface="Arial"/>
              </a:rPr>
              <a:t>  Estos informes pretenden obligar al alumno a asumir tanto el desarrollo del trabajo en sí, como la redacción y preparación del Informe Final en forma constante durante el semestre.  Cada informe deberá estar estructurado en la forma más cercana a lo que será el Informe Final, y el contenido debería corresponder a la presentación de capítulos definidos.  Estos informes serán calificados por el Prof. Guía y Co-Guía y corresponderán a las notas parciales del curso.</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forme de Avance 1: Semana 7</a:t>
            </a:r>
            <a:r>
              <a:rPr b="0" lang="es-ES" sz="1400" spc="-1" strike="noStrike">
                <a:solidFill>
                  <a:srgbClr val="000000"/>
                </a:solidFill>
                <a:latin typeface="Arial"/>
              </a:rPr>
              <a:t>	</a:t>
            </a:r>
            <a:r>
              <a:rPr b="0" lang="es-ES" sz="1400" spc="-1" strike="noStrike">
                <a:solidFill>
                  <a:srgbClr val="000000"/>
                </a:solidFill>
                <a:latin typeface="Arial"/>
              </a:rPr>
              <a:t>(14/04/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Informe de avance 2: Semana 12</a:t>
            </a:r>
            <a:r>
              <a:rPr b="0" lang="es-ES" sz="1400" spc="-1" strike="noStrike">
                <a:solidFill>
                  <a:srgbClr val="000000"/>
                </a:solidFill>
                <a:latin typeface="Arial"/>
              </a:rPr>
              <a:t>	</a:t>
            </a:r>
            <a:r>
              <a:rPr b="0" lang="es-ES" sz="1400" spc="-1" strike="noStrike">
                <a:solidFill>
                  <a:srgbClr val="000000"/>
                </a:solidFill>
                <a:latin typeface="Arial"/>
              </a:rPr>
              <a:t>(26/05/2008)</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Informe Final.</a:t>
            </a:r>
            <a:r>
              <a:rPr b="0" lang="es-ES" sz="1400" spc="-1" strike="noStrike">
                <a:solidFill>
                  <a:srgbClr val="000000"/>
                </a:solidFill>
                <a:latin typeface="Arial"/>
              </a:rPr>
              <a:t>  Borrador se entrega en Secretaría Docente hasta el día </a:t>
            </a:r>
            <a:r>
              <a:rPr b="1" lang="es-ES" sz="1400" spc="-1" strike="noStrike">
                <a:solidFill>
                  <a:srgbClr val="000000"/>
                </a:solidFill>
                <a:latin typeface="Arial"/>
              </a:rPr>
              <a:t>12/07/2008.</a:t>
            </a:r>
            <a:r>
              <a:rPr b="0" lang="es-ES" sz="1400" spc="-1" strike="noStrike">
                <a:solidFill>
                  <a:srgbClr val="000000"/>
                </a:solidFill>
                <a:latin typeface="Arial"/>
              </a:rPr>
              <a:t>  Los alumnos inscritos en el curso CI 69H deberán entregar un Informe de Avance en la misma fecha.</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ASISTENCIA</a:t>
            </a:r>
            <a:endParaRPr b="0" lang="en-US" sz="1400" spc="-1" strike="noStrike">
              <a:solidFill>
                <a:srgbClr val="000000"/>
              </a:solidFill>
              <a:latin typeface="Arial"/>
            </a:endParaRPr>
          </a:p>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	</a:t>
            </a:r>
            <a:r>
              <a:rPr b="0" lang="es-ES" sz="1400" spc="-1" strike="noStrike">
                <a:solidFill>
                  <a:srgbClr val="000000"/>
                </a:solidFill>
                <a:latin typeface="Arial"/>
              </a:rPr>
              <a:t>Obligatoria a todas las sesion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65040" y="-5300280"/>
            <a:ext cx="9216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CI 69F  TRABAJO DE TITUL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000000"/>
                </a:solidFill>
                <a:uFillTx/>
                <a:latin typeface="Arial"/>
              </a:rPr>
              <a:t>COMPROMISO COMISION DE TITULAC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Arial"/>
              </a:rPr>
              <a:t>Mediante esta carta los Profesores que firman declaran estar de acuerdo en participar en la Comisión de Titulación del Trabajo de Título individualizado más adelante.  Se adjunta Temario de Título aprobado por la Comisión de Titulación del Departamento de Ingeniería Civil; si éste merece algunos comentarios de su parte, se ruega hacerlos llegar a la brevedad a la Secretaría Docente de DIC.</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LUM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UT:................................................................</a:t>
            </a:r>
            <a:r>
              <a:rPr b="0" lang="es-ES_tradnl" sz="1200" spc="-1" strike="noStrike">
                <a:solidFill>
                  <a:srgbClr val="000000"/>
                </a:solidFill>
                <a:latin typeface="Arial"/>
              </a:rPr>
              <a:t>	</a:t>
            </a:r>
            <a:r>
              <a:rPr b="0" lang="es-ES_tradnl" sz="1200" spc="-1" strike="noStrike">
                <a:solidFill>
                  <a:srgbClr val="000000"/>
                </a:solidFill>
                <a:latin typeface="Arial"/>
              </a:rPr>
              <a:t>FO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ECCION:..................................................................................</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 SECCION CI 69F/H:......................................................</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TEMA MEMORIA:...................................................................................................................</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FESOR GUIA:.........................................................   FON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MENTARIOS AL TEMARIO PRESENTADO:....................................................................</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FIRMA PROF. CO-GUIA</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FIRMA PROF. INTEGRANT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r>
              <a:rPr b="0" lang="es-ES_tradnl" sz="1200" spc="-1" strike="noStrike">
                <a:solidFill>
                  <a:srgbClr val="000000"/>
                </a:solidFill>
                <a:latin typeface="Arial"/>
              </a:rPr>
              <a:t>Nombre:</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	</a:t>
            </a:r>
            <a:r>
              <a:rPr b="0" lang="es-ES_tradnl" sz="1200" spc="-1" strike="noStrike">
                <a:solidFill>
                  <a:srgbClr val="000000"/>
                </a:solidFill>
                <a:latin typeface="Arial"/>
              </a:rPr>
              <a:t>Nombre:</a:t>
            </a:r>
            <a:endParaRPr b="0" lang="en-US" sz="12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Santiago,.....................................................</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VISION COMISION EN EL SISTEMA DE TITULACION</a:t>
            </a:r>
            <a:endParaRPr b="0" lang="en-US" sz="40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rificar los miembros de la Comisión Examinador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Verificar si es necesario solicitar nombramiento de examinador adjunto a algun miembro de la Comis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REVISON DEL TITULO DEL TEMA</a:t>
            </a:r>
            <a:endParaRPr b="0" lang="en-US" sz="40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 hay cambio de titulo se requiere carta del prof. Guía en que indique el nuevo título (porque representa mejor al tema tratad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la carta se debe dejar expreso que solo se trata de un cambio de título pero que no ha habido cambios en el Temario aprobado originalmente por la Comisión de Titul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AMBIO DE PROFESOR DE LA COMISION EAMINADORA</a:t>
            </a:r>
            <a:endParaRPr b="0" lang="en-US" sz="40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quiere carta del profesor guía solicitando el cambio por existir otra persona que tiene mas afinidad con el tema u otra caus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ternativamente carta del profesor a cambiar en que renuncia a dicha design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MENDACIONES</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Hacer carta Gantt para terminar en los plazos y evitar solicitar prórrog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mprometer anticipadamente al profesor guía para que asista a las presentaciones person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8457840" y="-1981800"/>
            <a:ext cx="7452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44" name="PlaceHolder 2"/>
          <p:cNvSpPr>
            <a:spLocks noGrp="1"/>
          </p:cNvSpPr>
          <p:nvPr>
            <p:ph type="subTitle"/>
          </p:nvPr>
        </p:nvSpPr>
        <p:spPr>
          <a:xfrm>
            <a:off x="7772040" y="1460520"/>
            <a:ext cx="112680" cy="12171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45" name=""/>
          <p:cNvSpPr/>
          <p:nvPr/>
        </p:nvSpPr>
        <p:spPr>
          <a:xfrm>
            <a:off x="669960" y="389520"/>
            <a:ext cx="7247160" cy="1386360"/>
          </a:xfrm>
          <a:prstGeom prst="rect">
            <a:avLst/>
          </a:prstGeom>
          <a:noFill/>
          <a:ln w="0">
            <a:noFill/>
          </a:ln>
        </p:spPr>
        <p:style>
          <a:lnRef idx="0"/>
          <a:fillRef idx="0"/>
          <a:effectRef idx="0"/>
          <a:fontRef idx="minor"/>
        </p:style>
        <p:txBody>
          <a:bodyPr wrap="none" lIns="90000" rIns="90000" tIns="46800" bIns="0" anchor="ctr">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CI 69E  INTRODUCCION AL TRABAJO DE TÍTULO</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Semestre Otoño 2008</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OBJETIVOS</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Definir Temario Trabajo de Título (Objetivos Generales y Alcances del Tema).</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Establecer Programa de Trabajo y Actividades a realizar para alcanzar los objetivos propuestos.</a:t>
            </a:r>
            <a:endParaRPr b="0" lang="en-US" sz="1100" spc="-1" strike="noStrike">
              <a:solidFill>
                <a:srgbClr val="000000"/>
              </a:solidFill>
              <a:latin typeface="Arial"/>
            </a:endParaRPr>
          </a:p>
          <a:p>
            <a:pPr>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Revisar y discutir bibliografía y antecedentes para establecer el estado actual del tema y metodología a emplear.</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CTIVIDADES</a:t>
            </a:r>
            <a:endParaRPr b="0" lang="en-US" sz="11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graphicFrame>
        <p:nvGraphicFramePr>
          <p:cNvPr id="46" name=""/>
          <p:cNvGraphicFramePr/>
          <p:nvPr/>
        </p:nvGraphicFramePr>
        <p:xfrm>
          <a:off x="684360" y="1989000"/>
          <a:ext cx="5626080" cy="3502080"/>
        </p:xfrm>
        <a:graphic>
          <a:graphicData uri="http://schemas.openxmlformats.org/drawingml/2006/table">
            <a:tbl>
              <a:tblPr/>
              <a:tblGrid>
                <a:gridCol w="765000"/>
                <a:gridCol w="809640"/>
                <a:gridCol w="4051440"/>
              </a:tblGrid>
              <a:tr h="2613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Seman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Fecha</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ctivida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240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3</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4</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5</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6</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Times New Roman"/>
                          <a:ea typeface="Times New Roman"/>
                        </a:rPr>
                        <a:t>7</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Arial"/>
                          <a:ea typeface="Times New Roman"/>
                        </a:rPr>
                        <a:t>9</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10</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 </a:t>
                      </a:r>
                      <a:r>
                        <a:rPr b="0" lang="es-ES_tradnl" sz="1100" spc="-1" strike="noStrike">
                          <a:solidFill>
                            <a:srgbClr val="000000"/>
                          </a:solidFill>
                          <a:latin typeface="Arial"/>
                          <a:ea typeface="Times New Roman"/>
                        </a:rPr>
                        <a:t>11</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3</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4</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0/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7/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4/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7/03/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31/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7/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4/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21/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8/04/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05/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2/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19/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26/05/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2/06/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09/06/08</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16/06/08</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Clase General. Inscripción alumnos seccion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Organización Curso</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Objetivos, Alcance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ferencias Bibliográfica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paración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ff3300"/>
                          </a:solidFill>
                          <a:latin typeface="Arial"/>
                          <a:ea typeface="Times New Roman"/>
                        </a:rPr>
                        <a:t>Los alumnos que a esta fecha no tengan tema se sugiere eliminar CI</a:t>
                      </a:r>
                      <a:r>
                        <a:rPr b="1" lang="es-ES_tradnl" sz="800" spc="-1" strike="noStrike">
                          <a:solidFill>
                            <a:srgbClr val="000000"/>
                          </a:solidFill>
                          <a:latin typeface="Arial"/>
                          <a:ea typeface="Times New Roman"/>
                        </a:rPr>
                        <a:t> </a:t>
                      </a:r>
                      <a:r>
                        <a:rPr b="1" lang="es-ES_tradnl" sz="800" spc="-1" strike="noStrike">
                          <a:solidFill>
                            <a:srgbClr val="ff3300"/>
                          </a:solidFill>
                          <a:latin typeface="Arial"/>
                          <a:ea typeface="Times New Roman"/>
                        </a:rPr>
                        <a:t>69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Informe N°1: Temario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visión y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0000"/>
                          </a:solidFill>
                          <a:uFillTx/>
                          <a:latin typeface="Arial"/>
                          <a:ea typeface="Times New Roman"/>
                        </a:rPr>
                        <a:t>Entrega Carta Compromiso Profesores Guía</a:t>
                      </a:r>
                      <a:r>
                        <a:rPr b="0" lang="es-ES_tradnl" sz="1100" spc="-1" strike="noStrike" u="sng">
                          <a:solidFill>
                            <a:srgbClr val="000000"/>
                          </a:solidFill>
                          <a:uFillTx/>
                          <a:latin typeface="Arial"/>
                          <a:ea typeface="Times New Roman"/>
                        </a:rPr>
                        <a:t>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Revisión y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Entrega Temarios.</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000000"/>
                          </a:solidFill>
                          <a:uFillTx/>
                          <a:latin typeface="Arial"/>
                          <a:ea typeface="Times New Roman"/>
                        </a:rPr>
                        <a:t>Solicitud Inscripción CI 69H</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Discusión Bibliográfica.</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100" spc="-1" strike="noStrike">
                          <a:solidFill>
                            <a:srgbClr val="000000"/>
                          </a:solidFill>
                          <a:latin typeface="Arial"/>
                          <a:ea typeface="Times New Roman"/>
                        </a:rPr>
                        <a:t>Vacaciones  </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Discusión Bibliográfica.  Informe Nº2.</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sentación Oral Individu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Secciones. Presentación Oral Individu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Clase General</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u="sng">
                          <a:solidFill>
                            <a:srgbClr val="ff3300"/>
                          </a:solidFill>
                          <a:uFillTx/>
                          <a:latin typeface="Arial"/>
                          <a:ea typeface="Times New Roman"/>
                        </a:rPr>
                        <a:t>Entrega Informe Final</a:t>
                      </a:r>
                      <a:r>
                        <a:rPr b="1" lang="es-ES_tradnl" sz="1100" spc="-1" strike="noStrike">
                          <a:solidFill>
                            <a:srgbClr val="ff3300"/>
                          </a:solidFill>
                          <a:latin typeface="Arial"/>
                          <a:ea typeface="Times New Roman"/>
                        </a:rPr>
                        <a:t> (Sec. Docent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7" name=""/>
          <p:cNvSpPr/>
          <p:nvPr/>
        </p:nvSpPr>
        <p:spPr>
          <a:xfrm>
            <a:off x="250920" y="5650920"/>
            <a:ext cx="8586720" cy="716760"/>
          </a:xfrm>
          <a:prstGeom prst="rect">
            <a:avLst/>
          </a:prstGeom>
          <a:noFill/>
          <a:ln w="0">
            <a:noFill/>
          </a:ln>
        </p:spPr>
        <p:style>
          <a:lnRef idx="0"/>
          <a:fillRef idx="0"/>
          <a:effectRef idx="0"/>
          <a:fontRef idx="minor"/>
        </p:style>
        <p:txBody>
          <a:bodyPr lIns="90000" rIns="90000" tIns="46800" bIns="0" anchor="ctr">
            <a:spAutoFit/>
          </a:bodyPr>
          <a:p>
            <a:pPr algn="jus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ea typeface="Times New Roman"/>
              </a:rPr>
              <a:t>ASISTENCIA</a:t>
            </a:r>
            <a:endParaRPr b="0" lang="en-US" sz="11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La asistencia es obligatoria.  Las clases se realizarán los días jueves de 16:15 a 17:45 hrs, excepto aquellas secciones que han convenido realizar las clases en otro horario.</a:t>
            </a:r>
            <a:endParaRPr b="0" lang="en-US" sz="1100" spc="-1" strike="noStrike">
              <a:solidFill>
                <a:srgbClr val="000000"/>
              </a:solidFill>
              <a:latin typeface="Arial"/>
            </a:endParaRPr>
          </a:p>
          <a:p>
            <a:pPr algn="just">
              <a:buClr>
                <a:srgbClr val="000000"/>
              </a:buClr>
              <a:buFont typeface="Symbol" charset="2"/>
              <a:buChar char=""/>
              <a:tabLst>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Arial"/>
                <a:ea typeface="Times New Roman"/>
              </a:rPr>
              <a:t>La presencia del Profesor Guía es obligatoria en la última presentación individual.</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CI 69 E</a:t>
            </a:r>
            <a:br>
              <a:rPr sz="4000"/>
            </a:br>
            <a:r>
              <a:rPr b="0" lang="es-ES_tradnl" sz="4000" spc="-1" strike="noStrike">
                <a:solidFill>
                  <a:srgbClr val="000000"/>
                </a:solidFill>
                <a:latin typeface="Arial"/>
              </a:rPr>
              <a:t>SECCIONES</a:t>
            </a:r>
            <a:endParaRPr b="0" lang="en-US" sz="40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1 CONSTRUCCION Prof. C. Aguilera</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2 ESTRUCTURAS    Prof. R. Boroschek</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Prof. F. Beltrán</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3 TRANSPORTES</a:t>
            </a:r>
            <a:r>
              <a:rPr b="0" lang="es-ES_tradnl" sz="3200" spc="-1" strike="noStrike">
                <a:solidFill>
                  <a:srgbClr val="000000"/>
                </a:solidFill>
                <a:latin typeface="Arial"/>
              </a:rPr>
              <a:t>	</a:t>
            </a:r>
            <a:r>
              <a:rPr b="0" lang="es-ES_tradnl" sz="3200" spc="-1" strike="noStrike">
                <a:solidFill>
                  <a:srgbClr val="000000"/>
                </a:solidFill>
                <a:latin typeface="Arial"/>
              </a:rPr>
              <a:t>    Prof. A. Aldea</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4 HIDRAULICA/         Prof. X. vargas</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SANITARIA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05 GEOTECNIA           Prof. P. Acevedo</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     </a:t>
            </a:r>
            <a:r>
              <a:rPr b="0" lang="es-ES_tradnl" sz="3200" spc="-1" strike="noStrike">
                <a:solidFill>
                  <a:srgbClr val="000000"/>
                </a:solidFill>
                <a:latin typeface="Arial"/>
              </a:rPr>
              <a:t>Prof. L. Gonzalez         </a:t>
            </a:r>
            <a:endParaRPr b="0" lang="en-US" sz="3200" spc="-1" strike="noStrike">
              <a:solidFill>
                <a:srgbClr val="000000"/>
              </a:solidFill>
              <a:latin typeface="Arial"/>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522252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
          <p:cNvSpPr/>
          <p:nvPr/>
        </p:nvSpPr>
        <p:spPr>
          <a:xfrm>
            <a:off x="179280" y="1143000"/>
            <a:ext cx="8820360" cy="43563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TRODUCCION AL TRABAJO DE TITULO</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u="sng">
                <a:solidFill>
                  <a:srgbClr val="000000"/>
                </a:solidFill>
                <a:uFillTx/>
                <a:latin typeface="Arial"/>
              </a:rPr>
              <a:t>COMPROMISO PROFESORES GUI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diante esta carta, el Profesor firmante se compromete a participar como Profesor Guía del Trabajo de Título más adelante individualizad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LUM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RUT:................................................................</a:t>
            </a:r>
            <a:r>
              <a:rPr b="0" lang="es-ES_tradnl" sz="1400" spc="-1" strike="noStrike">
                <a:solidFill>
                  <a:srgbClr val="000000"/>
                </a:solidFill>
                <a:latin typeface="Arial"/>
              </a:rPr>
              <a:t>	</a:t>
            </a:r>
            <a:r>
              <a:rPr b="0" lang="es-ES_tradnl" sz="1400" spc="-1" strike="noStrike">
                <a:solidFill>
                  <a:srgbClr val="000000"/>
                </a:solidFill>
                <a:latin typeface="Arial"/>
              </a:rPr>
              <a:t>F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CC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 SECCION CI 69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TEMA MEMORI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 GUIA:...........................................................  FO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OFESORES COMISION: (El Prof. Guía debe indicar posibles Profesores para integrar Comisión de Titulación en este Tem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irma Alumno</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	</a:t>
            </a:r>
            <a:r>
              <a:rPr b="0" lang="es-ES_tradnl" sz="1400" spc="-1" strike="noStrike">
                <a:solidFill>
                  <a:srgbClr val="000000"/>
                </a:solidFill>
                <a:latin typeface="Arial"/>
              </a:rPr>
              <a:t>Firma Profesor Guí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antiago,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
          <p:cNvSpPr/>
          <p:nvPr/>
        </p:nvSpPr>
        <p:spPr>
          <a:xfrm>
            <a:off x="179280" y="96120"/>
            <a:ext cx="8640720" cy="6075720"/>
          </a:xfrm>
          <a:prstGeom prst="rect">
            <a:avLst/>
          </a:prstGeom>
          <a:noFill/>
          <a:ln w="0">
            <a:noFill/>
          </a:ln>
        </p:spPr>
        <p:style>
          <a:lnRef idx="0"/>
          <a:fillRef idx="0"/>
          <a:effectRef idx="0"/>
          <a:fontRef idx="minor"/>
        </p:style>
        <p:txBody>
          <a:bodyPr lIns="90000" rIns="90000" tIns="46800" bIns="0" anchor="ctr">
            <a:spAutoFit/>
          </a:bodyPr>
          <a:p>
            <a:pPr algn="ct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Secretaría Docente-DIC</a:t>
            </a:r>
            <a:endParaRPr b="0" lang="en-US" sz="18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EMARIO TRABAJO DE TITUL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NOMBRE ALUMN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UT/Nº MATRICUL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FESOR GUI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PROFESOR CURSO CI 69E:</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FECH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ITULO DEL TEMA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UMEN</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un breve resumen de la propuesta de Trabajo de Título, de no más de 250 palabras, en el que se indique objetivos, metodología a utilizar y resultados esper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INTRODUCCION/MOTIVACION</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una breve introducción respecto del tema en que se enmarca el Trabajo de Título, explicando la motivación para desarrollar el trabajo que se propone.</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OBJETIV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Detallar los objetivos generales y específicos propuest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METODOLOGIA</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resentar brevemente la metodología que se propone utilizar para completar los objetivos antes indic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RESULTADOS ESPERADO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eñalar los principales resultados que se espera obtener al completar el trabajo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áx. 1 pág.)</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BIBLIOGRAFIA Y REFERENCIAS</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Incluir una lista con las referencias bibliográficas a ser usadas para el desarrollo del trabajo propuesto</a:t>
            </a:r>
            <a:endParaRPr b="0" lang="en-US" sz="1400" spc="-1" strike="noStrike">
              <a:solidFill>
                <a:srgbClr val="000000"/>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a:rPr>
              <a:t>DOCUMENTOS COMPLEMENTARIOS</a:t>
            </a:r>
            <a:endParaRPr b="0" lang="en-US" sz="40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1.- Si el tema incluye ensayos de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Laboratorios se debe adjuntar:</a:t>
            </a:r>
            <a:endParaRPr b="0" lang="en-US" sz="2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800" spc="-1" strike="noStrike">
                <a:solidFill>
                  <a:srgbClr val="000000"/>
                </a:solidFill>
                <a:latin typeface="Arial"/>
              </a:rPr>
              <a:t>	</a:t>
            </a:r>
            <a:r>
              <a:rPr b="0" lang="es-ES_tradnl" sz="2000" spc="-1" strike="noStrike">
                <a:solidFill>
                  <a:srgbClr val="000000"/>
                </a:solidFill>
                <a:latin typeface="Arial"/>
              </a:rPr>
              <a:t>a) Carta Gantt en que se indique el número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de ensayos a efectuar</a:t>
            </a:r>
            <a:endParaRPr b="0" lang="en-US" sz="20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b) Carta compromiso de quién proporcionará los </a:t>
            </a:r>
            <a:r>
              <a:rPr b="0" lang="es-ES_tradnl" sz="2000" spc="-1" strike="noStrike">
                <a:solidFill>
                  <a:srgbClr val="000000"/>
                </a:solidFill>
                <a:latin typeface="Arial"/>
              </a:rPr>
              <a:t>	</a:t>
            </a:r>
            <a:r>
              <a:rPr b="0" lang="es-ES_tradnl" sz="2000" spc="-1" strike="noStrike">
                <a:solidFill>
                  <a:srgbClr val="000000"/>
                </a:solidFill>
                <a:latin typeface="Arial"/>
              </a:rPr>
              <a:t>equipos y materiales necesarios.</a:t>
            </a:r>
            <a:endParaRPr b="0" lang="en-US" sz="20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2.- Si el Tema incluye la utilización de software especial o banco de datos privados se debe presentar Carta compromiso de quién lo proporcionará.</a:t>
            </a: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OMISION DE TIITULACION</a:t>
            </a: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a Comisión está compuesta de 4 profesores del Departame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e reune para revisar los Temarios presentados y los aprueba u obje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 el Temario es aprobado desina la Comisión Examinadora (1 P.G; 1 P.C.G.; 1 P.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6840" y="-5300280"/>
            <a:ext cx="82440" cy="1106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Guía deberá ser académico de jornada completa o parcial de la Universidad de Chile. Excepcionalmente a propuesta de la Comisión de Titulación podrá ser Examinador Adjunto.</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 Prof. Coguía y el Integrante podrán ser académicos o examinadores adjunto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uando el Prof. Guía no sea académico de la Facultad, el Coguía deberá serlo.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RECOMENDACIONE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legir un Tema acorde con sus intereses o habilidad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ntes de decidir: a) leer sobre el Tema y b) entender claramente el trabajo a desarrolla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1T18:32:09Z</dcterms:created>
  <dc:creator>Carlos Aguilera</dc:creator>
  <dc:description/>
  <dc:language>en-US</dc:language>
  <cp:lastModifiedBy>Carlos Aguilera</cp:lastModifiedBy>
  <dcterms:modified xsi:type="dcterms:W3CDTF">2008-03-13T17:49:55Z</dcterms:modified>
  <cp:revision>4</cp:revision>
  <dc:subject/>
  <dc:title>Diapositiva 1</dc:title>
</cp:coreProperties>
</file>