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86F-E842-4DA5-BFFA-6A7EAF77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3FF-3345-4F27-906F-A648253B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CE5-79CA-4105-A9E8-C060E31F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2AB-7FA1-4266-9F19-5DBC1F7E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E91-6421-4E47-839E-988F174E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EDB6-7CDD-4DE9-9AD5-611061DE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70F-A179-4A0A-906D-F64FE1A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4CC-8C5A-450A-AD2F-78BCFF71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400-8587-45ED-B8EE-E6E997BB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D65-8FD3-4C82-801A-865F24B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193-D201-474F-8D1C-7A432121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D96-9052-42DB-867B-96551496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5EFE-D09E-4962-98D7-7E0D98B6F91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b26f"/>
            </a:gs>
            <a:gs pos="100000">
              <a:srgbClr val="2352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ía de Poblacion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yes Ec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89000"/>
            <a:ext cx="460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cultad de Cs. Físicas y 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I-56 C. Seminario Fundamentos de Ec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ora: Matilde López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nte: Maria Fernanda Hurtado R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Ec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ey de Mal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ey de Al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ey de Verhu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ey de Lotka-Volt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ey de Lie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Ec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Ley de Malthu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oblación específica crece exponencialmente en potencias de tres (progresión geométr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entras que el recurso del cual la población específica depende aumenta en potencias de dos (progresión aritmét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hay factores externos que modifiquen esta relación. Existen factores positivos y preven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Ec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ey de All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n° de individuos de una población influye en el aumento o disminución de l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obrevivencia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reproducción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é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blaciones densodepend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2838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Ec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ey de Verhul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tolimitación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etencia intra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nsidad poblacional, factor lim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tación de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Eucaliptus globu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03640" y="1668600"/>
            <a:ext cx="3049920" cy="204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03640" y="3938760"/>
            <a:ext cx="3024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Ec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ey de Lotka-Volte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laciones depredador-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troalimentación neg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s variables: tamaño pobl. depredador y tamaño pobl. 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upuestos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la presa crece en forma exponencial en ausencia del depredador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a respuesta funcional lineal para el depredador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la respuesta numérica es un número constante de veces la respuesta fun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a tasa de muerte constante en los depreda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v/dt = rV - (aV)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P/dt = b(aV)P - d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198520"/>
            <a:ext cx="4038480" cy="3327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2157480"/>
            <a:ext cx="4038480" cy="3411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yes Ecológicas</a:t>
            </a:r>
            <a:br>
              <a:rPr sz="44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y de Lotka-Volt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b2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Ec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ey de Lie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y de los Factores Limitantes o ley del minim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factor influye en el crecimiento o decrecimiento de una pob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219480" cy="21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22:42:58Z</dcterms:created>
  <dc:creator>Usuario</dc:creator>
  <dc:description/>
  <dc:language>en-US</dc:language>
  <cp:lastModifiedBy>ALUMNO</cp:lastModifiedBy>
  <dcterms:modified xsi:type="dcterms:W3CDTF">2008-04-10T22:14:29Z</dcterms:modified>
  <cp:revision>12</cp:revision>
  <dc:subject/>
  <dc:title>Ecología de Poblaciones Leyes Ecológicas</dc:title>
</cp:coreProperties>
</file>