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1264-0F7D-422A-BEDF-8ED2CCB1A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2792-EDDB-424A-80F6-9BDF87E0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0CCC-B4B5-4F82-81F6-6DC58ED56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3EEA-F52A-4FF4-886C-AB8885F60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7A4BC-4597-4B4F-AAF2-3631BC1FF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46FF2-A146-4B86-AA42-172BFB4E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EF4AB5-1FDD-4C8C-A354-1CC2FE06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6EA8C-42B3-42A8-9815-9AD29740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39333-9878-4B0D-84FD-EB38C36C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6923E-4C11-47D2-A86D-C65CDB88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0EE74-65DE-4658-8066-EDCD74B0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BEC9-29C7-4202-9827-29762AC6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3A867-B7B4-4C31-9741-D3A50E4A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8F251-D24B-413A-8AC5-E58B27E9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290E6-2F5B-4989-B04C-F37693EA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6880D-668B-4ED3-8695-C1A0385E0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BF64D-2282-4F58-925E-0D6D71B22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D10E-B4C5-45B4-86B8-32CA8E1E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87DC-24EE-4DA0-AD9C-F479CF30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50EC-BF26-4A22-8FEE-59C54E8C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3EFC-23B1-419B-9B53-96EFFDA7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6C7F-A444-47B5-B28B-EDDC81E9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8921-84D5-4D2C-80C9-5187B667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A7B6-4491-4C55-B430-C181BA29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973F-E4BA-4101-BCCD-01839EC00EC7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1AB9-A170-48D9-A7E1-2FBEA93CD23B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2421000"/>
            <a:ext cx="770256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cología de Poblaciones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rategias de sobreviven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fesora: Matilde López 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yudante: Maria Fernanda Hurtado Ro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89000"/>
            <a:ext cx="460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Universidad de Ch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Facultad de Cs. Físicas y Matemát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CI-56 C. Seminario Fundamentos de Ecolog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isten individuos que se reproducen rápidamente y viven poco mientras que otros persisten porque los individuos son más longevos, aunque se reproducen meno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s estrategias r y K (r por tasa de crecimiento y K por la asíntota de la curva) tienen relación con la capacidad de persistir que tiene una especi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trategias de sobrevivenc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trategias de sobrevivenc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Estrategia 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ta tasa de natal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reproducen a temprana edad y llegan a la madurez rápida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ervivencia ba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maño pequeñ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to metabolis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trategias de sobrevivenc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48392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Estrategia 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132000" y="2276640"/>
            <a:ext cx="31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isa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Mugil cephalu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042920" y="2997360"/>
            <a:ext cx="3600360" cy="266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076720" y="2997360"/>
            <a:ext cx="33339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03184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042920" y="4724280"/>
            <a:ext cx="3097440" cy="1873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044720" y="2637000"/>
            <a:ext cx="3095640" cy="1871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trategias de sobrevivencia</a:t>
            </a:r>
            <a:br>
              <a:rPr sz="4000"/>
            </a:br>
            <a:br>
              <a:rPr sz="4000"/>
            </a:b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Estrategia r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971640" y="213372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Chinche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“Cimex lectularius”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48360" y="2133720"/>
            <a:ext cx="338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ino insigne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“Pinus radiata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932360" y="4724280"/>
            <a:ext cx="3311640" cy="1873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4932360" y="2637000"/>
            <a:ext cx="3311640" cy="19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Estrategia 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ja tasa de natal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reproducen en etapas más avanzadas de su ciclo de vi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ta supervive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yor tamañ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tabolismo l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dominio competencia intraespecíf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trategias de sobrevivenc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trategias de sobrevivenc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Estrategia 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Ballena jorobada </a:t>
            </a:r>
            <a:r>
              <a:rPr b="1" i="1" lang="es-ES_tradnl" sz="1800" spc="-1" strike="noStrike">
                <a:solidFill>
                  <a:srgbClr val="ffffff"/>
                </a:solidFill>
                <a:latin typeface="Tahoma"/>
              </a:rPr>
              <a:t>“Megaptera novaeangliae</a:t>
            </a:r>
            <a:r>
              <a:rPr b="0" i="1" lang="es-ES_tradnl" sz="1800" spc="-1" strike="noStrike">
                <a:solidFill>
                  <a:srgbClr val="ffffff"/>
                </a:solidFill>
                <a:latin typeface="Tahoma"/>
              </a:rPr>
              <a:t> “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52560" y="2914560"/>
            <a:ext cx="3473280" cy="2552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003640" y="2914560"/>
            <a:ext cx="30243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trategias de sobrevivencia</a:t>
            </a:r>
            <a:br>
              <a:rPr sz="3600"/>
            </a:br>
            <a:br>
              <a:rPr sz="3600"/>
            </a:b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Estrategia K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116000" y="2782800"/>
            <a:ext cx="2448000" cy="1636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116000" y="4508640"/>
            <a:ext cx="2448000" cy="1873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5364000" y="2782800"/>
            <a:ext cx="2449800" cy="1701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5364000" y="4508640"/>
            <a:ext cx="2448000" cy="1873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55640" y="213372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Queule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“Gomortega keule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2060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uma chileno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“Felis concolor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7:47:32Z</dcterms:created>
  <dc:creator>Usuario</dc:creator>
  <dc:description/>
  <dc:language>en-US</dc:language>
  <cp:lastModifiedBy>ALUMNO</cp:lastModifiedBy>
  <dcterms:modified xsi:type="dcterms:W3CDTF">2008-04-10T22:14:05Z</dcterms:modified>
  <cp:revision>9</cp:revision>
  <dc:subject/>
  <dc:title>Ecología de Poblaciones</dc:title>
</cp:coreProperties>
</file>