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2DA-D69C-4A66-A51B-22E2A65F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40F-D1BC-486E-BADE-06F39161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464-8692-488F-BB0C-8281E8C8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13C-BBEE-49EB-B513-2C81E58A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54D-07CA-4BDF-9D79-8CA02CA3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34B-4E4E-4C9E-86C6-D2096B1B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BC6-A6B2-497F-A380-695C946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D6D-6A50-4A1F-9823-0928BA9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45B-44F0-4653-8E7C-3C468EDB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DA4-A9E4-4DBC-8B61-A16F2A8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6C9-3C67-4143-88C8-E031A8CF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9E5-1DB2-4022-B706-144CAC47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CD20-1B8E-4DBE-B186-573DF377DB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apacidad%20Calles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0" y="8380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y Estim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8108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s y métodos de 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Veh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d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s de Capacidad en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000" y="4572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l Flujo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sólo a intersecciones semafor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ceso real se idealiza, definiéndose un diagrama binario que considera tre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62120" y="2133720"/>
            <a:ext cx="5409720" cy="3006360"/>
            <a:chOff x="762120" y="2133720"/>
            <a:chExt cx="5409720" cy="3006360"/>
          </a:xfrm>
        </p:grpSpPr>
        <p:sp>
          <p:nvSpPr>
            <p:cNvPr id="286" name=""/>
            <p:cNvSpPr/>
            <p:nvPr/>
          </p:nvSpPr>
          <p:spPr>
            <a:xfrm flipV="1">
              <a:off x="1720800" y="2356200"/>
              <a:ext cx="0" cy="20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20800" y="4360680"/>
              <a:ext cx="40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09680" y="2133720"/>
              <a:ext cx="2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98240" y="41382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05520" y="2857320"/>
              <a:ext cx="1711800" cy="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515600" y="2689920"/>
              <a:ext cx="1278000" cy="1669320"/>
              <a:chOff x="1515600" y="2689920"/>
              <a:chExt cx="1278000" cy="1669320"/>
            </a:xfrm>
          </p:grpSpPr>
          <p:sp>
            <p:nvSpPr>
              <p:cNvPr id="292" name=""/>
              <p:cNvSpPr/>
              <p:nvPr/>
            </p:nvSpPr>
            <p:spPr>
              <a:xfrm flipV="1">
                <a:off x="1515600" y="2689560"/>
                <a:ext cx="68400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 rot="10517400">
                <a:off x="2193120" y="2853360"/>
                <a:ext cx="546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695400" y="2689920"/>
              <a:ext cx="1277280" cy="1669320"/>
              <a:chOff x="3695400" y="2689920"/>
              <a:chExt cx="1277280" cy="1669320"/>
            </a:xfrm>
          </p:grpSpPr>
          <p:sp>
            <p:nvSpPr>
              <p:cNvPr id="295" name=""/>
              <p:cNvSpPr/>
              <p:nvPr/>
            </p:nvSpPr>
            <p:spPr>
              <a:xfrm flipH="1" flipV="1">
                <a:off x="4289400" y="2689560"/>
                <a:ext cx="68328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 rot="11082600">
                <a:off x="3749400" y="2853720"/>
                <a:ext cx="546480" cy="133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rot="16075200">
              <a:off x="2046240" y="4226040"/>
              <a:ext cx="167040" cy="5475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4040 h 547560"/>
                <a:gd name="textAreaBottom" fmla="*/ 533520 h 5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075200">
              <a:off x="4205160" y="4260240"/>
              <a:ext cx="167040" cy="4791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2240 h 479160"/>
                <a:gd name="textAreaBottom" fmla="*/ 4669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191000">
              <a:off x="3124440" y="3695040"/>
              <a:ext cx="201600" cy="1642320"/>
            </a:xfrm>
            <a:custGeom>
              <a:avLst/>
              <a:gdLst>
                <a:gd name="textAreaLeft" fmla="*/ 128880 w 201600"/>
                <a:gd name="textAreaRight" fmla="*/ 201960 w 201600"/>
                <a:gd name="textAreaTop" fmla="*/ 42840 h 1642320"/>
                <a:gd name="textAreaBottom" fmla="*/ 159948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23120" y="4692600"/>
              <a:ext cx="41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21840" y="469260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86080" y="46926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0552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4928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583640" y="2857320"/>
              <a:ext cx="7531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67320" y="263556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6000" y="4917600"/>
              <a:ext cx="2602080" cy="222480"/>
            </a:xfrm>
            <a:prstGeom prst="rect">
              <a:avLst/>
            </a:pr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49280" y="4917600"/>
              <a:ext cx="342000" cy="222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91640" y="4917600"/>
              <a:ext cx="130104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120" y="4912920"/>
              <a:ext cx="116388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28600" y="556272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servar vehículos por pista, durante tres interva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rimeros 10 s o 6 a 7 vehículos (transición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o del período de verde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SATU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arillo más el r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ólo Vehículos que estuvieron en 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1"/>
          </p:cNvPr>
          <p:cNvSpPr/>
          <p:nvPr/>
        </p:nvSpPr>
        <p:spPr>
          <a:xfrm>
            <a:off x="4724280" y="468360"/>
            <a:ext cx="395280" cy="468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68360"/>
              <a:gd name="textAreaBottom" fmla="*/ 442800 h 468360"/>
            </a:gdLst>
            <a:ahLst/>
            <a:rect l="textAreaLeft" t="textAreaTop" r="textAreaRight" b="textAreaBottom"/>
            <a:pathLst>
              <a:path w="21600" h="25590">
                <a:moveTo>
                  <a:pt x="0" y="0"/>
                </a:moveTo>
                <a:lnTo>
                  <a:pt x="21600" y="0"/>
                </a:lnTo>
                <a:lnTo>
                  <a:pt x="21600" y="25590"/>
                </a:lnTo>
                <a:lnTo>
                  <a:pt x="0" y="25590"/>
                </a:lnTo>
                <a:close/>
              </a:path>
              <a:path fill="lightenLess" w="21600" h="255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90">
                <a:moveTo>
                  <a:pt x="21600" y="0"/>
                </a:moveTo>
                <a:lnTo>
                  <a:pt x="21600" y="25590"/>
                </a:lnTo>
                <a:lnTo>
                  <a:pt x="20200" y="24190"/>
                </a:lnTo>
                <a:lnTo>
                  <a:pt x="20200" y="1400"/>
                </a:lnTo>
                <a:close/>
              </a:path>
              <a:path fill="darkenLess" w="21600" h="25590">
                <a:moveTo>
                  <a:pt x="21600" y="25590"/>
                </a:moveTo>
                <a:lnTo>
                  <a:pt x="0" y="25590"/>
                </a:lnTo>
                <a:lnTo>
                  <a:pt x="1400" y="24190"/>
                </a:lnTo>
                <a:lnTo>
                  <a:pt x="20200" y="24190"/>
                </a:lnTo>
                <a:close/>
              </a:path>
              <a:path fill="lighten" w="21600" h="25590">
                <a:moveTo>
                  <a:pt x="0" y="255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90"/>
                </a:lnTo>
                <a:close/>
              </a:path>
              <a:path fill="darken" w="21600" h="25590">
                <a:moveTo>
                  <a:pt x="3794" y="5788"/>
                </a:moveTo>
                <a:lnTo>
                  <a:pt x="17806" y="12795"/>
                </a:lnTo>
                <a:lnTo>
                  <a:pt x="3794" y="1980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73720" y="468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8073"/>
                </a:moveTo>
                <a:lnTo>
                  <a:pt x="17806" y="15079"/>
                </a:lnTo>
                <a:lnTo>
                  <a:pt x="3794" y="2208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0080" y="468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8073"/>
                </a:moveTo>
                <a:lnTo>
                  <a:pt x="17806" y="15079"/>
                </a:lnTo>
                <a:lnTo>
                  <a:pt x="3794" y="2208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Regist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lativo del ciclo del semáf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primer intervalo (si tiempo &lt; 10 s o &lt; 6 ó 7 vehículos, no considerar observ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último intervalo (sólo si tiempo de saturación=tiempo de ver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saturado (intervalos 1 y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de verde (si es fijo, anotarlo 1 sola ve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362320" y="4267080"/>
                <a:ext cx="1714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304920" y="51814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: flujo de saturación (veh/hr-p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v: Número total de vehículos que cruza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s: duración total de la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: número de ciclos ob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60280" y="684360"/>
            <a:ext cx="5610240" cy="5400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3520" y="53352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ORMULARIO MEDI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LUJO SATURACION Y TIEMPOS DESAPROVECH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4280" y="6916680"/>
            <a:ext cx="109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63760" y="67788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6880" y="67788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988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758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266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6480" y="694692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91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89160" y="66420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480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0800" y="67788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3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4948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6080" y="6923160"/>
            <a:ext cx="12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26600" y="69231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1304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240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7315200"/>
            <a:ext cx="2210040" cy="6094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317600" y="8339040"/>
            <a:ext cx="247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7080" y="8477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04080" y="8210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97520" y="8364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84560" y="8097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40040" y="82216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1120" y="8201160"/>
            <a:ext cx="20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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g. (verde promed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83480" y="73915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saprovechado (s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4640" y="6719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r-pist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2120" y="82011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o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sección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precisión en tipo de vehículo (# ej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us de tres ejes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 con carro de arrastre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ecesidad de clasificación manual 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distinguen mov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continuas de larg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bicación espiras (mangueras, piezoeléctricos), ubicación errónea implicará s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ejes/h],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intersecciones (identifica mov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precisión en tipo de vehículo (depende del formulario utiliz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perió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talizar cada 15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observador cada 400 veh/h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upervisor de campo cada 15 medidores (capacitación de personal y bitácora de ca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533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828800"/>
            <a:ext cx="64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SIN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400" y="380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066680"/>
            <a:ext cx="6247800" cy="2286000"/>
            <a:chOff x="228600" y="1066680"/>
            <a:chExt cx="624780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228600" y="1066680"/>
              <a:ext cx="1092600" cy="380880"/>
              <a:chOff x="228600" y="1066680"/>
              <a:chExt cx="1092600" cy="380880"/>
            </a:xfrm>
          </p:grpSpPr>
          <p:sp>
            <p:nvSpPr>
              <p:cNvPr id="59" name=""/>
              <p:cNvSpPr/>
              <p:nvPr/>
            </p:nvSpPr>
            <p:spPr>
              <a:xfrm>
                <a:off x="285120" y="1066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" y="1066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321560" y="1066680"/>
              <a:ext cx="3679560" cy="380880"/>
              <a:chOff x="1321560" y="1066680"/>
              <a:chExt cx="367956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8440" y="1066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1560" y="1066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01480" y="1066680"/>
              <a:ext cx="690480" cy="380880"/>
              <a:chOff x="5001480" y="1066680"/>
              <a:chExt cx="69048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058360" y="1066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1480" y="1066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692680" y="1066680"/>
              <a:ext cx="783720" cy="380880"/>
              <a:chOff x="5692680" y="1066680"/>
              <a:chExt cx="78372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5749200" y="1066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92680" y="1066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28600" y="1447560"/>
              <a:ext cx="1092600" cy="380880"/>
              <a:chOff x="228600" y="1447560"/>
              <a:chExt cx="10926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85120" y="144756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" y="144756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321560" y="1447560"/>
              <a:ext cx="3679560" cy="380880"/>
              <a:chOff x="1321560" y="1447560"/>
              <a:chExt cx="367956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1378440" y="144756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1560" y="144756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001480" y="1447560"/>
              <a:ext cx="690480" cy="380880"/>
              <a:chOff x="5001480" y="1447560"/>
              <a:chExt cx="69048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5058360" y="144756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01480" y="144756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692680" y="1447560"/>
              <a:ext cx="783720" cy="380880"/>
              <a:chOff x="5692680" y="1447560"/>
              <a:chExt cx="783720" cy="380880"/>
            </a:xfrm>
          </p:grpSpPr>
          <p:sp>
            <p:nvSpPr>
              <p:cNvPr id="80" name=""/>
              <p:cNvSpPr/>
              <p:nvPr/>
            </p:nvSpPr>
            <p:spPr>
              <a:xfrm>
                <a:off x="5749200" y="144756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2680" y="144756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600" y="1828800"/>
              <a:ext cx="1092600" cy="380880"/>
              <a:chOff x="228600" y="1828800"/>
              <a:chExt cx="109260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285120" y="1828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600" y="1828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321560" y="1828800"/>
              <a:ext cx="3679560" cy="380880"/>
              <a:chOff x="1321560" y="1828800"/>
              <a:chExt cx="3679560" cy="380880"/>
            </a:xfrm>
          </p:grpSpPr>
          <p:sp>
            <p:nvSpPr>
              <p:cNvPr id="86" name=""/>
              <p:cNvSpPr/>
              <p:nvPr/>
            </p:nvSpPr>
            <p:spPr>
              <a:xfrm>
                <a:off x="1378440" y="1828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21560" y="1828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001480" y="1828800"/>
              <a:ext cx="690480" cy="380880"/>
              <a:chOff x="5001480" y="1828800"/>
              <a:chExt cx="690480" cy="380880"/>
            </a:xfrm>
          </p:grpSpPr>
          <p:sp>
            <p:nvSpPr>
              <p:cNvPr id="89" name=""/>
              <p:cNvSpPr/>
              <p:nvPr/>
            </p:nvSpPr>
            <p:spPr>
              <a:xfrm>
                <a:off x="505836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148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692680" y="1828800"/>
              <a:ext cx="783720" cy="380880"/>
              <a:chOff x="5692680" y="1828800"/>
              <a:chExt cx="7837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4920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9268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2209680"/>
              <a:ext cx="1092600" cy="380880"/>
              <a:chOff x="228600" y="2209680"/>
              <a:chExt cx="10926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285120" y="2209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2209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21560" y="2209680"/>
              <a:ext cx="3679560" cy="380880"/>
              <a:chOff x="1321560" y="2209680"/>
              <a:chExt cx="367956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8440" y="2209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21560" y="2209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001480" y="2209680"/>
              <a:ext cx="690480" cy="380880"/>
              <a:chOff x="5001480" y="2209680"/>
              <a:chExt cx="69048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505836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148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92680" y="2209680"/>
              <a:ext cx="783720" cy="380880"/>
              <a:chOff x="5692680" y="2209680"/>
              <a:chExt cx="7837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574920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9268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2590920"/>
              <a:ext cx="1092600" cy="380880"/>
              <a:chOff x="228600" y="2590920"/>
              <a:chExt cx="109260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285120" y="259092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600" y="259092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321560" y="2590920"/>
              <a:ext cx="3679560" cy="380880"/>
              <a:chOff x="1321560" y="2590920"/>
              <a:chExt cx="3679560" cy="38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1378440" y="259092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21560" y="259092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001480" y="2590920"/>
              <a:ext cx="690480" cy="380880"/>
              <a:chOff x="5001480" y="2590920"/>
              <a:chExt cx="6904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505836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148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92680" y="2590920"/>
              <a:ext cx="783720" cy="380880"/>
              <a:chOff x="5692680" y="2590920"/>
              <a:chExt cx="783720" cy="380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74920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9268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2971800"/>
              <a:ext cx="1092600" cy="380880"/>
              <a:chOff x="228600" y="2971800"/>
              <a:chExt cx="10926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85120" y="2971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2971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321560" y="2971800"/>
              <a:ext cx="3679560" cy="380880"/>
              <a:chOff x="1321560" y="2971800"/>
              <a:chExt cx="367956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1378440" y="2971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21560" y="2971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001480" y="2971800"/>
              <a:ext cx="690480" cy="380880"/>
              <a:chOff x="5001480" y="2971800"/>
              <a:chExt cx="690480" cy="38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05836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0148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92680" y="2971800"/>
              <a:ext cx="783720" cy="380880"/>
              <a:chOff x="5692680" y="2971800"/>
              <a:chExt cx="78372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574920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268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304920" y="64008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81360" y="3492360"/>
                <a:ext cx="14288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04920" y="4419720"/>
            <a:ext cx="60958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160" y="380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192640" y="5257800"/>
            <a:ext cx="1023480" cy="309600"/>
            <a:chOff x="5192640" y="5257800"/>
            <a:chExt cx="1023480" cy="309600"/>
          </a:xfrm>
        </p:grpSpPr>
        <p:sp>
          <p:nvSpPr>
            <p:cNvPr id="136" name=""/>
            <p:cNvSpPr/>
            <p:nvPr/>
          </p:nvSpPr>
          <p:spPr>
            <a:xfrm flipH="1">
              <a:off x="5192640" y="55292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040" y="52578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5040" y="53341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5412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91760" y="54914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91760" y="52578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532440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324400" y="54864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059280" y="5029200"/>
            <a:ext cx="1023480" cy="309600"/>
            <a:chOff x="3059280" y="5029200"/>
            <a:chExt cx="1023480" cy="309600"/>
          </a:xfrm>
        </p:grpSpPr>
        <p:sp>
          <p:nvSpPr>
            <p:cNvPr id="146" name=""/>
            <p:cNvSpPr/>
            <p:nvPr/>
          </p:nvSpPr>
          <p:spPr>
            <a:xfrm flipH="1">
              <a:off x="3059280" y="53006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9680" y="50292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1680" y="51055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076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8400" y="52628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758400" y="50292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91040" y="50292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19104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49240" y="5181480"/>
            <a:ext cx="1023480" cy="309600"/>
            <a:chOff x="849240" y="5181480"/>
            <a:chExt cx="1023480" cy="309600"/>
          </a:xfrm>
        </p:grpSpPr>
        <p:sp>
          <p:nvSpPr>
            <p:cNvPr id="156" name=""/>
            <p:cNvSpPr/>
            <p:nvPr/>
          </p:nvSpPr>
          <p:spPr>
            <a:xfrm flipH="1">
              <a:off x="849240" y="5452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9640" y="5181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1640" y="5257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100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1072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8360" y="5415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548360" y="5181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981000" y="5181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981000" y="5410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83808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tantánea (rad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rcial o de viaje (método patentes o vehículo flo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rrido o en movimiento (segui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km/h], [m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120" y="4038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8769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7913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160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188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400800"/>
            <a:ext cx="3210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9680" y="6415200"/>
            <a:ext cx="2875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9280" y="6019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92640" y="1752480"/>
            <a:ext cx="1023480" cy="309600"/>
            <a:chOff x="5192640" y="1752480"/>
            <a:chExt cx="1023480" cy="309600"/>
          </a:xfrm>
        </p:grpSpPr>
        <p:sp>
          <p:nvSpPr>
            <p:cNvPr id="177" name=""/>
            <p:cNvSpPr/>
            <p:nvPr/>
          </p:nvSpPr>
          <p:spPr>
            <a:xfrm flipH="1">
              <a:off x="5192640" y="2023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3040" y="1752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05040" y="1828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412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91760" y="1986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891760" y="1752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32440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324400" y="1981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059280" y="1523880"/>
            <a:ext cx="1023480" cy="309600"/>
            <a:chOff x="3059280" y="1523880"/>
            <a:chExt cx="1023480" cy="309600"/>
          </a:xfrm>
        </p:grpSpPr>
        <p:sp>
          <p:nvSpPr>
            <p:cNvPr id="187" name=""/>
            <p:cNvSpPr/>
            <p:nvPr/>
          </p:nvSpPr>
          <p:spPr>
            <a:xfrm flipH="1">
              <a:off x="3059280" y="17953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9680" y="15238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1680" y="16002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9104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076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8400" y="17575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758400" y="15238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91040" y="15238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19104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49240" y="1676520"/>
            <a:ext cx="1023480" cy="309600"/>
            <a:chOff x="849240" y="1676520"/>
            <a:chExt cx="1023480" cy="309600"/>
          </a:xfrm>
        </p:grpSpPr>
        <p:sp>
          <p:nvSpPr>
            <p:cNvPr id="197" name=""/>
            <p:cNvSpPr/>
            <p:nvPr/>
          </p:nvSpPr>
          <p:spPr>
            <a:xfrm flipH="1">
              <a:off x="849240" y="194796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9640" y="167652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1640" y="175284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8100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072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360" y="191016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548360" y="167652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981000" y="16765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81000" y="19051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1800" y="609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3716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160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188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2160" y="2743200"/>
            <a:ext cx="332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 flujo veh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cronización de relo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29280" y="2514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1880" y="3962520"/>
            <a:ext cx="24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eo de Pa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g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47640" y="5715000"/>
                <a:ext cx="5518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tempor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'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1680" y="7189920"/>
                <a:ext cx="5676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espaci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2520" y="54100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¿Qué Veloc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9720" y="5114880"/>
            <a:ext cx="503280" cy="6094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155">
                <a:moveTo>
                  <a:pt x="0" y="0"/>
                </a:moveTo>
                <a:lnTo>
                  <a:pt x="21600" y="0"/>
                </a:lnTo>
                <a:lnTo>
                  <a:pt x="21600" y="26155"/>
                </a:lnTo>
                <a:lnTo>
                  <a:pt x="0" y="26155"/>
                </a:lnTo>
                <a:close/>
              </a:path>
              <a:path fill="lightenLess" w="21600" h="261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55">
                <a:moveTo>
                  <a:pt x="21600" y="0"/>
                </a:moveTo>
                <a:lnTo>
                  <a:pt x="21600" y="26155"/>
                </a:lnTo>
                <a:lnTo>
                  <a:pt x="20200" y="24755"/>
                </a:lnTo>
                <a:lnTo>
                  <a:pt x="20200" y="1400"/>
                </a:lnTo>
                <a:close/>
              </a:path>
              <a:path fill="darkenLess" w="21600" h="26155">
                <a:moveTo>
                  <a:pt x="21600" y="26155"/>
                </a:moveTo>
                <a:lnTo>
                  <a:pt x="0" y="26155"/>
                </a:lnTo>
                <a:lnTo>
                  <a:pt x="1400" y="24755"/>
                </a:lnTo>
                <a:lnTo>
                  <a:pt x="20200" y="24755"/>
                </a:lnTo>
                <a:close/>
              </a:path>
              <a:path fill="lighten" w="21600" h="26155">
                <a:moveTo>
                  <a:pt x="0" y="261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55"/>
                </a:lnTo>
                <a:close/>
              </a:path>
              <a:path fill="darken" w="21600" h="26155">
                <a:moveTo>
                  <a:pt x="3794" y="6071"/>
                </a:moveTo>
                <a:lnTo>
                  <a:pt x="17806" y="13077"/>
                </a:lnTo>
                <a:lnTo>
                  <a:pt x="3794" y="200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997360" y="1692360"/>
            <a:ext cx="1023480" cy="309600"/>
            <a:chOff x="2997360" y="1692360"/>
            <a:chExt cx="1023480" cy="309600"/>
          </a:xfrm>
        </p:grpSpPr>
        <p:sp>
          <p:nvSpPr>
            <p:cNvPr id="221" name=""/>
            <p:cNvSpPr/>
            <p:nvPr/>
          </p:nvSpPr>
          <p:spPr>
            <a:xfrm flipH="1">
              <a:off x="2997360" y="196380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7760" y="169236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09760" y="176868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912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5884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96480" y="192600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696480" y="169236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129120" y="16923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129120" y="19209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773360" y="1692360"/>
            <a:ext cx="1023480" cy="309600"/>
            <a:chOff x="1773360" y="1692360"/>
            <a:chExt cx="1023480" cy="309600"/>
          </a:xfrm>
        </p:grpSpPr>
        <p:sp>
          <p:nvSpPr>
            <p:cNvPr id="231" name=""/>
            <p:cNvSpPr/>
            <p:nvPr/>
          </p:nvSpPr>
          <p:spPr>
            <a:xfrm flipH="1">
              <a:off x="1773360" y="196380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23760" y="169236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85760" y="176868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484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72480" y="192600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472480" y="169236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05120" y="16923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19209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6280" y="1692360"/>
            <a:ext cx="1023480" cy="309600"/>
            <a:chOff x="476280" y="1692360"/>
            <a:chExt cx="1023480" cy="309600"/>
          </a:xfrm>
        </p:grpSpPr>
        <p:sp>
          <p:nvSpPr>
            <p:cNvPr id="241" name=""/>
            <p:cNvSpPr/>
            <p:nvPr/>
          </p:nvSpPr>
          <p:spPr>
            <a:xfrm flipH="1">
              <a:off x="476280" y="196380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6680" y="169236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8680" y="176868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04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3776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75400" y="192600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175400" y="169236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608040" y="16923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08040" y="19209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-2520" y="609480"/>
            <a:ext cx="41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Longitud de C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3716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2860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08640" y="1332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640" y="900000"/>
            <a:ext cx="180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4680" y="2743200"/>
            <a:ext cx="267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se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dero de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ellos de bo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360" y="248436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29280" y="2514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1800" y="541008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Tipo de Me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076640" y="1692360"/>
            <a:ext cx="1023480" cy="309600"/>
            <a:chOff x="4076640" y="1692360"/>
            <a:chExt cx="1023480" cy="309600"/>
          </a:xfrm>
        </p:grpSpPr>
        <p:sp>
          <p:nvSpPr>
            <p:cNvPr id="260" name=""/>
            <p:cNvSpPr/>
            <p:nvPr/>
          </p:nvSpPr>
          <p:spPr>
            <a:xfrm flipH="1">
              <a:off x="4076640" y="196380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7040" y="169236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89040" y="176868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0840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812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75760" y="192600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775760" y="169236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208400" y="16923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208400" y="19209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57720" y="1692360"/>
            <a:ext cx="1023480" cy="309600"/>
            <a:chOff x="5157720" y="1692360"/>
            <a:chExt cx="1023480" cy="309600"/>
          </a:xfrm>
        </p:grpSpPr>
        <p:sp>
          <p:nvSpPr>
            <p:cNvPr id="270" name=""/>
            <p:cNvSpPr/>
            <p:nvPr/>
          </p:nvSpPr>
          <p:spPr>
            <a:xfrm flipH="1">
              <a:off x="5157720" y="196380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08120" y="169236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70120" y="176868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8948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9200" y="169236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6840" y="192600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856840" y="169236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5289480" y="16923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289480" y="192096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68360" y="4067280"/>
            <a:ext cx="41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cador primario del N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dicador “visual” de con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librar modelos de trá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3320" y="5867280"/>
            <a:ext cx="5984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secciones Semafor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la máxima (nº promedio de vehículos en c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icio del verde efec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la excedente (nº promedio de vehículos en c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final del verde ef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mide en cada ciclo de semáforo y promediar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íodo de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76280" y="539640"/>
            <a:ext cx="53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secciones no Semafor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la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r por p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r en vehícul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r composición de c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% veh. Livianos, pesados, etc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21:36:40Z</dcterms:created>
  <dc:creator>EVF-RFA</dc:creator>
  <dc:description/>
  <dc:language>en-US</dc:language>
  <cp:lastModifiedBy>Alejandro Aldea</cp:lastModifiedBy>
  <dcterms:modified xsi:type="dcterms:W3CDTF">2008-03-31T15:30:03Z</dcterms:modified>
  <cp:revision>23</cp:revision>
  <dc:subject/>
  <dc:title>Gestión de Tránsito</dc:title>
</cp:coreProperties>
</file>