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ECD0-F528-4BCD-96FE-D87A768B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20C5-51E1-432B-95DE-03B6F2D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E543-3873-468E-92D9-D2FA0A77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D762-CA47-4424-8D4E-5448139D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C197-06FC-4ABD-9229-799EDA9C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CA92-A91C-449D-977F-1F04295F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1F8D-1CC8-4C32-92CD-6A3F9C2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7163-87E6-4EAC-AE24-FF99EC92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507-D155-484C-AADB-7F80692B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85E-56DC-4F12-9773-85CE6105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6C61-EC96-4342-94F8-BDE8504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6A12-7CA0-456E-946D-501F4DCC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8164-EDB1-4D10-A011-DC2CD91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19C-2030-4F62-875B-3001AE0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87D-5960-4A81-9323-E55F2FA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BA7-A78D-4EC0-B0D7-425888DE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259-0C6F-48C7-83F8-D7D391A3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0B08-33AD-4223-B89F-5AEF84F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3F24-2608-4882-B361-9C9BA19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5A40-BA1D-4F9E-8AFF-AE01D2D0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1561-50DA-4822-8CB6-E7414AB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5D2A-0C5B-447D-968A-3E5232EF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507D-E66C-444D-8120-7A39154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D9D8-FA46-4984-9458-927026C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6EC-3B77-49A9-9D70-45B672CE2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F5B-7659-424A-9ED4-82D84A665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ocas Igne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52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cánica de Rocas en Obras de 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gio Sepúlveda 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3051360" cy="5030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54975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eorización en Rocas Intrusiv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meteorización de rocas plutónicas puede generar perfiles de suelo residual de gran profund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cas básicas (diorita, gabro, monzonitas, etc.) tienden a generar suelos arcillosos compresibles, mientras rocas graníticas tienden a generar suelos arenosos con arcilla y lim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038560" cy="630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0360" y="2602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conductividad hidráulica del perfil de suelo es altamente variable, siendo usualmente  mayor en la zona de meteorización act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2511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 proceso común en rocas plutónicas es el de meteorización o descomposición  esferoidal. Los bloques de roca se meteorizan por la acción del agua a partir de las fracturas y sus intersecciones, siendo posteriormente exfoliados por procesos químic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32000" y="3162240"/>
            <a:ext cx="4896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piedades Ingenieriles d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cas Plutónic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r ser en general cuerpos irregulares, la definición de sus límites es parte importante en fases de explor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ición de perfiles de meteorización puede ser lo más complicad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deras meteorizadas pueden contener bloques que pueden desestabilizarse con lluvias o sismos, generando rodados. Igualmente pueden generar deslizamientos y aluvion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udes con exfoliación pueden generar deslizamientos de planchones de roca. Taludes con disyunción columnar pueden generar caídas de bloques por desprendimiento de parte de las column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general son rocas de alta resistencia en estado fresco, que necesitan de tronadura. El fracturamiento puede dificultar la tronadura según el diseño, al tender seguir las discontinuidad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roca meteorizada la excavación puede ser dificultada por núcleos más resist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roca fresca buen material para fundaciones, pero en roca meteorizada o con presencia de diques la variabilidad de propiedades y presencia de arcillas puede inducir asentamientos diferencia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 presas fundadas en rocas plutónicas, se debe tener cuidado de limpiar y sellar fracturas rellenas con material residual erodable. Vertederos de presas (spillways) pueden sufrir erosión o desprendimiento de bloqu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08360" cy="306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51280" y="3498840"/>
            <a:ext cx="49687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jo unos 60 m, la meteorización y fracturamiento se reducen al mínimo, favoreciendo la construcción de obras subterráneas, incluso sin requerimiento de sopor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zonas de altos esfuerzos se puede producir fracturamiento de las paredes similar a la exfoliación, requiriendo de sostenimient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excavaciones de rocas más blandas (ej. Sedimentarias), el encuentro con diques pueden generar problemas ya que pueden ser contenedores do bolsones de agua, además de su mayor resist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Volcá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mbién llamadas rocas ígneas extrusivas. Son las que se forman cuando el magma llega a la superficie terrest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eden ser subaéreas o subacuát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rial expulsado tiene fases líquida, sólida y gaseosa. A la fase líquida se le llama lav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 tipos de roca: Lavas, formadas por enfriamiento de coladas de lava (con sólidos incorporados); y Rocas Piroclásticas, formadas por material expulsado al aire y que cae posteriormente. Este material puede ser sólido o líquido que se enfría antes de caer, e incluye a las ceniz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733320"/>
            <a:ext cx="7400880" cy="5000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9640" y="5805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quema simplificado de un Volcán: a) cono; b) cráter; c) colada de lava; d) materiales piroclásticos; e) chimen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Ign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das a partir de un magm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dividen en rocas plutónicas o intrusivas, y rocas volcán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Piroclást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uestas de trozos de roca y fragmentos de minerales en estado sólido previo a la erupción, además de material líquido rápidamente solidificado (vidrio), generalmente en forma de ceniza y pómez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gmentos mayores semisólidos pueden ser expulsados y redondeado por su giro en el aire, llamados bomb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muchos casos, el material piroclástico es poroso. En el caso de la pómez, su densidad es menor a la del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terial Piroclástico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1622520"/>
            <a:ext cx="2276280" cy="166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592360" cy="181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2565360"/>
            <a:ext cx="2987640" cy="185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3440" y="32781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om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57360" y="1949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apil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46760" y="43974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eni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58374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óm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42640" y="61261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óm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219640" y="644400"/>
            <a:ext cx="2592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Piroclást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 textura similares a las rocas sedimentarias, con una matriz más finas y trozos mayores incorpor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clastos sobre 64 mm (bloques y bombas) la roca se llama brecha volcánica (con bloques) o aglomerado (con bomba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cas con tamaño ceniza y lapilli (2-64mm) fundamentalmente, la roca recibe el nombre de “toba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Piroclást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03640" y="4292640"/>
            <a:ext cx="3024360" cy="1965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650880"/>
            <a:ext cx="316692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2730240" cy="1960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7760" y="281304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glom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63120" y="43974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32200" y="626904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cas formadas por flujos o coladas que se enfrían. Pueden ser bastante porosas por “burbujas” dejadas por gases incorporados. Sus propiedades dependen fundamentalmente de su composición química (% de síli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4005360"/>
            <a:ext cx="6743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izos rocosos volcán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bido a su formación episódica (erupciones) e irregular distribución de los depósitos, los macizos de roca volcánica suelen ser heterogéneos. Es común encontrar sucesiones de lavas, rocas piroclásticas e intercalaciones sedimentaria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gualmente, dentro de una misma colada de lava, por ejemplo, la roca tiene un tipo de fracturamiento y propiedades distintas (porosidad, disyunción columnar, oxidación, etc.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 meteorización depende de composición química (al igual que rocas intrusivas). En rocas jóvenes, suelen estar frescas. Además, protege de meteorización y erosión a suelos y rocas que quedan cubiertas por las coladas o fluj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piedades Ingenieril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 Rocas Volcánic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istencia puede ser vari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onas de alta permeabi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elen estar estratificadas, pero sus límites laterales y variaciones de profundidad deben ser preci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vas suelen ser duras y de mejor resistencia, pero sobre estratos piroclásticos o sedimentarios pueden deslizar y/o hundir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mente presentan alto grado de fracturamiento, requiriendo soporte (malla, pernos, shotcret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excavaciones subterráneas, es posible encontrar grandes flujos de agua por fracturas o acumulada entre capas impermeables (en general tobas, mientras las lavas son más permeables por su fracturamient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zonas volcánicas activas, excavaciones son amenazadas por acumulaciones de ga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cas y depósitos piroclásticos pueden ser altamente compresibles y de baja resistencia, requieren de estudios detallados paras ser usadas como suelo de fundación de presas o grandes estructur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cas Igneas Plutó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rocas intrusivas se forman bajo la superficie, por enfriamiento lento del mag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rocas intrusivas forman grandes cuerpos de roca formados a gran profundidad (“plutones”) o bien cuerpos menores asociados a fracturas por donde asciende el magma (filones, diques, etc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 caracterizan por tener cristales bien formados, debido al proceso lento de enfriamient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2004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269280" y="5157720"/>
            <a:ext cx="96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uerpos de roca intrusiva: a) Batolito; b) Lacolito;: c) Diques; d) Filones Ma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ificación de Rocas Plutó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210280" cy="476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30800" y="15177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Cu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62640" y="62308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agioc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03760" y="630864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eldespato alcal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0880" y="1925640"/>
            <a:ext cx="239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1, 2, 3: granito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4: granodior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5: tonal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6, 7: sieni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8, 9: monzoni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10: diorita y gab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cturamiento e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ocas Intrusiv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su proceso de formación, las rocas intrusivas suelen ser masivas (no estratificadas) y relativamente isótropas, de alta resistencia. Su comportamiento geotécnico está entonces controlado fundamentalmente por su tipo de fracturamiento y grado de meteor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amiento por Exfoliació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rocas graníticas, es de particular importancia el fracturamiento tipo exfoliación (“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eet joint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 en la formación de fracturas relativamente paralelas a la topografía, formando capas de pocos centímetros de espesor cerca de la superficie, las que se engruesan en profundidad (tipo telas de ceboll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mbién se puede encontrar en areniscas masiv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capas producen inestabilidad por “planchones” en laderas. Con el tiempo, la morfología de los cerros es redondeada (dom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94120" cy="292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3956040"/>
            <a:ext cx="3889440" cy="2589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10040" y="443700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n de Azúcar, Río de Janei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07400" y="626904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lf Dome, Yosemite,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22482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yunción Column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cuerpos intrusivos cercanos la superficie (enfriamiento más rápido), también se da en rocas volcánicas. Más común en rocas de composición basáltica (diorita, gabr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ación de columnas por formación de fracturas de extensión normales a las isotermas durante el enfria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37:41Z</dcterms:created>
  <dc:creator>Sergio Sepulveda</dc:creator>
  <dc:description/>
  <dc:language>en-US</dc:language>
  <cp:lastModifiedBy>Sergio Sepulveda</cp:lastModifiedBy>
  <dcterms:modified xsi:type="dcterms:W3CDTF">2008-03-24T18:29:36Z</dcterms:modified>
  <cp:revision>14</cp:revision>
  <dc:subject/>
  <dc:title>Rocas Igneas Plutónicas</dc:title>
</cp:coreProperties>
</file>